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E928-7373-4D62-904E-9FF5CAF95A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0D49-94E4-41FF-9CB8-6F47A87F3D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6600-3324-4225-ACEA-A6B27A5D89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EEBB-694F-415A-AECA-12CA067F94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914-351D-4594-9FF2-B6DF373814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8561-1F3C-48E5-8AA5-AECD035FB1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C1D6-1564-4334-9FC4-4E46D607B7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E576-BE46-4A05-B7D2-0A7E2D9695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487F-A4ED-4B86-B901-C0B2B83D48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9AB7-9C8D-4341-B411-F3BAADACE4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4527-8DE3-43B2-8842-CB31DE5CDE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589-62DA-46F1-95D1-3C643DCE38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9263-DACD-4FE3-B992-F3D96EB009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D7A3-F6C8-4871-B5B2-34A93594C8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13D7-495A-4802-B438-24DF24E476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46D3-F8C1-420E-A7BF-9642E92056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72C2-6D79-4CDE-B9A1-4AF3955D6C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E756-F485-4118-89F5-25F98E82D6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15D-2008-4160-9574-9BAC592603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67C-9FC9-4A4C-A261-874F25F12F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6137-2A09-48C3-824A-CFD3711259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5BF3-2C6A-40DC-B06D-3A056F73CB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3F3-7364-4E3E-A48A-8DDC294D0B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5AB8-6D05-45C2-BEDB-7A73786495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E903-AA2C-4E2F-BC97-50BA6085EF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399-ED53-4EB1-BE89-C238023A22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C97-C71D-4651-805D-A9507EE0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82E-A808-4A9A-BBA3-E44F876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D79-D053-4FCD-83E5-9543E9BF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89C-11E7-4422-A743-9D9A9C0D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142-645E-4D07-83FF-11812EA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0CA-070E-45B0-9D02-DEA4477D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2E8-0181-44A7-9F30-689344B8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58F-2AD6-4179-B944-9BC07282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B4F-BC58-4915-A31B-FBC2AE2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030-B8AA-486B-A302-7E847DC8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6AC-A9EE-4AEC-B86C-2394188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61F-6D5F-4A6B-AA80-82FE85E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E55D-BB24-4CAC-9BE4-954212D0C12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FEE2-538C-4CAA-99A1-0DA6271AF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1 ET 1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9"/>
              <p:cNvSpPr txBox="1"/>
              <p:nvPr/>
            </p:nvSpPr>
            <p:spPr>
              <a:xfrm>
                <a:off x="179280" y="2444760"/>
                <a:ext cx="41306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9"/>
              <p:cNvSpPr txBox="1"/>
              <p:nvPr/>
            </p:nvSpPr>
            <p:spPr>
              <a:xfrm>
                <a:off x="4859280" y="2444760"/>
                <a:ext cx="41324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9"/>
              <p:cNvSpPr txBox="1"/>
              <p:nvPr/>
            </p:nvSpPr>
            <p:spPr>
              <a:xfrm>
                <a:off x="250920" y="2198520"/>
                <a:ext cx="407484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9"/>
              <p:cNvSpPr txBox="1"/>
              <p:nvPr/>
            </p:nvSpPr>
            <p:spPr>
              <a:xfrm>
                <a:off x="4859280" y="2205000"/>
                <a:ext cx="407520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9"/>
              <p:cNvSpPr txBox="1"/>
              <p:nvPr/>
            </p:nvSpPr>
            <p:spPr>
              <a:xfrm>
                <a:off x="628560" y="24861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9"/>
              <p:cNvSpPr txBox="1"/>
              <p:nvPr/>
            </p:nvSpPr>
            <p:spPr>
              <a:xfrm>
                <a:off x="5189400" y="24861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9"/>
              <p:cNvSpPr txBox="1"/>
              <p:nvPr/>
            </p:nvSpPr>
            <p:spPr>
              <a:xfrm>
                <a:off x="250920" y="2198520"/>
                <a:ext cx="407484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9"/>
              <p:cNvSpPr txBox="1"/>
              <p:nvPr/>
            </p:nvSpPr>
            <p:spPr>
              <a:xfrm>
                <a:off x="4813200" y="2205000"/>
                <a:ext cx="416556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9"/>
              <p:cNvSpPr txBox="1"/>
              <p:nvPr/>
            </p:nvSpPr>
            <p:spPr>
              <a:xfrm>
                <a:off x="5288040" y="1913040"/>
                <a:ext cx="333684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9"/>
              <p:cNvSpPr txBox="1"/>
              <p:nvPr/>
            </p:nvSpPr>
            <p:spPr>
              <a:xfrm>
                <a:off x="777960" y="1909800"/>
                <a:ext cx="32446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9"/>
              <p:cNvSpPr txBox="1"/>
              <p:nvPr/>
            </p:nvSpPr>
            <p:spPr>
              <a:xfrm>
                <a:off x="1087560" y="3608280"/>
                <a:ext cx="2260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9"/>
              <p:cNvSpPr txBox="1"/>
              <p:nvPr/>
            </p:nvSpPr>
            <p:spPr>
              <a:xfrm>
                <a:off x="5989680" y="3649680"/>
                <a:ext cx="16714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50920" y="2135160"/>
                <a:ext cx="4106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9"/>
              <p:cNvSpPr txBox="1"/>
              <p:nvPr/>
            </p:nvSpPr>
            <p:spPr>
              <a:xfrm>
                <a:off x="4859280" y="2133720"/>
                <a:ext cx="41068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1015920" y="3143160"/>
                <a:ext cx="2576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5364000" y="3141720"/>
                <a:ext cx="2899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9"/>
              <p:cNvSpPr txBox="1"/>
              <p:nvPr/>
            </p:nvSpPr>
            <p:spPr>
              <a:xfrm>
                <a:off x="1114560" y="3494160"/>
                <a:ext cx="2333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9"/>
              <p:cNvSpPr txBox="1"/>
              <p:nvPr/>
            </p:nvSpPr>
            <p:spPr>
              <a:xfrm>
                <a:off x="5622840" y="3486240"/>
                <a:ext cx="2333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853920" y="2149560"/>
                <a:ext cx="289908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9"/>
              <p:cNvSpPr txBox="1"/>
              <p:nvPr/>
            </p:nvSpPr>
            <p:spPr>
              <a:xfrm>
                <a:off x="5464080" y="2133720"/>
                <a:ext cx="289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9"/>
              <p:cNvSpPr txBox="1"/>
              <p:nvPr/>
            </p:nvSpPr>
            <p:spPr>
              <a:xfrm>
                <a:off x="1022400" y="1773360"/>
                <a:ext cx="27543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5437080" y="1765440"/>
                <a:ext cx="30481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611280" y="3514680"/>
                <a:ext cx="31478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9"/>
              <p:cNvSpPr txBox="1"/>
              <p:nvPr/>
            </p:nvSpPr>
            <p:spPr>
              <a:xfrm>
                <a:off x="4896000" y="3578400"/>
                <a:ext cx="38368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9"/>
              <p:cNvSpPr txBox="1"/>
              <p:nvPr/>
            </p:nvSpPr>
            <p:spPr>
              <a:xfrm>
                <a:off x="693720" y="2205000"/>
                <a:ext cx="32209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9"/>
              <p:cNvSpPr txBox="1"/>
              <p:nvPr/>
            </p:nvSpPr>
            <p:spPr>
              <a:xfrm>
                <a:off x="5060880" y="2205000"/>
                <a:ext cx="37036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1579680" y="3456000"/>
                <a:ext cx="1449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9"/>
              <p:cNvSpPr txBox="1"/>
              <p:nvPr/>
            </p:nvSpPr>
            <p:spPr>
              <a:xfrm>
                <a:off x="5927760" y="3348000"/>
                <a:ext cx="1771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alculer et donner le résultat sous une forme la plus simple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9"/>
              <p:cNvSpPr txBox="1"/>
              <p:nvPr/>
            </p:nvSpPr>
            <p:spPr>
              <a:xfrm>
                <a:off x="1268280" y="2133720"/>
                <a:ext cx="226224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9"/>
              <p:cNvSpPr txBox="1"/>
              <p:nvPr/>
            </p:nvSpPr>
            <p:spPr>
              <a:xfrm>
                <a:off x="5827680" y="2133720"/>
                <a:ext cx="226368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9"/>
              <p:cNvSpPr txBox="1"/>
              <p:nvPr/>
            </p:nvSpPr>
            <p:spPr>
              <a:xfrm>
                <a:off x="646200" y="3484440"/>
                <a:ext cx="314460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9"/>
              <p:cNvSpPr txBox="1"/>
              <p:nvPr/>
            </p:nvSpPr>
            <p:spPr>
              <a:xfrm>
                <a:off x="5302080" y="3484440"/>
                <a:ext cx="30481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179280" y="1755720"/>
                <a:ext cx="41306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9"/>
              <p:cNvSpPr txBox="1"/>
              <p:nvPr/>
            </p:nvSpPr>
            <p:spPr>
              <a:xfrm>
                <a:off x="4859280" y="1755720"/>
                <a:ext cx="41324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9"/>
              <p:cNvSpPr txBox="1"/>
              <p:nvPr/>
            </p:nvSpPr>
            <p:spPr>
              <a:xfrm>
                <a:off x="1136520" y="3522600"/>
                <a:ext cx="21621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9"/>
              <p:cNvSpPr txBox="1"/>
              <p:nvPr/>
            </p:nvSpPr>
            <p:spPr>
              <a:xfrm>
                <a:off x="5743440" y="3449520"/>
                <a:ext cx="21639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9"/>
              <p:cNvSpPr txBox="1"/>
              <p:nvPr/>
            </p:nvSpPr>
            <p:spPr>
              <a:xfrm>
                <a:off x="755640" y="1628640"/>
                <a:ext cx="299412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9"/>
              <p:cNvSpPr txBox="1"/>
              <p:nvPr/>
            </p:nvSpPr>
            <p:spPr>
              <a:xfrm>
                <a:off x="5403960" y="1628640"/>
                <a:ext cx="298764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1116000" y="3467160"/>
                <a:ext cx="2079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9"/>
              <p:cNvSpPr txBox="1"/>
              <p:nvPr/>
            </p:nvSpPr>
            <p:spPr>
              <a:xfrm>
                <a:off x="5796000" y="3467160"/>
                <a:ext cx="2079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9"/>
              <p:cNvSpPr txBox="1"/>
              <p:nvPr/>
            </p:nvSpPr>
            <p:spPr>
              <a:xfrm>
                <a:off x="628560" y="17733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9"/>
              <p:cNvSpPr txBox="1"/>
              <p:nvPr/>
            </p:nvSpPr>
            <p:spPr>
              <a:xfrm>
                <a:off x="5189400" y="17733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1380960" y="3481560"/>
                <a:ext cx="1671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9"/>
              <p:cNvSpPr txBox="1"/>
              <p:nvPr/>
            </p:nvSpPr>
            <p:spPr>
              <a:xfrm>
                <a:off x="5694480" y="3449520"/>
                <a:ext cx="22622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9"/>
              <p:cNvSpPr txBox="1"/>
              <p:nvPr/>
            </p:nvSpPr>
            <p:spPr>
              <a:xfrm>
                <a:off x="590400" y="1628640"/>
                <a:ext cx="347688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9"/>
              <p:cNvSpPr txBox="1"/>
              <p:nvPr/>
            </p:nvSpPr>
            <p:spPr>
              <a:xfrm>
                <a:off x="5076720" y="1622520"/>
                <a:ext cx="355608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9"/>
              <p:cNvSpPr txBox="1"/>
              <p:nvPr/>
            </p:nvSpPr>
            <p:spPr>
              <a:xfrm>
                <a:off x="1768320" y="4010040"/>
                <a:ext cx="1177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6362640" y="3978360"/>
                <a:ext cx="1177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395280" y="1208160"/>
                <a:ext cx="40784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9"/>
              <p:cNvSpPr txBox="1"/>
              <p:nvPr/>
            </p:nvSpPr>
            <p:spPr>
              <a:xfrm>
                <a:off x="2235240" y="1989000"/>
                <a:ext cx="54370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2230560" y="2865600"/>
                <a:ext cx="28764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2811600" y="3944880"/>
                <a:ext cx="39988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9"/>
              <p:cNvSpPr txBox="1"/>
              <p:nvPr/>
            </p:nvSpPr>
            <p:spPr>
              <a:xfrm>
                <a:off x="4597560" y="4809960"/>
                <a:ext cx="33606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4603680" y="5726160"/>
                <a:ext cx="1839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2556000" y="4005360"/>
            <a:ext cx="5761080" cy="273672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777960" y="2486160"/>
                <a:ext cx="3244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39"/>
              <p:cNvSpPr txBox="1"/>
              <p:nvPr/>
            </p:nvSpPr>
            <p:spPr>
              <a:xfrm>
                <a:off x="5288040" y="2486160"/>
                <a:ext cx="33447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9"/>
              <p:cNvSpPr txBox="1"/>
              <p:nvPr/>
            </p:nvSpPr>
            <p:spPr>
              <a:xfrm>
                <a:off x="250920" y="2651040"/>
                <a:ext cx="4106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4859280" y="2637000"/>
                <a:ext cx="41068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9"/>
              <p:cNvSpPr txBox="1"/>
              <p:nvPr/>
            </p:nvSpPr>
            <p:spPr>
              <a:xfrm>
                <a:off x="853920" y="2550960"/>
                <a:ext cx="2899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5464080" y="2535120"/>
                <a:ext cx="289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9"/>
              <p:cNvSpPr txBox="1"/>
              <p:nvPr/>
            </p:nvSpPr>
            <p:spPr>
              <a:xfrm>
                <a:off x="1022400" y="2486160"/>
                <a:ext cx="27543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39"/>
              <p:cNvSpPr txBox="1"/>
              <p:nvPr/>
            </p:nvSpPr>
            <p:spPr>
              <a:xfrm>
                <a:off x="5437080" y="2486160"/>
                <a:ext cx="30481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9"/>
              <p:cNvSpPr txBox="1"/>
              <p:nvPr/>
            </p:nvSpPr>
            <p:spPr>
              <a:xfrm>
                <a:off x="693720" y="2651040"/>
                <a:ext cx="32209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9"/>
              <p:cNvSpPr txBox="1"/>
              <p:nvPr/>
            </p:nvSpPr>
            <p:spPr>
              <a:xfrm>
                <a:off x="5060880" y="2637000"/>
                <a:ext cx="37036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9"/>
              <p:cNvSpPr txBox="1"/>
              <p:nvPr/>
            </p:nvSpPr>
            <p:spPr>
              <a:xfrm>
                <a:off x="1268280" y="2651040"/>
                <a:ext cx="22622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9"/>
              <p:cNvSpPr txBox="1"/>
              <p:nvPr/>
            </p:nvSpPr>
            <p:spPr>
              <a:xfrm>
                <a:off x="5827680" y="2651040"/>
                <a:ext cx="22636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26:34Z</dcterms:modified>
  <cp:revision>242</cp:revision>
  <dc:subject/>
  <dc:title>Diapositive 0</dc:title>
</cp:coreProperties>
</file>