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729B-B6D7-428B-812B-325E4690BF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26A7-8BCD-409D-8E74-E06364CCB3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A530-8D73-4E8F-9DFB-C35EB40464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2D34-6A0E-4160-9453-0B2BE7AF5A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C71D-1471-4747-82AD-3531822366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BC5E-C4D0-409B-89DE-833404A51A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8B06-42D6-4632-BFC9-A7AFCBEF2F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AA9E-8C49-4F4F-B9F6-C28CC84BBB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FBBE-1FEA-496D-A5FC-2016B21368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9D6C-BBA7-448A-A577-5BFDB5790C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16E5-4004-468B-94E7-E0A5AAA597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D46A-7407-4A37-887C-2943879B04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D68B-74A8-484C-9C8A-18F1AC25DE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4A12-280A-46C1-BF90-99B89ED36C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E61E-ED1E-481A-AF80-79BD092B5C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22E7-B5E7-40B6-862D-18907C75A0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C471-E86E-416C-8AFB-E0954F818F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B0F5-B3DB-49B4-A411-4184368791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7A6B-94FB-4F03-B737-B37A8E8558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A25D-D161-458C-9903-6A6E2745BA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5578-56DE-4CBC-9235-2A1DE87219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0FD2-D80C-48F3-B272-B372FE9A22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21C-A42A-4467-8578-3635369F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548-E2A1-4BEB-A45E-F75AA749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4F0-22C2-4D33-B9E8-481869EC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213-8810-4631-B906-7A443E89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BE5-4E74-4D2F-BAAD-2260BE2F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FE7-EEE0-4895-BA31-84FD789C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135-9D2E-4372-BCBB-293EA773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0B7-579D-4F2B-A8E6-3638A81D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AD3-2A06-4AE7-8FB4-4D6282EA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0A07-7DC3-43E7-A0FF-6C8C11E1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90DB-46C5-456C-8A36-1C11DCCB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2268-EF65-405C-B920-4D3BE41E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061A-AB01-4B33-BED4-A46611E2D0D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 DÉVELOPPÉE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 FACTORISÉE</a:t>
            </a:r>
            <a:br>
              <a:rPr sz="6000"/>
            </a:br>
            <a:br>
              <a:rPr sz="6000"/>
            </a:br>
            <a:r>
              <a:rPr b="1" lang="fr-FR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ÉRIE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7920" y="5013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2714760" y="2548080"/>
                <a:ext cx="37684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2103480" y="2959200"/>
                <a:ext cx="47545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142920" y="2773440"/>
                <a:ext cx="901224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9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2" name="ZoneTexte 4"/>
          <p:cNvSpPr/>
          <p:nvPr/>
        </p:nvSpPr>
        <p:spPr>
          <a:xfrm>
            <a:off x="1571760" y="2000160"/>
            <a:ext cx="66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arré de 19 est 36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5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VRAI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0"/>
              <p:cNvSpPr txBox="1"/>
              <p:nvPr/>
            </p:nvSpPr>
            <p:spPr>
              <a:xfrm>
                <a:off x="2071800" y="4010040"/>
                <a:ext cx="32972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5429160" y="4152960"/>
                <a:ext cx="33386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ZoneTexte 9"/>
          <p:cNvSpPr/>
          <p:nvPr/>
        </p:nvSpPr>
        <p:spPr>
          <a:xfrm>
            <a:off x="214200" y="40719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9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5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VRAI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9"/>
          <p:cNvSpPr/>
          <p:nvPr/>
        </p:nvSpPr>
        <p:spPr>
          <a:xfrm>
            <a:off x="1363680" y="40719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t 2"/>
              <p:cNvSpPr txBox="1"/>
              <p:nvPr/>
            </p:nvSpPr>
            <p:spPr>
              <a:xfrm>
                <a:off x="2119320" y="1700280"/>
                <a:ext cx="433224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t 3"/>
              <p:cNvSpPr txBox="1"/>
              <p:nvPr/>
            </p:nvSpPr>
            <p:spPr>
              <a:xfrm>
                <a:off x="3429000" y="4006800"/>
                <a:ext cx="35193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t 6"/>
              <p:cNvSpPr txBox="1"/>
              <p:nvPr/>
            </p:nvSpPr>
            <p:spPr>
              <a:xfrm>
                <a:off x="7068960" y="4135320"/>
                <a:ext cx="3114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2571840" y="2000160"/>
                <a:ext cx="43225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0"/>
              <p:cNvSpPr txBox="1"/>
              <p:nvPr/>
            </p:nvSpPr>
            <p:spPr>
              <a:xfrm>
                <a:off x="2160720" y="4140360"/>
                <a:ext cx="51847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ZoneTexte 8"/>
          <p:cNvSpPr/>
          <p:nvPr/>
        </p:nvSpPr>
        <p:spPr>
          <a:xfrm>
            <a:off x="214200" y="40719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3648240" y="4714920"/>
                <a:ext cx="52448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ZoneTexte 11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FAUX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179280" y="56624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u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4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t 17"/>
              <p:cNvSpPr txBox="1"/>
              <p:nvPr/>
            </p:nvSpPr>
            <p:spPr>
              <a:xfrm>
                <a:off x="1116000" y="5776920"/>
                <a:ext cx="7488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  donc  18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2 se termine par 6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9" name="ZoneTexte 4"/>
          <p:cNvSpPr/>
          <p:nvPr/>
        </p:nvSpPr>
        <p:spPr>
          <a:xfrm>
            <a:off x="1428840" y="2000160"/>
            <a:ext cx="66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arré de 4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 4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0"/>
              <p:cNvSpPr txBox="1"/>
              <p:nvPr/>
            </p:nvSpPr>
            <p:spPr>
              <a:xfrm>
                <a:off x="4092480" y="4000680"/>
                <a:ext cx="15591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ZoneTexte 8"/>
          <p:cNvSpPr/>
          <p:nvPr/>
        </p:nvSpPr>
        <p:spPr>
          <a:xfrm>
            <a:off x="2013120" y="4071960"/>
            <a:ext cx="40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5"/>
              <p:cNvSpPr txBox="1"/>
              <p:nvPr/>
            </p:nvSpPr>
            <p:spPr>
              <a:xfrm>
                <a:off x="5796000" y="4000680"/>
                <a:ext cx="10666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ZoneTexte 10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FAUX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3"/>
              <p:cNvSpPr txBox="1"/>
              <p:nvPr/>
            </p:nvSpPr>
            <p:spPr>
              <a:xfrm>
                <a:off x="4195800" y="2658960"/>
                <a:ext cx="4064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6"/>
              <p:cNvSpPr txBox="1"/>
              <p:nvPr/>
            </p:nvSpPr>
            <p:spPr>
              <a:xfrm>
                <a:off x="2214720" y="1500120"/>
                <a:ext cx="44654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2143080" y="3786120"/>
                <a:ext cx="67708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0" name="ZoneTexte 9"/>
          <p:cNvSpPr/>
          <p:nvPr/>
        </p:nvSpPr>
        <p:spPr>
          <a:xfrm>
            <a:off x="285840" y="400068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4071960" y="4643280"/>
                <a:ext cx="213372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2" name="ZoneTexte 11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FAUX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4" name="ZoneTexte 10"/>
          <p:cNvSpPr/>
          <p:nvPr/>
        </p:nvSpPr>
        <p:spPr>
          <a:xfrm>
            <a:off x="428760" y="1214280"/>
            <a:ext cx="60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développa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12"/>
          <p:cNvSpPr/>
          <p:nvPr/>
        </p:nvSpPr>
        <p:spPr>
          <a:xfrm>
            <a:off x="2627280" y="2214720"/>
            <a:ext cx="605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obtie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0"/>
              <p:cNvSpPr txBox="1"/>
              <p:nvPr/>
            </p:nvSpPr>
            <p:spPr>
              <a:xfrm>
                <a:off x="3071880" y="4143240"/>
                <a:ext cx="20048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ZoneTexte 14"/>
          <p:cNvSpPr/>
          <p:nvPr/>
        </p:nvSpPr>
        <p:spPr>
          <a:xfrm>
            <a:off x="1076400" y="42116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5113440" y="4106880"/>
                <a:ext cx="2266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ZoneTexte 16"/>
          <p:cNvSpPr/>
          <p:nvPr/>
        </p:nvSpPr>
        <p:spPr>
          <a:xfrm>
            <a:off x="2643120" y="328788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FAUX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9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t 3"/>
              <p:cNvSpPr txBox="1"/>
              <p:nvPr/>
            </p:nvSpPr>
            <p:spPr>
              <a:xfrm>
                <a:off x="5148360" y="1125360"/>
                <a:ext cx="2170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t 4"/>
              <p:cNvSpPr txBox="1"/>
              <p:nvPr/>
            </p:nvSpPr>
            <p:spPr>
              <a:xfrm>
                <a:off x="5724360" y="2068560"/>
                <a:ext cx="20941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1" name="ZoneTexte 10"/>
          <p:cNvSpPr/>
          <p:nvPr/>
        </p:nvSpPr>
        <p:spPr>
          <a:xfrm>
            <a:off x="857160" y="250020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actorisant                   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2"/>
          <p:cNvSpPr/>
          <p:nvPr/>
        </p:nvSpPr>
        <p:spPr>
          <a:xfrm>
            <a:off x="2819520" y="3357720"/>
            <a:ext cx="60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obtient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14"/>
          <p:cNvSpPr/>
          <p:nvPr/>
        </p:nvSpPr>
        <p:spPr>
          <a:xfrm>
            <a:off x="971640" y="85716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ahoma"/>
              </a:rPr>
              <a:t>Répondre par </a:t>
            </a:r>
            <a:r>
              <a:rPr b="0" lang="fr-FR" sz="4000" spc="-1" strike="noStrike">
                <a:solidFill>
                  <a:srgbClr val="c00000"/>
                </a:solidFill>
                <a:latin typeface="Times New Roman"/>
                <a:ea typeface="Tahoma"/>
              </a:rPr>
              <a:t>VRAI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ahoma"/>
              </a:rPr>
              <a:t> ou </a:t>
            </a:r>
            <a:r>
              <a:rPr b="0" lang="fr-FR" sz="4000" spc="-1" strike="noStrike">
                <a:solidFill>
                  <a:srgbClr val="c00000"/>
                </a:solidFill>
                <a:latin typeface="Times New Roman"/>
                <a:ea typeface="Tahoma"/>
              </a:rPr>
              <a:t>F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6"/>
          <p:cNvSpPr/>
          <p:nvPr/>
        </p:nvSpPr>
        <p:spPr>
          <a:xfrm>
            <a:off x="2786040" y="16430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xempl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19"/>
          <p:cNvSpPr/>
          <p:nvPr/>
        </p:nvSpPr>
        <p:spPr>
          <a:xfrm>
            <a:off x="2803680" y="42210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FAUX 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21"/>
          <p:cNvSpPr/>
          <p:nvPr/>
        </p:nvSpPr>
        <p:spPr>
          <a:xfrm>
            <a:off x="1143000" y="52862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t 9"/>
              <p:cNvSpPr txBox="1"/>
              <p:nvPr/>
            </p:nvSpPr>
            <p:spPr>
              <a:xfrm>
                <a:off x="4005360" y="2513160"/>
                <a:ext cx="14889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Rectangle 7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t 13"/>
              <p:cNvSpPr txBox="1"/>
              <p:nvPr/>
            </p:nvSpPr>
            <p:spPr>
              <a:xfrm>
                <a:off x="5102280" y="3357720"/>
                <a:ext cx="14857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" name="Rectangle 16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8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8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8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t 20"/>
              <p:cNvSpPr txBox="1"/>
              <p:nvPr/>
            </p:nvSpPr>
            <p:spPr>
              <a:xfrm>
                <a:off x="3267000" y="5286240"/>
                <a:ext cx="18385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Rectangle 3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t 2"/>
              <p:cNvSpPr txBox="1"/>
              <p:nvPr/>
            </p:nvSpPr>
            <p:spPr>
              <a:xfrm>
                <a:off x="5219640" y="5353200"/>
                <a:ext cx="2733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3"/>
              <p:cNvSpPr txBox="1"/>
              <p:nvPr/>
            </p:nvSpPr>
            <p:spPr>
              <a:xfrm>
                <a:off x="2000160" y="1428840"/>
                <a:ext cx="474660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0"/>
              <p:cNvSpPr txBox="1"/>
              <p:nvPr/>
            </p:nvSpPr>
            <p:spPr>
              <a:xfrm>
                <a:off x="1057320" y="4429080"/>
                <a:ext cx="80643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8" name="ZoneTexte 8"/>
          <p:cNvSpPr/>
          <p:nvPr/>
        </p:nvSpPr>
        <p:spPr>
          <a:xfrm>
            <a:off x="142920" y="38577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5"/>
              <p:cNvSpPr txBox="1"/>
              <p:nvPr/>
            </p:nvSpPr>
            <p:spPr>
              <a:xfrm>
                <a:off x="3348000" y="5373720"/>
                <a:ext cx="1968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0" name="ZoneTexte 10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FAUX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"/>
              <p:cNvSpPr txBox="1"/>
              <p:nvPr/>
            </p:nvSpPr>
            <p:spPr>
              <a:xfrm>
                <a:off x="2411280" y="1357200"/>
                <a:ext cx="37688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2286000" y="4035600"/>
                <a:ext cx="4367160" cy="90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ZoneTexte 8"/>
          <p:cNvSpPr/>
          <p:nvPr/>
        </p:nvSpPr>
        <p:spPr>
          <a:xfrm>
            <a:off x="357120" y="42228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5"/>
              <p:cNvSpPr txBox="1"/>
              <p:nvPr/>
            </p:nvSpPr>
            <p:spPr>
              <a:xfrm>
                <a:off x="6643800" y="4308480"/>
                <a:ext cx="17334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ZoneTexte 10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VRAI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3"/>
              <p:cNvSpPr txBox="1"/>
              <p:nvPr/>
            </p:nvSpPr>
            <p:spPr>
              <a:xfrm>
                <a:off x="2178000" y="1773360"/>
                <a:ext cx="47545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0"/>
              <p:cNvSpPr txBox="1"/>
              <p:nvPr/>
            </p:nvSpPr>
            <p:spPr>
              <a:xfrm>
                <a:off x="2178000" y="3967200"/>
                <a:ext cx="47624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" name="ZoneTexte 8"/>
          <p:cNvSpPr/>
          <p:nvPr/>
        </p:nvSpPr>
        <p:spPr>
          <a:xfrm>
            <a:off x="142920" y="38577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3556080" y="4503600"/>
                <a:ext cx="45338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t 10"/>
              <p:cNvSpPr txBox="1"/>
              <p:nvPr/>
            </p:nvSpPr>
            <p:spPr>
              <a:xfrm>
                <a:off x="3532320" y="5300640"/>
                <a:ext cx="1468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ZoneTexte 11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VRAI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3"/>
              <p:cNvSpPr txBox="1"/>
              <p:nvPr/>
            </p:nvSpPr>
            <p:spPr>
              <a:xfrm>
                <a:off x="71280" y="1500120"/>
                <a:ext cx="901224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0"/>
              <p:cNvSpPr txBox="1"/>
              <p:nvPr/>
            </p:nvSpPr>
            <p:spPr>
              <a:xfrm>
                <a:off x="1000080" y="4500720"/>
                <a:ext cx="78408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0" name="ZoneTexte 8"/>
          <p:cNvSpPr/>
          <p:nvPr/>
        </p:nvSpPr>
        <p:spPr>
          <a:xfrm>
            <a:off x="139680" y="38577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5"/>
              <p:cNvSpPr txBox="1"/>
              <p:nvPr/>
            </p:nvSpPr>
            <p:spPr>
              <a:xfrm>
                <a:off x="4214880" y="5214960"/>
                <a:ext cx="21780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2" name="ZoneTexte 10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VRAI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1" name="ZoneTexte 4"/>
          <p:cNvSpPr/>
          <p:nvPr/>
        </p:nvSpPr>
        <p:spPr>
          <a:xfrm>
            <a:off x="1571760" y="2928960"/>
            <a:ext cx="66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arré de 19 est 36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2571840" y="2752560"/>
                <a:ext cx="433224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2571840" y="2959200"/>
                <a:ext cx="43225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0" name="ZoneTexte 4"/>
          <p:cNvSpPr/>
          <p:nvPr/>
        </p:nvSpPr>
        <p:spPr>
          <a:xfrm>
            <a:off x="1428840" y="2935440"/>
            <a:ext cx="66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arré de 4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 4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4195800" y="2658960"/>
                <a:ext cx="4064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6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t 6"/>
              <p:cNvSpPr txBox="1"/>
              <p:nvPr/>
            </p:nvSpPr>
            <p:spPr>
              <a:xfrm>
                <a:off x="2214720" y="2492280"/>
                <a:ext cx="44654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-2143080" y="0"/>
                <a:ext cx="914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ZoneTexte 10"/>
          <p:cNvSpPr/>
          <p:nvPr/>
        </p:nvSpPr>
        <p:spPr>
          <a:xfrm>
            <a:off x="500040" y="2104920"/>
            <a:ext cx="60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développa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12"/>
          <p:cNvSpPr/>
          <p:nvPr/>
        </p:nvSpPr>
        <p:spPr>
          <a:xfrm>
            <a:off x="2916360" y="3571920"/>
            <a:ext cx="605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obtie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5"/>
              <p:cNvSpPr txBox="1"/>
              <p:nvPr/>
            </p:nvSpPr>
            <p:spPr>
              <a:xfrm>
                <a:off x="5934240" y="3394080"/>
                <a:ext cx="209376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t 2"/>
              <p:cNvSpPr txBox="1"/>
              <p:nvPr/>
            </p:nvSpPr>
            <p:spPr>
              <a:xfrm>
                <a:off x="5148360" y="1989000"/>
                <a:ext cx="2170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3"/>
              <p:cNvSpPr txBox="1"/>
              <p:nvPr/>
            </p:nvSpPr>
            <p:spPr>
              <a:xfrm>
                <a:off x="2039760" y="2548080"/>
                <a:ext cx="474696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6:13:30Z</dcterms:created>
  <dc:creator>Claudine Bertrand-Gorge</dc:creator>
  <dc:description/>
  <dc:language>en-US</dc:language>
  <cp:lastModifiedBy>auderi</cp:lastModifiedBy>
  <dcterms:modified xsi:type="dcterms:W3CDTF">2015-09-30T16:40:56Z</dcterms:modified>
  <cp:revision>63</cp:revision>
  <dc:subject/>
  <dc:title>Diapositive 1</dc:title>
</cp:coreProperties>
</file>