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C164-8796-48F6-84CD-1AB43AAD22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F88-176B-442B-A49D-2D8E345EA9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D0A2-03EA-480C-8A44-35A85EB5E1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036-5248-4125-8AA0-67AC09C117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A9CC-D608-4D4D-B28B-4979CA16A7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304-BBE5-4885-A249-0BC8BCA12B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C47-8A47-44C5-B737-4D2B7F06E2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0829-4B32-462F-B14A-56D6720BF3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24D1-894B-4399-A923-66FECD0A43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4A6D-41C4-4339-9445-A4CECBB9DA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70C6-0CFF-43E0-943A-1056E19BA8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DAE-837D-49D2-9870-56A173CB5D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1D6-99CF-45A0-9A7A-BC1201A4DE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DDD-BED5-49E1-B097-80962545AA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8BE-D80B-4F6C-AAD0-CB150717B7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B85-28F8-48E2-BCFB-E6DB8608F9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2AC-5F79-4937-8FEC-92575D25D3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858-88FE-4FE6-BC8E-A6913E2BD8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CCB-4DA4-4968-B845-BF00C9846E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0106-8548-468A-805C-2D8511B476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12DC-71FA-4D3A-96B7-1CDCCECF83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1051-A852-4542-A734-8480F73AAC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BF3-2171-4735-A452-1AB928C5C9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1C6E-EEE8-4E9A-927A-CFBC3252FA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893-5E95-4BC5-95CE-1E51D4CC0C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1F2-1E87-4C17-8353-CEADC6288C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501-3403-436B-8C11-135A7013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EEE-D44C-44EC-A00F-CBDC6686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9D8-A7B6-432D-8834-4AD58F4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B6A-F190-4087-BCF8-6A43E2A8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CF1-8428-4075-8608-5DA372A9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979-F608-460B-8EA2-45747D5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653-C6D3-4022-9FDE-9A54B316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403-E658-4608-AB2E-7DDAF32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AAE-ADFE-4F29-B59F-5BE357C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7EC-39C3-4ED2-82F7-0C6D780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F2A-594C-4791-B1C6-6D8C9A1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5BB-718D-4AEB-93C5-DAD5A2F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094-A4AE-4C84-B9ED-3AAEEFDA90D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8DC8-93B7-4C68-8B4D-44D3CCE38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9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0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9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1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10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96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10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5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1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30 € pour 300 €, soit 1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e 12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13" name="Rogner un rectangle avec un coin diagonal 13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Flèche droite 14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ogner un rectangle avec un coin diagonal 15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3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2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0 € pour 200 €, soit 2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20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7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66 € pour 88 €, soit 3/4 de m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e 9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27" name="Rogner un rectangle avec un coin diagonal 10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3335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Flèche droite 11"/>
            <p:cNvSpPr/>
            <p:nvPr/>
          </p:nvSpPr>
          <p:spPr>
            <a:xfrm>
              <a:off x="3863160" y="2277360"/>
              <a:ext cx="1508040" cy="280440"/>
            </a:xfrm>
            <a:prstGeom prst="rightArrow">
              <a:avLst>
                <a:gd name="adj1" fmla="val 50000"/>
                <a:gd name="adj2" fmla="val 51309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ogner un rectangle avec un coin diagonal 12"/>
            <p:cNvSpPr/>
            <p:nvPr/>
          </p:nvSpPr>
          <p:spPr>
            <a:xfrm>
              <a:off x="5514120" y="1717200"/>
              <a:ext cx="22978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5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220 € pour 440 €, soit la moitié d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34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6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2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0 € pour 160 €, soit 1/4 de m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41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2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Des étiquettes vont défiler  : elles donnent l’ancien prix barré et le nouveau prix après augmentation ou diminution.  </a:t>
            </a:r>
            <a:br>
              <a:rPr sz="4000"/>
            </a:br>
            <a:br>
              <a:rPr sz="4000"/>
            </a:b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Pour chaque étiquette, donner l’augmentation  ou la diminution en pourcentage sous la forme :  </a:t>
            </a:r>
            <a:br>
              <a:rPr sz="3200"/>
            </a:b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« + </a:t>
            </a:r>
            <a:r>
              <a:rPr b="0" i="1" lang="fr-FR" sz="3200" spc="-1" strike="noStrike">
                <a:solidFill>
                  <a:srgbClr val="0042c8"/>
                </a:solidFill>
                <a:latin typeface="Georgia"/>
              </a:rPr>
              <a:t>x </a:t>
            </a: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% » ou « – </a:t>
            </a:r>
            <a:r>
              <a:rPr b="0" i="1" lang="fr-FR" sz="3200" spc="-1" strike="noStrike">
                <a:solidFill>
                  <a:srgbClr val="0042c8"/>
                </a:solidFill>
                <a:latin typeface="Georgia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 %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8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8 € pour 100 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48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08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2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60 € pour 240 €, soit 1/4 d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55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0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4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2 € pour 300 €, soit 4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62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1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1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 € pour 400 €, soit 1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69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96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10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25 € pour 125 €, soit un prix doubl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76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5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3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e 6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54" name="Rogner un rectangle avec un coin diagonal 3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lèche droite 4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gner un rectangle avec un coin diagonal 5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60 € pour 200 €, soit 3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e 3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60" name="Rogner un rectangle avec un coin diagonal 4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lèche droite 5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gner un rectangle avec un coin diagonal 6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3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6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7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3335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lèche droite 6"/>
            <p:cNvSpPr/>
            <p:nvPr/>
          </p:nvSpPr>
          <p:spPr>
            <a:xfrm>
              <a:off x="3863160" y="3359520"/>
              <a:ext cx="1508040" cy="278640"/>
            </a:xfrm>
            <a:prstGeom prst="rightArrow">
              <a:avLst>
                <a:gd name="adj1" fmla="val 50000"/>
                <a:gd name="adj2" fmla="val 51415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ogner un rectangle avec un coin diagonal 7"/>
            <p:cNvSpPr/>
            <p:nvPr/>
          </p:nvSpPr>
          <p:spPr>
            <a:xfrm>
              <a:off x="5514120" y="2800440"/>
              <a:ext cx="22978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7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6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8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2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8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08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14Z</dcterms:modified>
  <cp:revision>212</cp:revision>
  <dc:subject/>
  <dc:title>Diapositive 0</dc:title>
</cp:coreProperties>
</file>