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B9CA-DA24-45FE-9FFD-539B87ADF9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3282-AB6E-411B-B2D4-FB1495071D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F4CB-AB84-4C4C-91C1-D2719E3F9E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C07E-02FF-4AE4-81B7-A6C3B025DD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5981-9015-4BCF-8076-B6E037BDC7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71B6-F98E-4030-94DA-76D03E6B00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A4BC-0FB1-4D64-8902-709D8E0AB7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CB00-A57A-44E1-B164-CF80AD3F0E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34AD-98AA-4B9F-9EDA-92468F3DCE8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E7BF-DE5F-4164-BC60-1EA62913F4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15E5-88D9-41E3-940B-8C29458BC76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F53D-DAEE-4D93-832A-81869B06F1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D3BF-BFB6-4670-9B4F-0493D2380D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EEA9-A868-4C59-9047-963CC5B6FE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A978-DD1D-4415-858A-1687E3AE30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C836-6ADE-48D9-95B2-D1E6719FE4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37C6-E89D-44C8-9D71-4729BE7F32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1A19-3444-47A7-94F4-BF1670E069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2853-C6A3-44C1-805F-2DCEF85A56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6F78-3464-4959-85AE-8173C209918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F7DC-4FD0-4C63-80BC-A2509183EF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7AB2-DE24-4341-A220-CD7718DA54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AC24-D0C9-450C-A3FE-7385A06A36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39D0-DEEF-4F03-B101-8A0852D2B4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DAF3-A8E1-4910-BE5F-BBA30448BB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9D10-DD5B-4CA4-827C-46284841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CFAF-C224-429D-B4F4-4B2C7FFC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B50B-9839-4F0F-8503-5750D24F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088C-618E-433E-B6FF-A215B85C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E0A0-7EF7-41C5-9DFA-30C3EA7A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570-D6BA-4968-9EE5-5A3170CB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184F-468C-4D8B-A464-1D49C83D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D05C-ED68-456E-B298-42318F40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8C8-50C1-4016-A47E-C26651BE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312-2D51-4ABD-A4C4-E5EACD93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BE9F-15F5-4247-A478-B9B9B1B0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340-BCD7-4E41-9478-84A9002F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3C6D-5D9E-4EE9-A835-FD752A64B63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AB43-DD02-40A7-8575-3B21FBD4A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PUISSANC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S 2 ET 2 B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rcRect l="55862" t="35410" r="488" b="48544"/>
          <a:stretch/>
        </p:blipFill>
        <p:spPr>
          <a:xfrm>
            <a:off x="539640" y="2205000"/>
            <a:ext cx="3218040" cy="79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rcRect l="67586" t="66063" r="488" b="17891"/>
          <a:stretch/>
        </p:blipFill>
        <p:spPr>
          <a:xfrm>
            <a:off x="5435640" y="2205000"/>
            <a:ext cx="2354400" cy="79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3"/>
          <a:srcRect l="55862" t="35410" r="488" b="48544"/>
          <a:stretch/>
        </p:blipFill>
        <p:spPr>
          <a:xfrm>
            <a:off x="539640" y="4365720"/>
            <a:ext cx="3218040" cy="792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4"/>
          <a:srcRect l="59769" t="67516" r="488" b="16432"/>
          <a:stretch/>
        </p:blipFill>
        <p:spPr>
          <a:xfrm>
            <a:off x="5435640" y="4437000"/>
            <a:ext cx="2930400" cy="79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rcRect l="58792" t="4757" r="488" b="79197"/>
          <a:stretch/>
        </p:blipFill>
        <p:spPr>
          <a:xfrm>
            <a:off x="684360" y="2205000"/>
            <a:ext cx="3001680" cy="79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rcRect l="71380" t="36695" r="488" b="47253"/>
          <a:stretch/>
        </p:blipFill>
        <p:spPr>
          <a:xfrm>
            <a:off x="5364000" y="2205000"/>
            <a:ext cx="2075040" cy="79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3"/>
          <a:srcRect l="72240" t="67180" r="488" b="16775"/>
          <a:stretch/>
        </p:blipFill>
        <p:spPr>
          <a:xfrm>
            <a:off x="1619280" y="4365720"/>
            <a:ext cx="2011320" cy="79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4"/>
          <a:srcRect l="60560" t="6217" r="488" b="77738"/>
          <a:stretch/>
        </p:blipFill>
        <p:spPr>
          <a:xfrm>
            <a:off x="5435640" y="4365720"/>
            <a:ext cx="2871720" cy="79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rcRect l="488" t="20810" r="85165" b="63138"/>
          <a:stretch/>
        </p:blipFill>
        <p:spPr>
          <a:xfrm>
            <a:off x="2556000" y="2205000"/>
            <a:ext cx="1057320" cy="792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2"/>
          <a:srcRect l="72357" t="67348" r="488" b="16607"/>
          <a:stretch/>
        </p:blipFill>
        <p:spPr>
          <a:xfrm>
            <a:off x="5435640" y="2205000"/>
            <a:ext cx="2003400" cy="792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rcRect l="488" t="52922" r="61722" b="31032"/>
          <a:stretch/>
        </p:blipFill>
        <p:spPr>
          <a:xfrm>
            <a:off x="971640" y="4437000"/>
            <a:ext cx="2786040" cy="792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4"/>
          <a:srcRect l="78143" t="67143" r="488" b="16811"/>
          <a:stretch/>
        </p:blipFill>
        <p:spPr>
          <a:xfrm>
            <a:off x="5435640" y="4437000"/>
            <a:ext cx="1576440" cy="79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– 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fr-F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5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56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4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7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8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3 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12×10</a:t>
            </a:r>
            <a:r>
              <a:rPr b="0" lang="fr-FR" sz="7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7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3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8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 00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420×10</a:t>
            </a:r>
            <a:r>
              <a:rPr b="0" lang="fr-FR" sz="7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–9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7"/>
          <p:cNvSpPr/>
          <p:nvPr/>
        </p:nvSpPr>
        <p:spPr>
          <a:xfrm>
            <a:off x="406728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8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2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–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1,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7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8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2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(–10)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7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oneTexte 8"/>
          <p:cNvSpPr/>
          <p:nvPr/>
        </p:nvSpPr>
        <p:spPr>
          <a:xfrm>
            <a:off x="3348000" y="407664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rcRect l="61536" t="44509" r="488" b="39402"/>
          <a:stretch/>
        </p:blipFill>
        <p:spPr>
          <a:xfrm>
            <a:off x="900000" y="2276640"/>
            <a:ext cx="2799000" cy="793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2"/>
          <a:srcRect l="66424" t="14593" r="0" b="69354"/>
          <a:stretch/>
        </p:blipFill>
        <p:spPr>
          <a:xfrm>
            <a:off x="5435640" y="2276640"/>
            <a:ext cx="2476440" cy="79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"/>
          <p:cNvPicPr/>
          <p:nvPr/>
        </p:nvPicPr>
        <p:blipFill>
          <a:blip r:embed="rId3"/>
          <a:srcRect l="68377" t="67136" r="1353" b="16811"/>
          <a:stretch/>
        </p:blipFill>
        <p:spPr>
          <a:xfrm>
            <a:off x="5435640" y="4365720"/>
            <a:ext cx="2232000" cy="792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"/>
          <p:cNvPicPr/>
          <p:nvPr/>
        </p:nvPicPr>
        <p:blipFill>
          <a:blip r:embed="rId4"/>
          <a:srcRect l="55677" t="36490" r="2329" b="47464"/>
          <a:stretch/>
        </p:blipFill>
        <p:spPr>
          <a:xfrm>
            <a:off x="611280" y="4437000"/>
            <a:ext cx="309708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ZoneTexte 11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oneTexte 12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5bd3"/>
                </a:solidFill>
                <a:latin typeface="Georgia"/>
                <a:ea typeface="Times New Roman"/>
              </a:rPr>
              <a:t>Comparer les nombres proposés à l’aide des symboles &gt;, &lt; ou =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rcRect l="244" t="49624" r="89262" b="31405"/>
          <a:stretch/>
        </p:blipFill>
        <p:spPr>
          <a:xfrm>
            <a:off x="5435640" y="2060640"/>
            <a:ext cx="774720" cy="936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2"/>
          <a:srcRect l="488" t="17512" r="62025" b="62751"/>
          <a:stretch/>
        </p:blipFill>
        <p:spPr>
          <a:xfrm>
            <a:off x="971640" y="2060640"/>
            <a:ext cx="2763720" cy="974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3"/>
          <a:srcRect l="78329" t="67516" r="488" b="16432"/>
          <a:stretch/>
        </p:blipFill>
        <p:spPr>
          <a:xfrm>
            <a:off x="5435640" y="4365720"/>
            <a:ext cx="1562040" cy="792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4"/>
          <a:srcRect l="244" t="17891" r="85165" b="64597"/>
          <a:stretch/>
        </p:blipFill>
        <p:spPr>
          <a:xfrm>
            <a:off x="2627280" y="429264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94" name="ZoneTexte 13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oneTexte 14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rcRect l="55862" t="35410" r="488" b="48544"/>
          <a:stretch/>
        </p:blipFill>
        <p:spPr>
          <a:xfrm>
            <a:off x="539640" y="2205000"/>
            <a:ext cx="3218040" cy="792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rcRect l="67586" t="66063" r="488" b="17891"/>
          <a:stretch/>
        </p:blipFill>
        <p:spPr>
          <a:xfrm>
            <a:off x="5435640" y="2205000"/>
            <a:ext cx="2354400" cy="792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3"/>
          <a:srcRect l="55862" t="35410" r="488" b="48544"/>
          <a:stretch/>
        </p:blipFill>
        <p:spPr>
          <a:xfrm>
            <a:off x="539640" y="4365720"/>
            <a:ext cx="3218040" cy="79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4"/>
          <a:srcRect l="59769" t="67516" r="488" b="16432"/>
          <a:stretch/>
        </p:blipFill>
        <p:spPr>
          <a:xfrm>
            <a:off x="5435640" y="4437000"/>
            <a:ext cx="2930400" cy="792360"/>
          </a:xfrm>
          <a:prstGeom prst="rect">
            <a:avLst/>
          </a:prstGeom>
          <a:ln w="0">
            <a:noFill/>
          </a:ln>
        </p:spPr>
      </p:pic>
      <p:sp>
        <p:nvSpPr>
          <p:cNvPr id="206" name="ZoneTexte 11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ZoneTexte 12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rcRect l="58792" t="4757" r="488" b="79197"/>
          <a:stretch/>
        </p:blipFill>
        <p:spPr>
          <a:xfrm>
            <a:off x="684360" y="2205000"/>
            <a:ext cx="3001680" cy="792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"/>
          <p:cNvPicPr/>
          <p:nvPr/>
        </p:nvPicPr>
        <p:blipFill>
          <a:blip r:embed="rId2"/>
          <a:srcRect l="71380" t="36695" r="488" b="47253"/>
          <a:stretch/>
        </p:blipFill>
        <p:spPr>
          <a:xfrm>
            <a:off x="5364000" y="2205000"/>
            <a:ext cx="2075040" cy="792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"/>
          <p:cNvPicPr/>
          <p:nvPr/>
        </p:nvPicPr>
        <p:blipFill>
          <a:blip r:embed="rId3"/>
          <a:srcRect l="72240" t="67180" r="488" b="16775"/>
          <a:stretch/>
        </p:blipFill>
        <p:spPr>
          <a:xfrm>
            <a:off x="1619280" y="4365720"/>
            <a:ext cx="2011320" cy="792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4"/>
          <a:srcRect l="60560" t="6217" r="488" b="77738"/>
          <a:stretch/>
        </p:blipFill>
        <p:spPr>
          <a:xfrm>
            <a:off x="5435640" y="4365720"/>
            <a:ext cx="2871720" cy="792000"/>
          </a:xfrm>
          <a:prstGeom prst="rect">
            <a:avLst/>
          </a:prstGeom>
          <a:ln w="0">
            <a:noFill/>
          </a:ln>
        </p:spPr>
      </p:pic>
      <p:sp>
        <p:nvSpPr>
          <p:cNvPr id="218" name="ZoneTexte 14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ZoneTexte 15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rcRect l="488" t="20810" r="85165" b="63138"/>
          <a:stretch/>
        </p:blipFill>
        <p:spPr>
          <a:xfrm>
            <a:off x="2556000" y="2205000"/>
            <a:ext cx="1057320" cy="792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2"/>
          <a:srcRect l="72357" t="67348" r="488" b="16607"/>
          <a:stretch/>
        </p:blipFill>
        <p:spPr>
          <a:xfrm>
            <a:off x="5435640" y="2205000"/>
            <a:ext cx="2003400" cy="792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3"/>
          <a:srcRect l="488" t="52922" r="61722" b="31032"/>
          <a:stretch/>
        </p:blipFill>
        <p:spPr>
          <a:xfrm>
            <a:off x="971640" y="4437000"/>
            <a:ext cx="2786040" cy="792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4"/>
          <a:srcRect l="78143" t="67143" r="488" b="16811"/>
          <a:stretch/>
        </p:blipFill>
        <p:spPr>
          <a:xfrm>
            <a:off x="5435640" y="4437000"/>
            <a:ext cx="1576440" cy="792360"/>
          </a:xfrm>
          <a:prstGeom prst="rect">
            <a:avLst/>
          </a:prstGeom>
          <a:ln w="0">
            <a:noFill/>
          </a:ln>
        </p:spPr>
      </p:pic>
      <p:sp>
        <p:nvSpPr>
          <p:cNvPr id="230" name="ZoneTexte 13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ZoneTexte 14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– 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fr-F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5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56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4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3 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12×10</a:t>
            </a:r>
            <a:r>
              <a:rPr b="0" lang="fr-FR" sz="7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7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3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 00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420×10</a:t>
            </a:r>
            <a:r>
              <a:rPr b="0" lang="fr-FR" sz="7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–9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2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–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1,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2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(–10)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rcRect l="61536" t="44509" r="488" b="39402"/>
          <a:stretch/>
        </p:blipFill>
        <p:spPr>
          <a:xfrm>
            <a:off x="900000" y="2276640"/>
            <a:ext cx="2799000" cy="79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2"/>
          <a:srcRect l="66424" t="14593" r="0" b="69354"/>
          <a:stretch/>
        </p:blipFill>
        <p:spPr>
          <a:xfrm>
            <a:off x="5435640" y="2276640"/>
            <a:ext cx="2476440" cy="79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3"/>
          <a:srcRect l="68377" t="67136" r="1353" b="16811"/>
          <a:stretch/>
        </p:blipFill>
        <p:spPr>
          <a:xfrm>
            <a:off x="5435640" y="4365720"/>
            <a:ext cx="2232000" cy="792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4"/>
          <a:srcRect l="55677" t="36490" r="2329" b="47464"/>
          <a:stretch/>
        </p:blipFill>
        <p:spPr>
          <a:xfrm>
            <a:off x="611280" y="4437000"/>
            <a:ext cx="3097080" cy="79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rcRect l="244" t="49624" r="89262" b="31405"/>
          <a:stretch/>
        </p:blipFill>
        <p:spPr>
          <a:xfrm>
            <a:off x="5435640" y="2060640"/>
            <a:ext cx="774720" cy="93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2"/>
          <a:srcRect l="488" t="17512" r="62025" b="62751"/>
          <a:stretch/>
        </p:blipFill>
        <p:spPr>
          <a:xfrm>
            <a:off x="971640" y="2060640"/>
            <a:ext cx="2763720" cy="974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3"/>
          <a:srcRect l="78329" t="67516" r="488" b="16432"/>
          <a:stretch/>
        </p:blipFill>
        <p:spPr>
          <a:xfrm>
            <a:off x="5435640" y="4365720"/>
            <a:ext cx="1562040" cy="79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4"/>
          <a:srcRect l="244" t="17891" r="85165" b="64597"/>
          <a:stretch/>
        </p:blipFill>
        <p:spPr>
          <a:xfrm>
            <a:off x="2627280" y="4292640"/>
            <a:ext cx="1076400" cy="865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1-11T15:17:51Z</dcterms:modified>
  <cp:revision>247</cp:revision>
  <dc:subject/>
  <dc:title>Diapositive 0</dc:title>
</cp:coreProperties>
</file>