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F6D0-BCFF-479C-BAE2-D9FC97ED3B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CCAC-9BB9-4CF4-8088-947D928F4B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B95C-9077-42B7-ACAC-2D01D0CF87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3256-868A-4A17-80BC-3B2C3FDB9D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FEA8-4926-434B-85A1-EC19F636D3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8CC9-3AD3-46F1-A019-FFB72461F5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5814-3CF2-445F-A7CD-90F10B3CBB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7D59-A352-46DB-8441-14A3297E29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A1C3-B6D2-4364-8D7F-1504AA4D24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955B-1758-4915-87F0-3F73767A8E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09B8-A1DD-4720-AF64-534F6A3F91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D0C0-8CB3-4BB2-96E0-5538111C98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2CF2-22DE-4ECD-B780-9959436E87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EE58-4C5F-4ED7-ADC6-87B2CC5150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6ABA-507A-4D94-BDF0-E30F163006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9A0A-DA40-4F63-8DB8-E8B1A6A95C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25CD-4D31-43CC-A973-1D972AEA2A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C5E-1DA3-4CB7-9059-AEB6AB96CF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C7C-AA63-4A8F-A1CC-9BE0E1844E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CB6C-5579-4C72-9C9D-29341C078F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90C-FE21-4E42-913E-DE091BD3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67F-B8A6-40F7-8DE4-CC0EB285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182-B79B-43C5-8E02-6FC6C559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73D-CD69-4139-BB3B-40ABB365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930-D4EC-464D-83D3-E97395EA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3EA-4405-48C2-B193-78347F0C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B2C-DBF1-45DD-AEE7-A6DB664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1B5-2117-4179-9F5B-6ED51391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6B7-1759-4296-9959-B539E416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7D0-721A-43BC-9E30-6BB7F71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102-6D2B-4088-BC15-F81C853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FEA-C7B8-4B5F-9334-2780183D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E6CD-9058-4355-833A-07EC8D90ABAB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E1DB-152D-4503-A4BA-DF1B32A171E7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-12600" y="1414440"/>
            <a:ext cx="9023400" cy="2895480"/>
            <a:chOff x="-12600" y="1414440"/>
            <a:chExt cx="902340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-12600" y="1414440"/>
              <a:ext cx="90234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CALCUL NUMÉRIQU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411280" y="1898640"/>
            <a:ext cx="3619800" cy="3114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"/>
          <p:cNvPicPr/>
          <p:nvPr/>
        </p:nvPicPr>
        <p:blipFill>
          <a:blip r:embed="rId1"/>
          <a:stretch/>
        </p:blipFill>
        <p:spPr>
          <a:xfrm>
            <a:off x="1204920" y="2708280"/>
            <a:ext cx="6462720" cy="151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286600" cy="3371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646360" y="1773360"/>
            <a:ext cx="3581280" cy="311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55640" y="2225520"/>
            <a:ext cx="5248440" cy="1924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6388200" y="242100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816200" y="1916280"/>
            <a:ext cx="3619440" cy="30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2"/>
          <a:stretch/>
        </p:blipFill>
        <p:spPr>
          <a:xfrm>
            <a:off x="5811840" y="1916280"/>
            <a:ext cx="2000160" cy="30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5181840" cy="163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5670720" y="2611440"/>
            <a:ext cx="3438360" cy="1609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6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696160" cy="1441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3203640" y="3357720"/>
            <a:ext cx="2266920" cy="14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24000" y="2225520"/>
            <a:ext cx="4586040" cy="1979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5316480" y="2241720"/>
            <a:ext cx="3576600" cy="197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Georgia"/>
                <a:ea typeface="Arial"/>
              </a:rPr>
              <a:t>Calculer et donner le résultat sous la forme la plus simple possible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5205600" cy="1800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2"/>
          <a:stretch/>
        </p:blipFill>
        <p:spPr>
          <a:xfrm>
            <a:off x="5719680" y="2421000"/>
            <a:ext cx="310032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3619800" cy="3114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5667480" y="270828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5" descr=""/>
          <p:cNvPicPr/>
          <p:nvPr/>
        </p:nvPicPr>
        <p:blipFill>
          <a:blip r:embed="rId1"/>
          <a:stretch/>
        </p:blipFill>
        <p:spPr>
          <a:xfrm>
            <a:off x="1420920" y="1700280"/>
            <a:ext cx="6464160" cy="151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2"/>
          <a:stretch/>
        </p:blipFill>
        <p:spPr>
          <a:xfrm>
            <a:off x="1531800" y="3284640"/>
            <a:ext cx="5343840" cy="151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286240" cy="33717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2"/>
          <a:stretch/>
        </p:blipFill>
        <p:spPr>
          <a:xfrm>
            <a:off x="6316560" y="1773360"/>
            <a:ext cx="2000520" cy="30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919080" y="1773360"/>
            <a:ext cx="3581640" cy="31147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409920" cy="308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2440" y="1608120"/>
            <a:ext cx="62895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803240" y="3141720"/>
            <a:ext cx="2840040" cy="179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71560" y="2225520"/>
            <a:ext cx="5248440" cy="1924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19800" cy="3085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5181480" cy="163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6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696160" cy="14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130480" y="2225520"/>
            <a:ext cx="4457520" cy="1924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4848480" cy="167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30T16:59:11Z</dcterms:modified>
  <cp:revision>236</cp:revision>
  <dc:subject/>
  <dc:title>Diapositive 0</dc:title>
</cp:coreProperties>
</file>