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FAB7-9E24-42D8-8561-A44D30F251C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2449-4176-4D3B-8617-E7A80B46B66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D216-01F3-4855-B617-68E8D722F15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4675-950B-4F6F-8FE7-9AA3469BE1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4523-B123-4DC3-9D11-0404542CA2D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3CF7-25E0-442D-94B1-B76AD24F0D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123E-9DA6-49A3-B4B1-CDB28B50618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3A4E-9F3A-4CF8-BE30-B3520496CFC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6131-7C2C-49CB-B453-2D420178A9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694C-1398-4F68-9B98-232E475C80A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A89C-663A-43BE-A93A-AD2D9E2F7A0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3DE7-6939-4E43-8786-81153F524E7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0F21-3E30-4A05-8CF5-83E0FB414A3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CAFD-202C-47A8-90B8-6AAADBFB4F9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2205-8006-4FAF-8B49-572644163F3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4D0A-3548-4E4B-8217-E4B6C463D6E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48F3-A641-42A4-8116-AE83FB9AF21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C274-61E8-45D4-8529-133CD7B6B62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F2BC-9029-4C81-B738-EC2752DB4C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DCED-7920-405D-B7B8-6FC06C9528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5B4E-4CB8-464D-9A28-6CCF9C190AD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3710-99F2-4654-8AB7-073498E975C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EC77-24B4-4CB0-BFA1-333F49D81D7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6273-3B33-4BB5-8D1E-37EE6FBE72A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4822-7876-4C81-82CD-A765C9A3F4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F217-4EB0-4551-A345-4CEADA8A971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C78F-BF3D-45B7-B42B-0C1FEE10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F940-E725-477D-9E79-F47BF033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F5E-3E65-445C-B529-DBFDB85F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8F1-A4D9-4AE8-995C-135790E6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50C5-9C72-4331-AB37-B73751AD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A102-138C-415D-A7C6-BDA64AEF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8B95-D549-47B0-9C18-4AE14F68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C659-95A7-4FDE-A22F-007698ED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2B8C-7D03-47D0-AC98-D60AE267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A30A-BFCC-42F9-B72C-19820C28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5A68-1285-4E35-A7A5-4674C29A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081E-7E1D-4674-8E2C-5B6052C3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DBBF-8FB4-4E91-8910-58AEA5B012D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43EF-87E6-4D80-98E4-1F129C6A1C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POURCENTAGES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20 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25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1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10 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tre 1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1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u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e hausse de 32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ensées 3"/>
          <p:cNvSpPr/>
          <p:nvPr/>
        </p:nvSpPr>
        <p:spPr>
          <a:xfrm>
            <a:off x="1116000" y="3573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1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,20 = 1,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tre 1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1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1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e baisse de 19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ensées 3"/>
          <p:cNvSpPr/>
          <p:nvPr/>
        </p:nvSpPr>
        <p:spPr>
          <a:xfrm>
            <a:off x="1116000" y="3573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9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0,90 = 0,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tre 1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35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3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e hausse de 75,5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ensées 3"/>
          <p:cNvSpPr/>
          <p:nvPr/>
        </p:nvSpPr>
        <p:spPr>
          <a:xfrm>
            <a:off x="1116000" y="3573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35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,30 = 1,7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tre 1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3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e baisse de 44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ensées 3"/>
          <p:cNvSpPr/>
          <p:nvPr/>
        </p:nvSpPr>
        <p:spPr>
          <a:xfrm>
            <a:off x="1116000" y="3573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7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0,80 = 0,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itre 1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5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35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e baisse de 2,5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ensées 3"/>
          <p:cNvSpPr/>
          <p:nvPr/>
        </p:nvSpPr>
        <p:spPr>
          <a:xfrm>
            <a:off x="1116000" y="3573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5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0,65 = 0,9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42c8"/>
                </a:solidFill>
                <a:latin typeface="Georgia"/>
              </a:rPr>
              <a:t>Compléter les phrases par « hausse » ou « baisse » suivi d’un pourcentage. </a:t>
            </a:r>
            <a:br>
              <a:rPr sz="5000"/>
            </a:br>
            <a:br>
              <a:rPr sz="5000"/>
            </a:br>
            <a:r>
              <a:rPr b="0" i="1" lang="fr-FR" sz="5000" spc="-1" strike="noStrike">
                <a:solidFill>
                  <a:srgbClr val="0042c8"/>
                </a:solidFill>
                <a:latin typeface="Georgia"/>
              </a:rPr>
              <a:t>L’usage de la calculatrice est autorisé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itre 1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35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5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e baisse de 2,5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ensées 3"/>
          <p:cNvSpPr/>
          <p:nvPr/>
        </p:nvSpPr>
        <p:spPr>
          <a:xfrm>
            <a:off x="1116000" y="3573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65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,50 = 0,9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itre 1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20 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e baisse de 4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ensées 3"/>
          <p:cNvSpPr/>
          <p:nvPr/>
        </p:nvSpPr>
        <p:spPr>
          <a:xfrm>
            <a:off x="1116000" y="3573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8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,20 = 0,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tre 1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25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arder le même résultat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ensées 3"/>
          <p:cNvSpPr/>
          <p:nvPr/>
        </p:nvSpPr>
        <p:spPr>
          <a:xfrm>
            <a:off x="1116000" y="3573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8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,25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tre 1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1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10 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e baisse de 2,8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ensées 3"/>
          <p:cNvSpPr/>
          <p:nvPr/>
        </p:nvSpPr>
        <p:spPr>
          <a:xfrm>
            <a:off x="611280" y="4221000"/>
            <a:ext cx="799308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9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0,9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,20 = 0,9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tre 1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e hausse de 15,2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ensées 3"/>
          <p:cNvSpPr/>
          <p:nvPr/>
        </p:nvSpPr>
        <p:spPr>
          <a:xfrm>
            <a:off x="611280" y="4221000"/>
            <a:ext cx="799308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2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,2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0,80 = 1,1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0" y="1628640"/>
            <a:ext cx="9144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1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1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e hausse de 21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ensées 3"/>
          <p:cNvSpPr/>
          <p:nvPr/>
        </p:nvSpPr>
        <p:spPr>
          <a:xfrm>
            <a:off x="1116000" y="393228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1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,10 = 1,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1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u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1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1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35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3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3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5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35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35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5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SEM</cp:lastModifiedBy>
  <dcterms:modified xsi:type="dcterms:W3CDTF">2014-06-29T14:56:52Z</dcterms:modified>
  <cp:revision>215</cp:revision>
  <dc:subject/>
  <dc:title>Diapositive 0</dc:title>
</cp:coreProperties>
</file>