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1776-5AFC-4F16-890F-84F48DEFE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FC9E-CF04-47EB-8733-86043EE5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98F223-CFEE-4553-A057-FD556BDC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C9A28-A2FD-4022-81A4-6ECD89D16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D32015-F0FD-411C-93CF-B1F1C012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19CD96-2076-4050-B0C1-366CC3BE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AB7FF6-9D84-4E9C-89A6-6890EEC6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1A7CD-069C-4D61-A99B-11AE2F9B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8988EC-C8A8-4361-A70D-2B189A18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7AA444-B549-46E0-A791-876DE9C3A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A5455-CF7D-4549-B823-0C4954A1E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8EB478-27A6-4ED0-A193-35D6C656A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54D8-E919-4404-A0DD-4D3F9B2BE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FDE32A-EC28-4E18-9AB6-15036F20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5FD4F0-8424-4069-A6B3-7E2D8330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D24EBF-002D-4D85-BA9E-C64E16FD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A04AF7-AC54-4D64-9A4F-B19CDE58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47FACE-22D6-4CF5-ACE9-96857443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52772D-B36D-433A-A269-102E44D9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F56C3E-037D-4D3A-9DFC-EABFBD5A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4A3064-15C5-4634-BE49-6B7D0F7A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B93B64-E75F-4DBE-BB55-B2304BEB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B4AEEA-4182-42B2-9C4B-E51C85BDF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3DB7-3113-46FD-9569-41401EA09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DBEB41-403E-4E7E-AB4F-11EEB9651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95FBAE-6459-4E4B-9D4A-56A549AC0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8C0C7-63D5-42D7-82FB-C4C0598F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ED12B9-FF1A-4DFE-BE39-E0D238E4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7A8A80-516F-473E-A0E8-51C62A46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EF13D9-281C-4A93-B168-B3A049A5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D9DAB-74DF-469B-97E6-3CFBD427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532AB-E357-4DE3-B032-A2BC864A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64132-8A6D-4842-B13D-5493AB1B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872877-50B8-42FA-ABFA-C6CBF9EE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6F438-A0D3-4718-AD87-D17722BCE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FC3D3-402B-43D0-9A60-9BE23EF3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3376C-1AD3-4E7D-9647-29BC5C5D4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EF956F-256E-4B96-A214-45189BF3A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6C003B-1518-479A-A604-F1CEF6B22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2AE764-0DBA-498E-93DD-659A64E1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0CA778-8D53-47AF-80A0-3F6942C3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F16190-B86D-4308-8BBE-D90F37CB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DFB9F9-FEF2-4A78-85DF-22275E85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A97519-02CA-4ED6-92E9-E65D4624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FFF8BE-8DCB-4307-B8F4-4A39A609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AE806-70F4-4476-B557-FD8F4584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C4D954-DAB3-4443-8C11-B250A5F8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AE991A-6540-43B4-9C88-8CDAA2D7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C7E500-DB25-4FB9-A53F-FF7FF64C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98ACF0-5BD4-42CD-827F-F1F8BABCD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F8ACD0-AE1F-4C23-9551-53FD18889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B9827C-73DC-47AE-8E57-C833E58B7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9954B8-EB33-496B-B41D-F7D36678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12D658-4E2F-4225-9DDA-3A48023C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5F9D95-DC52-4F78-911C-AB1A4CF6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07CBF5-3479-42A0-B182-346B83E1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5956-61B5-46E4-B0ED-AE53D006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D3CB9F-C267-4E6A-93F6-7D7480B4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B15F50-C328-426F-89AB-365AB6F2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87FD8E-64FE-4E3B-8F8A-38B236FF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522722-E45E-4663-9B3D-71BF2508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3D0074-9547-49A5-8BB3-76C44027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AE7683-F281-4204-9A3D-D8AE57C16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94B805-DDE5-454E-96C3-FE5789476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CD79-7A60-4F73-8863-CC3C6517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3B39F-6579-4675-A067-7E0513C2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2ED1-94F8-4C35-AF85-E3861656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066A-66A2-4DC7-80CA-F9A358E9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E222-C0F0-4165-87C0-9259ED9D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9E0D-3C18-4286-9C3F-377D185D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78241-8245-4C0A-B950-170862F1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F252-C47E-4AB8-8E16-FE38A5CC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97DF-BA48-4AAC-B7D6-3B979E496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0FD0-B36C-4471-8AF9-10A135037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132DF-0487-4505-9676-EA46B1FC0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D8246-D7E3-409A-B2D7-F350DCAB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CA154-1623-4174-BCB7-7D6EB6DC7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AD7A0-09E7-4A8F-A8A6-E964E4AA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C6907-AAED-4243-9D53-C32C60FA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6634-80D2-4AB4-BA51-2D124495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F429B-87B1-4483-B4F5-F11D8BA3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65C18-14D9-4592-B8FB-32851E5A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B10B4-E851-4DB3-93C9-8CA128BC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ACE99-58D1-44BD-BF9B-4C0FDECE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FE230-7DE2-4DA1-AB7D-B924CE51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9EBF1-5FF4-417F-B82F-BC8A3B62F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2AD9A-378C-4BFA-8A50-A5246BA79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A6512-D41D-4246-AB58-AD477578D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FA04A-7216-4948-B55B-50DBFD5D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C951F-06D2-4EE6-8AFE-066F1079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D86C-B940-46B4-9B99-EB78CBDE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784A5-C138-448F-897E-B496CF1A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E2B4B-CCB7-4A93-A242-162432B8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9970A-4698-4B60-871B-FFF9CD92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7184B-8D83-4BF3-941D-DFF56256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C5801-507C-487A-84B5-1DF3931D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9DE25-A864-444A-8137-C29AE9E6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C587C-D016-4D0D-BF70-693624A7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B3BB9-BC63-41A2-8C41-2A5E39326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7F69E-AFAE-4F7F-8A1F-60E623A33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CA09B-DDA7-4034-B4CA-9A50521C3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BF52-207E-4FF4-8219-E1B2195D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88753-EB08-40EF-B1B0-E1FCBAF0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D8C73-EA1F-4411-9E9F-86DE83B0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43CE0-A87E-465F-8863-D818D072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8F4A1-A2F2-4B19-BBAE-3BE0FD6A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7E0A3-DFAF-4491-ACC3-0F1E0B5A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B312E-454A-4350-87A4-C52E7F42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1FB74-854D-4DA7-A485-F24F8DB1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1B62B-7A28-4579-91ED-0D629F2C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2FBED-5138-4CB8-A664-9B4A63F8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891D9-6554-448F-85A9-F1BDE053C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243D-04CC-47C0-914B-D90B83DD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05F9A-5340-461A-BD5E-B6893AE24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6627A-D215-4505-8315-39EE32896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49E0A-B0B1-4D80-BB36-A9E5187A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1583F-2CE2-4965-AFE9-D50DF79C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03997-BF29-4289-9727-A0FB9322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AE2B4-F49C-45E5-9D79-A0A9F782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ABD01-C60E-4A1E-A512-80658C5F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3C50A-AD02-4C88-8420-10B55637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808B6-8EDD-4D40-B7F6-17450419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16FC2-3D12-490A-9A7B-2FC816C8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DC18-F7BD-488C-9BC6-1D10CA0F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DC108-3034-4641-B78C-38C27AD6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74C3D-3975-4485-A9E2-44FB7C06D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E0AB6-936B-46F6-9D5A-4DF40B5D5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B8BB4-7D97-44B7-A852-2875E13C0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E9EA8-A254-42A4-A02F-D995A4CB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49F75-24E9-45EC-BE58-C6B952AC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A4D46-A911-4A6E-9E60-FE20AE48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C7F72-146F-4183-BC6E-1C16E498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2572C-1CDE-4B42-8971-5FED5D3D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FD576-E54B-4825-90D4-D46AC32C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7D25-24B7-4A0D-86F4-4D463831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C6882-4E2B-4349-850D-CAE8CE8C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56B46-8683-4A8C-805D-FE052799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5FE15-9D24-45F5-B0B5-DD4836EC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AC877-C76D-477B-8A2E-08921A612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8846D-8AC9-4F0D-99F2-0C06D65C1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A2E83-0823-40F2-810A-999C63FEE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1B3BF-D13D-4616-98F1-EEDA4289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121DF-F73C-4DF7-8C74-DEBE1C22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658A2-FFA7-431F-B298-16C29865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F48D5-A101-48B6-89F8-B81D14E5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E29E-581F-429C-86A5-50DA3F2C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87576-9207-4EFB-9F2A-2CF2A529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1C2CE-10AC-4692-A886-E25919BE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CD598-17AF-4CBB-A3B2-BF5C271F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59D31-C56E-40A5-9AAA-A2D4EC9B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F1E5F-8972-4EA3-92E6-838B8526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8974B-EA47-4759-9753-1104AC778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C84D3-8F22-4C19-A868-DCDD554EB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5F9B6-6CDF-443C-803F-E50C1D71B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99590F-8034-4CB9-BE7A-9022C662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132E7-45D1-4784-9F6C-15A334A6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D303-6A0A-4653-98FC-F4AA6C98C7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>
            <a:alpha val="1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5727-A476-4742-B6BA-714D03CCA36A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>
            <a:alpha val="1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B84B-48D5-4780-8A23-6CE07AC576F8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>
            <a:alpha val="1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1808-F7D2-44CD-9493-45B1E313EC9F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>
            <a:alpha val="1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A7E1E-0EF7-49AE-BB3D-BB54935C5E31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>
            <a:alpha val="1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F9E9-81AE-42C9-935A-6667F7C4C2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>
            <a:alpha val="1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4AB0-132A-479A-9DF4-0B7162F2628C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>
            <a:alpha val="1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BB8F-B2D5-4E0B-98DF-5CFE49E6D2AC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>
            <a:alpha val="1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80C4-7920-4C8B-9579-19A135079A24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>
            <a:alpha val="1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4679-D5D8-4DBD-81DA-63B8B609B319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>
            <a:alpha val="1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3FEB-DE66-41A5-805F-9E9F10828ECE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>
            <a:alpha val="1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455E-7D97-4C61-BC1C-A5A8B1545D7D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>
            <a:alpha val="1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75B5-50B9-4CBE-A280-9AABC45589F4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0" y="15570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Calcul algébrique 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0" y="3573360"/>
            <a:ext cx="914400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Vrai</a:t>
            </a:r>
            <a:r>
              <a:rPr b="0" lang="fr-FR" sz="6000" spc="-1" strike="noStrike">
                <a:solidFill>
                  <a:srgbClr val="ff0000"/>
                </a:solidFill>
                <a:latin typeface="Calibri"/>
              </a:rPr>
              <a:t>-Faux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0" y="5661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6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3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3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3"/>
          <p:cNvSpPr/>
          <p:nvPr/>
        </p:nvSpPr>
        <p:spPr>
          <a:xfrm>
            <a:off x="0" y="493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6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6554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6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3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3"/>
          <p:cNvSpPr/>
          <p:nvPr/>
        </p:nvSpPr>
        <p:spPr>
          <a:xfrm>
            <a:off x="0" y="493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Picture 1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7083720" cy="199728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3"/>
          <p:cNvSpPr/>
          <p:nvPr/>
        </p:nvSpPr>
        <p:spPr>
          <a:xfrm>
            <a:off x="0" y="195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6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3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3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3"/>
          <p:cNvSpPr/>
          <p:nvPr/>
        </p:nvSpPr>
        <p:spPr>
          <a:xfrm>
            <a:off x="0" y="493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Picture 1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7454880" cy="2198880"/>
          </a:xfrm>
          <a:prstGeom prst="rect">
            <a:avLst/>
          </a:prstGeom>
          <a:ln w="0">
            <a:noFill/>
          </a:ln>
        </p:spPr>
      </p:pic>
      <p:sp>
        <p:nvSpPr>
          <p:cNvPr id="700" name="Rectangle 3"/>
          <p:cNvSpPr/>
          <p:nvPr/>
        </p:nvSpPr>
        <p:spPr>
          <a:xfrm>
            <a:off x="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6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Picture 1" descr=""/>
          <p:cNvPicPr/>
          <p:nvPr/>
        </p:nvPicPr>
        <p:blipFill>
          <a:blip r:embed="rId1"/>
          <a:stretch/>
        </p:blipFill>
        <p:spPr>
          <a:xfrm>
            <a:off x="593640" y="1916280"/>
            <a:ext cx="7175520" cy="1982520"/>
          </a:xfrm>
          <a:prstGeom prst="rect">
            <a:avLst/>
          </a:prstGeom>
          <a:ln w="0">
            <a:noFill/>
          </a:ln>
        </p:spPr>
      </p:pic>
      <p:sp>
        <p:nvSpPr>
          <p:cNvPr id="714" name="Rectangle 3"/>
          <p:cNvSpPr/>
          <p:nvPr/>
        </p:nvSpPr>
        <p:spPr>
          <a:xfrm>
            <a:off x="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Répons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6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Picture 4" descr=""/>
          <p:cNvPicPr/>
          <p:nvPr/>
        </p:nvPicPr>
        <p:blipFill>
          <a:blip r:embed="rId1"/>
          <a:stretch/>
        </p:blipFill>
        <p:spPr>
          <a:xfrm>
            <a:off x="2700360" y="1773360"/>
            <a:ext cx="3381480" cy="2219040"/>
          </a:xfrm>
          <a:prstGeom prst="rect">
            <a:avLst/>
          </a:prstGeom>
          <a:ln w="0">
            <a:noFill/>
          </a:ln>
        </p:spPr>
      </p:pic>
      <p:sp>
        <p:nvSpPr>
          <p:cNvPr id="731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ogner un rectangle avec un coin diagonal 7"/>
          <p:cNvSpPr/>
          <p:nvPr/>
        </p:nvSpPr>
        <p:spPr>
          <a:xfrm rot="20745000">
            <a:off x="4370040" y="4798800"/>
            <a:ext cx="3143160" cy="1071360"/>
          </a:xfrm>
          <a:prstGeom prst="pie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vr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Picture 1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5410440" cy="2219400"/>
          </a:xfrm>
          <a:prstGeom prst="rect">
            <a:avLst/>
          </a:prstGeom>
          <a:ln w="0">
            <a:noFill/>
          </a:ln>
        </p:spPr>
      </p:pic>
      <p:sp>
        <p:nvSpPr>
          <p:cNvPr id="740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ogner un rectangle avec un coin diagonal 10"/>
          <p:cNvSpPr/>
          <p:nvPr/>
        </p:nvSpPr>
        <p:spPr>
          <a:xfrm rot="702000">
            <a:off x="1299960" y="4818240"/>
            <a:ext cx="3143160" cy="1071360"/>
          </a:xfrm>
          <a:prstGeom prst="pie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00000"/>
                </a:solidFill>
                <a:latin typeface="Calibri"/>
              </a:rPr>
              <a:t>Fau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2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Picture 4" descr=""/>
          <p:cNvPicPr/>
          <p:nvPr/>
        </p:nvPicPr>
        <p:blipFill>
          <a:blip r:embed="rId1"/>
          <a:stretch/>
        </p:blipFill>
        <p:spPr>
          <a:xfrm>
            <a:off x="1785960" y="2214720"/>
            <a:ext cx="4809960" cy="1257120"/>
          </a:xfrm>
          <a:prstGeom prst="rect">
            <a:avLst/>
          </a:prstGeom>
          <a:ln w="0">
            <a:noFill/>
          </a:ln>
        </p:spPr>
      </p:pic>
      <p:sp>
        <p:nvSpPr>
          <p:cNvPr id="753" name="Rectangle 6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ogner un rectangle avec un coin diagonal 14"/>
          <p:cNvSpPr/>
          <p:nvPr/>
        </p:nvSpPr>
        <p:spPr>
          <a:xfrm rot="702000">
            <a:off x="1147320" y="4665600"/>
            <a:ext cx="3143160" cy="1071720"/>
          </a:xfrm>
          <a:prstGeom prst="pie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00000"/>
                </a:solidFill>
                <a:latin typeface="Calibri"/>
              </a:rPr>
              <a:t>Fau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6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Picture 1" descr=""/>
          <p:cNvPicPr/>
          <p:nvPr/>
        </p:nvPicPr>
        <p:blipFill>
          <a:blip r:embed="rId1"/>
          <a:stretch/>
        </p:blipFill>
        <p:spPr>
          <a:xfrm>
            <a:off x="1042920" y="2349360"/>
            <a:ext cx="6229440" cy="1257480"/>
          </a:xfrm>
          <a:prstGeom prst="rect">
            <a:avLst/>
          </a:prstGeom>
          <a:ln w="0">
            <a:noFill/>
          </a:ln>
        </p:spPr>
      </p:pic>
      <p:sp>
        <p:nvSpPr>
          <p:cNvPr id="768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ogner un rectangle avec un coin diagonal 17"/>
          <p:cNvSpPr/>
          <p:nvPr/>
        </p:nvSpPr>
        <p:spPr>
          <a:xfrm rot="20745000">
            <a:off x="4439880" y="4806720"/>
            <a:ext cx="3143160" cy="1071360"/>
          </a:xfrm>
          <a:prstGeom prst="pie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vr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6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Picture 1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5915160" cy="2238480"/>
          </a:xfrm>
          <a:prstGeom prst="rect">
            <a:avLst/>
          </a:prstGeom>
          <a:ln w="0">
            <a:noFill/>
          </a:ln>
        </p:spPr>
      </p:pic>
      <p:sp>
        <p:nvSpPr>
          <p:cNvPr id="785" name="Rectangle 3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ogner un rectangle avec un coin diagonal 22"/>
          <p:cNvSpPr/>
          <p:nvPr/>
        </p:nvSpPr>
        <p:spPr>
          <a:xfrm rot="702000">
            <a:off x="1334880" y="4816440"/>
            <a:ext cx="3143160" cy="1071720"/>
          </a:xfrm>
          <a:prstGeom prst="pie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00000"/>
                </a:solidFill>
                <a:latin typeface="Calibri"/>
              </a:rPr>
              <a:t>Fau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2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0" y="39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4" descr=""/>
          <p:cNvPicPr/>
          <p:nvPr/>
        </p:nvPicPr>
        <p:blipFill>
          <a:blip r:embed="rId1"/>
          <a:stretch/>
        </p:blipFill>
        <p:spPr>
          <a:xfrm>
            <a:off x="1143000" y="2071800"/>
            <a:ext cx="6419880" cy="221904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6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3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Picture 1" descr=""/>
          <p:cNvPicPr/>
          <p:nvPr/>
        </p:nvPicPr>
        <p:blipFill>
          <a:blip r:embed="rId1"/>
          <a:stretch/>
        </p:blipFill>
        <p:spPr>
          <a:xfrm>
            <a:off x="1908000" y="1844640"/>
            <a:ext cx="4800600" cy="2238480"/>
          </a:xfrm>
          <a:prstGeom prst="rect">
            <a:avLst/>
          </a:prstGeom>
          <a:ln w="0">
            <a:noFill/>
          </a:ln>
        </p:spPr>
      </p:pic>
      <p:sp>
        <p:nvSpPr>
          <p:cNvPr id="804" name="Rectangle 3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ogner un rectangle avec un coin diagonal 21"/>
          <p:cNvSpPr/>
          <p:nvPr/>
        </p:nvSpPr>
        <p:spPr>
          <a:xfrm rot="20745000">
            <a:off x="4440240" y="4879440"/>
            <a:ext cx="3143160" cy="1071720"/>
          </a:xfrm>
          <a:prstGeom prst="pie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vr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2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6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3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3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3"/>
          <p:cNvSpPr/>
          <p:nvPr/>
        </p:nvSpPr>
        <p:spPr>
          <a:xfrm>
            <a:off x="0" y="493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Picture 6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6554880" cy="2286000"/>
          </a:xfrm>
          <a:prstGeom prst="rect">
            <a:avLst/>
          </a:prstGeom>
          <a:ln w="0">
            <a:noFill/>
          </a:ln>
        </p:spPr>
      </p:pic>
      <p:sp>
        <p:nvSpPr>
          <p:cNvPr id="828" name="Rogner un rectangle avec un coin diagonal 24"/>
          <p:cNvSpPr/>
          <p:nvPr/>
        </p:nvSpPr>
        <p:spPr>
          <a:xfrm rot="20745000">
            <a:off x="4222800" y="4879440"/>
            <a:ext cx="3143160" cy="1071720"/>
          </a:xfrm>
          <a:prstGeom prst="pie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vr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6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3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3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3"/>
          <p:cNvSpPr/>
          <p:nvPr/>
        </p:nvSpPr>
        <p:spPr>
          <a:xfrm>
            <a:off x="0" y="493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1" name="Picture 1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594920" cy="2141640"/>
          </a:xfrm>
          <a:prstGeom prst="rect">
            <a:avLst/>
          </a:prstGeom>
          <a:ln w="0">
            <a:noFill/>
          </a:ln>
        </p:spPr>
      </p:pic>
      <p:sp>
        <p:nvSpPr>
          <p:cNvPr id="852" name="Rectangle 3"/>
          <p:cNvSpPr/>
          <p:nvPr/>
        </p:nvSpPr>
        <p:spPr>
          <a:xfrm>
            <a:off x="0" y="195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ogner un rectangle avec un coin diagonal 26"/>
          <p:cNvSpPr/>
          <p:nvPr/>
        </p:nvSpPr>
        <p:spPr>
          <a:xfrm rot="702000">
            <a:off x="1191960" y="4673520"/>
            <a:ext cx="3143160" cy="1071720"/>
          </a:xfrm>
          <a:prstGeom prst="pie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00000"/>
                </a:solidFill>
                <a:latin typeface="Calibri"/>
              </a:rPr>
              <a:t>Fau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2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6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3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3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3"/>
          <p:cNvSpPr/>
          <p:nvPr/>
        </p:nvSpPr>
        <p:spPr>
          <a:xfrm>
            <a:off x="0" y="493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6" name="Picture 1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7454880" cy="2197080"/>
          </a:xfrm>
          <a:prstGeom prst="rect">
            <a:avLst/>
          </a:prstGeom>
          <a:ln w="0">
            <a:noFill/>
          </a:ln>
        </p:spPr>
      </p:pic>
      <p:sp>
        <p:nvSpPr>
          <p:cNvPr id="877" name="Rectangle 3"/>
          <p:cNvSpPr/>
          <p:nvPr/>
        </p:nvSpPr>
        <p:spPr>
          <a:xfrm>
            <a:off x="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ogner un rectangle avec un coin diagonal 26"/>
          <p:cNvSpPr/>
          <p:nvPr/>
        </p:nvSpPr>
        <p:spPr>
          <a:xfrm rot="20745000">
            <a:off x="4366800" y="4806720"/>
            <a:ext cx="3143160" cy="1071360"/>
          </a:xfrm>
          <a:prstGeom prst="pie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vr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2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6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1" name="Picture 1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6653160" cy="1838520"/>
          </a:xfrm>
          <a:prstGeom prst="rect">
            <a:avLst/>
          </a:prstGeom>
          <a:ln w="0">
            <a:noFill/>
          </a:ln>
        </p:spPr>
      </p:pic>
      <p:sp>
        <p:nvSpPr>
          <p:cNvPr id="892" name="Rectangle 3"/>
          <p:cNvSpPr/>
          <p:nvPr/>
        </p:nvSpPr>
        <p:spPr>
          <a:xfrm>
            <a:off x="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ogner un rectangle avec un coin diagonal 17"/>
          <p:cNvSpPr/>
          <p:nvPr/>
        </p:nvSpPr>
        <p:spPr>
          <a:xfrm rot="20745000">
            <a:off x="4295520" y="4806720"/>
            <a:ext cx="3143160" cy="1071360"/>
          </a:xfrm>
          <a:prstGeom prst="pie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vr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2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2646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Fi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6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3"/>
          <p:cNvSpPr/>
          <p:nvPr/>
        </p:nvSpPr>
        <p:spPr>
          <a:xfrm>
            <a:off x="0" y="39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4" descr=""/>
          <p:cNvPicPr/>
          <p:nvPr/>
        </p:nvPicPr>
        <p:blipFill>
          <a:blip r:embed="rId1"/>
          <a:stretch/>
        </p:blipFill>
        <p:spPr>
          <a:xfrm>
            <a:off x="1143000" y="2071800"/>
            <a:ext cx="6419880" cy="221904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ogner un rectangle avec un coin diagonal 11"/>
          <p:cNvSpPr/>
          <p:nvPr/>
        </p:nvSpPr>
        <p:spPr>
          <a:xfrm rot="702000">
            <a:off x="1147320" y="4665600"/>
            <a:ext cx="3143160" cy="1071720"/>
          </a:xfrm>
          <a:prstGeom prst="pie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00000"/>
                </a:solidFill>
                <a:latin typeface="Calibri"/>
              </a:rPr>
              <a:t>Fau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4" descr=""/>
          <p:cNvPicPr/>
          <p:nvPr/>
        </p:nvPicPr>
        <p:blipFill>
          <a:blip r:embed="rId1"/>
          <a:stretch/>
        </p:blipFill>
        <p:spPr>
          <a:xfrm>
            <a:off x="2843280" y="1844640"/>
            <a:ext cx="3381480" cy="2219400"/>
          </a:xfrm>
          <a:prstGeom prst="rect">
            <a:avLst/>
          </a:prstGeom>
          <a:ln w="0">
            <a:noFill/>
          </a:ln>
        </p:spPr>
      </p:pic>
      <p:sp>
        <p:nvSpPr>
          <p:cNvPr id="562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1" descr=""/>
          <p:cNvPicPr/>
          <p:nvPr/>
        </p:nvPicPr>
        <p:blipFill>
          <a:blip r:embed="rId1"/>
          <a:stretch/>
        </p:blipFill>
        <p:spPr>
          <a:xfrm>
            <a:off x="1500120" y="1785960"/>
            <a:ext cx="5410440" cy="2219400"/>
          </a:xfrm>
          <a:prstGeom prst="rect">
            <a:avLst/>
          </a:prstGeom>
          <a:ln w="0">
            <a:noFill/>
          </a:ln>
        </p:spPr>
      </p:pic>
      <p:sp>
        <p:nvSpPr>
          <p:cNvPr id="570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4" descr=""/>
          <p:cNvPicPr/>
          <p:nvPr/>
        </p:nvPicPr>
        <p:blipFill>
          <a:blip r:embed="rId1"/>
          <a:stretch/>
        </p:blipFill>
        <p:spPr>
          <a:xfrm>
            <a:off x="1835280" y="2276640"/>
            <a:ext cx="5122800" cy="1339560"/>
          </a:xfrm>
          <a:prstGeom prst="rect">
            <a:avLst/>
          </a:prstGeom>
          <a:ln w="0">
            <a:noFill/>
          </a:ln>
        </p:spPr>
      </p:pic>
      <p:sp>
        <p:nvSpPr>
          <p:cNvPr id="582" name="Rectangle 6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6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1" descr=""/>
          <p:cNvPicPr/>
          <p:nvPr/>
        </p:nvPicPr>
        <p:blipFill>
          <a:blip r:embed="rId1"/>
          <a:stretch/>
        </p:blipFill>
        <p:spPr>
          <a:xfrm>
            <a:off x="1116000" y="2421000"/>
            <a:ext cx="6229440" cy="1257120"/>
          </a:xfrm>
          <a:prstGeom prst="rect">
            <a:avLst/>
          </a:prstGeom>
          <a:ln w="0">
            <a:noFill/>
          </a:ln>
        </p:spPr>
      </p:pic>
      <p:sp>
        <p:nvSpPr>
          <p:cNvPr id="596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6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1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5915160" cy="2238120"/>
          </a:xfrm>
          <a:prstGeom prst="rect">
            <a:avLst/>
          </a:prstGeom>
          <a:ln w="0">
            <a:noFill/>
          </a:ln>
        </p:spPr>
      </p:pic>
      <p:sp>
        <p:nvSpPr>
          <p:cNvPr id="612" name="Rectangle 3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6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3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1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4800600" cy="2238480"/>
          </a:xfrm>
          <a:prstGeom prst="rect">
            <a:avLst/>
          </a:prstGeom>
          <a:ln w="0">
            <a:noFill/>
          </a:ln>
        </p:spPr>
      </p:pic>
      <p:sp>
        <p:nvSpPr>
          <p:cNvPr id="630" name="Rectangle 3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2T13:05:25Z</dcterms:created>
  <dc:creator>User</dc:creator>
  <dc:description/>
  <dc:language>en-US</dc:language>
  <cp:lastModifiedBy>auderi</cp:lastModifiedBy>
  <dcterms:modified xsi:type="dcterms:W3CDTF">2016-07-01T14:46:49Z</dcterms:modified>
  <cp:revision>23</cp:revision>
  <dc:subject/>
  <dc:title>Calcul algébrique</dc:title>
</cp:coreProperties>
</file>