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4FA-9319-4D74-B700-F5135F732E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2125-E2C5-4618-B7EA-29FDF30FAC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62A8-3E1C-4341-AF0F-1FE75FAFE6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A46-26CC-4FF7-A927-CCE520B133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DD6D-CF41-4669-9EC2-A96002EA63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893C-6EED-4A4F-AC5E-40DCC19E5E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6D0-3296-4C15-9869-01EF9BCD0A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42E-93D1-4454-A0D6-8F0D1C2AE4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178-0CF2-4C29-AA2D-D88CBF371E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12BD-4B18-473C-A03F-D5A1877517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CB0-955C-4692-806A-FA4BD900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1E3-B912-4E50-A289-7567B0F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035-46DB-4BDA-9A23-6DA2FB11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C3C-25F4-4CB5-A0B6-9DC674DA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4B1-7F20-43D4-85D4-B231E8E3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3CC-6F44-42DE-8CF9-9619B50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449-6064-4738-9570-5199F5C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62C-CE2C-4B73-8DCB-D5146D5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730-FB41-47F3-AC7F-D12EA00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9E0-DC9B-4770-81A7-99D4418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7F0-3888-4C94-8D16-48978AB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761-7977-44CD-A7EC-F9BE423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D12-6D7C-42CA-8339-F33783816696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EBDE-70D3-4592-97E7-EEDB178CADFE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238640" cy="167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629160" y="1700280"/>
            <a:ext cx="1806480" cy="460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31960" y="2708280"/>
            <a:ext cx="514368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04760" y="2276640"/>
            <a:ext cx="9004320" cy="143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4796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2428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819680" y="1916280"/>
            <a:ext cx="270504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5692680" cy="180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6496200" y="2492280"/>
            <a:ext cx="21081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816200" y="1844640"/>
            <a:ext cx="3619440" cy="3086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84992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5570640" y="2565360"/>
            <a:ext cx="32493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5653080" y="2511360"/>
            <a:ext cx="309564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65240" y="2781360"/>
            <a:ext cx="4551120" cy="1800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81680" y="2781360"/>
            <a:ext cx="3838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1806480" cy="4608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188604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565164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048360" y="2060640"/>
            <a:ext cx="28447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426276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53240" cy="136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943360" y="1916280"/>
            <a:ext cx="2923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5181480" cy="163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987640" y="185580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286240" cy="196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36Z</dcterms:modified>
  <cp:revision>237</cp:revision>
  <dc:subject/>
  <dc:title>Diapositive 0</dc:title>
</cp:coreProperties>
</file>