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E8F2-E4E6-4AD4-8506-1CA04032EE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B9DA-BCE7-411B-868E-F57E93841F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467D-7358-41F5-815A-3D2A5FFE72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11A4-E5BB-4E74-A0D5-62AE7119E5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FB65-2C45-4205-ACB4-C5F5E8535A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1892-DB18-4BC1-85F6-8073293D7A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7014-4500-4A38-A3D8-62B7FA09C8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CB14-66AC-47E1-BA06-4C1490C2BA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72DB-477F-433C-B24B-ED6846DE80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E7C8-7647-42F4-A377-99674345BD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79DC-CF32-4AD9-953F-D1DDA47FDB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4ABE-DBDB-4254-9E10-64595D63F9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0C0-89B6-4FEF-BD39-D9B810D0E0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8531-EDA4-49F0-A141-98967E0262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9D54-C101-4115-900E-815E05CEFD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C5A1-96A0-49A3-A47C-458D0DEC69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6AD6-866C-4369-A192-A526D4C9F8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3F0-391C-460F-915B-85E8B139A2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F07F-D5D2-44CC-98C1-8AEFF7BF96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14AD-A2DF-4FCE-8215-3338EE5665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C21D-997F-4A04-96E7-BAA31C05B6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398D-2989-40E5-9514-63E31CAEC9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DF4-AA28-41C4-A0D0-C0CCFC7A2B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911-8FBF-495D-BCC1-74ECC825AE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C46-02BC-4B7D-A909-A91F2788DC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2C85-9F18-414D-946F-D13550537C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FE4-606D-4DC0-897D-592CAC6B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E51-6463-4CE7-A266-3568E764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AB3-78E7-47A9-AD61-707AE8CD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6FE-968E-4037-9A52-90BA4E49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0F5-B71A-4936-B473-E1019119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104-9817-4FEB-89E7-C8FA8470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B5D-9FDE-4636-9D59-DED32D0F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A39-CB26-406D-A1EB-6CF686DC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3DF-2EFC-4000-83DE-F26CA581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15E-E2C9-4E06-BB33-F8060D21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9AF-B146-4105-8432-10BC5EE8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E49-E6E1-4002-8798-DF0655E2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9313-F4A6-4A46-8A0A-6CDEBDA9ECB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7911-8663-4915-A78E-891BB88E8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2 ET 2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9"/>
              <p:cNvSpPr txBox="1"/>
              <p:nvPr/>
            </p:nvSpPr>
            <p:spPr>
              <a:xfrm>
                <a:off x="760320" y="2654280"/>
                <a:ext cx="30528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9"/>
              <p:cNvSpPr txBox="1"/>
              <p:nvPr/>
            </p:nvSpPr>
            <p:spPr>
              <a:xfrm>
                <a:off x="5330880" y="2654280"/>
                <a:ext cx="312876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9"/>
              <p:cNvSpPr txBox="1"/>
              <p:nvPr/>
            </p:nvSpPr>
            <p:spPr>
              <a:xfrm>
                <a:off x="349200" y="2781360"/>
                <a:ext cx="38163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9"/>
              <p:cNvSpPr txBox="1"/>
              <p:nvPr/>
            </p:nvSpPr>
            <p:spPr>
              <a:xfrm>
                <a:off x="4941720" y="2781360"/>
                <a:ext cx="389124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324000" y="2770200"/>
                <a:ext cx="3911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4772160" y="2770200"/>
                <a:ext cx="4192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39"/>
              <p:cNvSpPr txBox="1"/>
              <p:nvPr/>
            </p:nvSpPr>
            <p:spPr>
              <a:xfrm>
                <a:off x="509436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9"/>
              <p:cNvSpPr txBox="1"/>
              <p:nvPr/>
            </p:nvSpPr>
            <p:spPr>
              <a:xfrm>
                <a:off x="1312920" y="3537000"/>
                <a:ext cx="1890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358920" y="2516040"/>
                <a:ext cx="3933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4954680" y="2492280"/>
                <a:ext cx="3822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5950080" y="3500280"/>
                <a:ext cx="18334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9"/>
              <p:cNvSpPr txBox="1"/>
              <p:nvPr/>
            </p:nvSpPr>
            <p:spPr>
              <a:xfrm>
                <a:off x="826920" y="3278160"/>
                <a:ext cx="2741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5516640" y="3276720"/>
                <a:ext cx="2800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179280" y="2421000"/>
                <a:ext cx="4203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9"/>
              <p:cNvSpPr txBox="1"/>
              <p:nvPr/>
            </p:nvSpPr>
            <p:spPr>
              <a:xfrm>
                <a:off x="4759200" y="2428920"/>
                <a:ext cx="42656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9"/>
              <p:cNvSpPr txBox="1"/>
              <p:nvPr/>
            </p:nvSpPr>
            <p:spPr>
              <a:xfrm>
                <a:off x="1380960" y="3525840"/>
                <a:ext cx="1673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5888160" y="3486240"/>
                <a:ext cx="1674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9"/>
              <p:cNvSpPr txBox="1"/>
              <p:nvPr/>
            </p:nvSpPr>
            <p:spPr>
              <a:xfrm>
                <a:off x="311040" y="2349360"/>
                <a:ext cx="39052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9"/>
              <p:cNvSpPr txBox="1"/>
              <p:nvPr/>
            </p:nvSpPr>
            <p:spPr>
              <a:xfrm>
                <a:off x="4941720" y="2381400"/>
                <a:ext cx="39024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9"/>
              <p:cNvSpPr txBox="1"/>
              <p:nvPr/>
            </p:nvSpPr>
            <p:spPr>
              <a:xfrm>
                <a:off x="1042920" y="3238560"/>
                <a:ext cx="23605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9"/>
              <p:cNvSpPr txBox="1"/>
              <p:nvPr/>
            </p:nvSpPr>
            <p:spPr>
              <a:xfrm>
                <a:off x="5716440" y="3206880"/>
                <a:ext cx="2365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9"/>
              <p:cNvSpPr txBox="1"/>
              <p:nvPr/>
            </p:nvSpPr>
            <p:spPr>
              <a:xfrm>
                <a:off x="463680" y="227664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9"/>
              <p:cNvSpPr txBox="1"/>
              <p:nvPr/>
            </p:nvSpPr>
            <p:spPr>
              <a:xfrm>
                <a:off x="5132520" y="2276640"/>
                <a:ext cx="35100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5322960" y="2278080"/>
                <a:ext cx="3128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9"/>
              <p:cNvSpPr txBox="1"/>
              <p:nvPr/>
            </p:nvSpPr>
            <p:spPr>
              <a:xfrm>
                <a:off x="1042920" y="3206880"/>
                <a:ext cx="23605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9"/>
              <p:cNvSpPr txBox="1"/>
              <p:nvPr/>
            </p:nvSpPr>
            <p:spPr>
              <a:xfrm>
                <a:off x="5583240" y="3238560"/>
                <a:ext cx="25178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alculer et donner le résultat sous une forme la plus simple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9"/>
              <p:cNvSpPr txBox="1"/>
              <p:nvPr/>
            </p:nvSpPr>
            <p:spPr>
              <a:xfrm>
                <a:off x="1504800" y="3595680"/>
                <a:ext cx="13734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9"/>
              <p:cNvSpPr txBox="1"/>
              <p:nvPr/>
            </p:nvSpPr>
            <p:spPr>
              <a:xfrm>
                <a:off x="5219640" y="3159000"/>
                <a:ext cx="33498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9"/>
              <p:cNvSpPr txBox="1"/>
              <p:nvPr/>
            </p:nvSpPr>
            <p:spPr>
              <a:xfrm>
                <a:off x="5322960" y="2278080"/>
                <a:ext cx="3128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9"/>
              <p:cNvSpPr txBox="1"/>
              <p:nvPr/>
            </p:nvSpPr>
            <p:spPr>
              <a:xfrm>
                <a:off x="704880" y="3421080"/>
                <a:ext cx="32702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9"/>
              <p:cNvSpPr txBox="1"/>
              <p:nvPr/>
            </p:nvSpPr>
            <p:spPr>
              <a:xfrm>
                <a:off x="824040" y="2276640"/>
                <a:ext cx="30528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9"/>
              <p:cNvSpPr txBox="1"/>
              <p:nvPr/>
            </p:nvSpPr>
            <p:spPr>
              <a:xfrm>
                <a:off x="5076720" y="3465360"/>
                <a:ext cx="3573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9"/>
              <p:cNvSpPr txBox="1"/>
              <p:nvPr/>
            </p:nvSpPr>
            <p:spPr>
              <a:xfrm>
                <a:off x="5346720" y="2278080"/>
                <a:ext cx="312912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9"/>
              <p:cNvSpPr txBox="1"/>
              <p:nvPr/>
            </p:nvSpPr>
            <p:spPr>
              <a:xfrm>
                <a:off x="1459080" y="3429000"/>
                <a:ext cx="1755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6012000" y="3357720"/>
                <a:ext cx="1755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9"/>
              <p:cNvSpPr txBox="1"/>
              <p:nvPr/>
            </p:nvSpPr>
            <p:spPr>
              <a:xfrm>
                <a:off x="349200" y="2278080"/>
                <a:ext cx="3816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4941720" y="2278080"/>
                <a:ext cx="38912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9"/>
              <p:cNvSpPr txBox="1"/>
              <p:nvPr/>
            </p:nvSpPr>
            <p:spPr>
              <a:xfrm>
                <a:off x="1090440" y="3481560"/>
                <a:ext cx="19926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5818320" y="3449520"/>
                <a:ext cx="19936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372960" y="2421000"/>
                <a:ext cx="3930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4772160" y="2421000"/>
                <a:ext cx="4192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9"/>
              <p:cNvSpPr txBox="1"/>
              <p:nvPr/>
            </p:nvSpPr>
            <p:spPr>
              <a:xfrm>
                <a:off x="1619280" y="3314880"/>
                <a:ext cx="1158840" cy="17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39"/>
              <p:cNvSpPr txBox="1"/>
              <p:nvPr/>
            </p:nvSpPr>
            <p:spPr>
              <a:xfrm>
                <a:off x="6289560" y="3716280"/>
                <a:ext cx="1094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9"/>
              <p:cNvSpPr txBox="1"/>
              <p:nvPr/>
            </p:nvSpPr>
            <p:spPr>
              <a:xfrm>
                <a:off x="509436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395280" y="1208160"/>
                <a:ext cx="40784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9"/>
              <p:cNvSpPr txBox="1"/>
              <p:nvPr/>
            </p:nvSpPr>
            <p:spPr>
              <a:xfrm>
                <a:off x="2235240" y="1989000"/>
                <a:ext cx="54370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2230560" y="2865600"/>
                <a:ext cx="28764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2732040" y="4233960"/>
                <a:ext cx="41576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9"/>
              <p:cNvSpPr txBox="1"/>
              <p:nvPr/>
            </p:nvSpPr>
            <p:spPr>
              <a:xfrm>
                <a:off x="4572000" y="5313240"/>
                <a:ext cx="24796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" name="Titre 1"/>
          <p:cNvSpPr/>
          <p:nvPr/>
        </p:nvSpPr>
        <p:spPr>
          <a:xfrm>
            <a:off x="2556000" y="4149720"/>
            <a:ext cx="5761080" cy="259236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358920" y="2852640"/>
                <a:ext cx="3914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4954680" y="2828880"/>
                <a:ext cx="38145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9"/>
              <p:cNvSpPr txBox="1"/>
              <p:nvPr/>
            </p:nvSpPr>
            <p:spPr>
              <a:xfrm>
                <a:off x="179280" y="2844720"/>
                <a:ext cx="4208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9"/>
              <p:cNvSpPr txBox="1"/>
              <p:nvPr/>
            </p:nvSpPr>
            <p:spPr>
              <a:xfrm>
                <a:off x="4759200" y="2852640"/>
                <a:ext cx="4265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9"/>
              <p:cNvSpPr txBox="1"/>
              <p:nvPr/>
            </p:nvSpPr>
            <p:spPr>
              <a:xfrm>
                <a:off x="311040" y="2781360"/>
                <a:ext cx="38926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4941720" y="2813040"/>
                <a:ext cx="38912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5132520" y="2781360"/>
                <a:ext cx="35100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9"/>
              <p:cNvSpPr txBox="1"/>
              <p:nvPr/>
            </p:nvSpPr>
            <p:spPr>
              <a:xfrm>
                <a:off x="5322960" y="2781360"/>
                <a:ext cx="31287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5322960" y="2781360"/>
                <a:ext cx="31287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35:54Z</dcterms:modified>
  <cp:revision>244</cp:revision>
  <dc:subject/>
  <dc:title>Diapositive 0</dc:title>
</cp:coreProperties>
</file>