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503-7A0E-4827-8CDC-D4E6BBC0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346-0A67-455B-996E-D10B9627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49E-D7C3-4F4E-AE68-A6DFA3C9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490-8EE4-4916-B480-244BAFDF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750-F3D9-4369-A323-26FCBDF2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5A5-F660-4260-91AA-F6822070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8EA-216F-494A-AB6A-4F3945FF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06E-D7ED-45B2-98EB-7E15FB76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F84-E86E-4EEF-8D7C-6BBE35FC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4E6-7C04-45A8-AE08-80FD6405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1BB-5030-48B3-8480-745E7403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C83-79D1-441E-9C85-3923DB0D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644C-ECD1-43E0-963A-400FB4BBA55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FACTORISÉE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SÉRIE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7920" y="5013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t 2"/>
              <p:cNvSpPr txBox="1"/>
              <p:nvPr/>
            </p:nvSpPr>
            <p:spPr>
              <a:xfrm>
                <a:off x="3046320" y="2563920"/>
                <a:ext cx="26780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t 2"/>
              <p:cNvSpPr txBox="1"/>
              <p:nvPr/>
            </p:nvSpPr>
            <p:spPr>
              <a:xfrm>
                <a:off x="1908000" y="2708280"/>
                <a:ext cx="5135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t 2"/>
              <p:cNvSpPr txBox="1"/>
              <p:nvPr/>
            </p:nvSpPr>
            <p:spPr>
              <a:xfrm>
                <a:off x="1887480" y="2789280"/>
                <a:ext cx="5276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t 2"/>
              <p:cNvSpPr txBox="1"/>
              <p:nvPr/>
            </p:nvSpPr>
            <p:spPr>
              <a:xfrm>
                <a:off x="1360440" y="2852640"/>
                <a:ext cx="67406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Flèche droite rayée 4"/>
          <p:cNvSpPr/>
          <p:nvPr/>
        </p:nvSpPr>
        <p:spPr>
          <a:xfrm rot="10800000">
            <a:off x="3142800" y="392868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èche droite rayée 7"/>
          <p:cNvSpPr/>
          <p:nvPr/>
        </p:nvSpPr>
        <p:spPr>
          <a:xfrm rot="2838000">
            <a:off x="4258800" y="2951280"/>
            <a:ext cx="1884600" cy="169560"/>
          </a:xfrm>
          <a:custGeom>
            <a:avLst/>
            <a:gdLst/>
            <a:ahLst/>
            <a:rect l="l" t="t" r="r" b="b"/>
            <a:pathLst>
              <a:path w="1884362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1" y="42466"/>
                </a:lnTo>
                <a:lnTo>
                  <a:pt x="1799431" y="0"/>
                </a:lnTo>
                <a:lnTo>
                  <a:pt x="1884362" y="84931"/>
                </a:lnTo>
                <a:lnTo>
                  <a:pt x="1799431" y="169862"/>
                </a:lnTo>
                <a:lnTo>
                  <a:pt x="1799431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t 1"/>
              <p:cNvSpPr txBox="1"/>
              <p:nvPr/>
            </p:nvSpPr>
            <p:spPr>
              <a:xfrm>
                <a:off x="1836720" y="1268280"/>
                <a:ext cx="5113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t 2"/>
              <p:cNvSpPr txBox="1"/>
              <p:nvPr/>
            </p:nvSpPr>
            <p:spPr>
              <a:xfrm>
                <a:off x="4284720" y="3789360"/>
                <a:ext cx="2374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t 11"/>
              <p:cNvSpPr txBox="1"/>
              <p:nvPr/>
            </p:nvSpPr>
            <p:spPr>
              <a:xfrm>
                <a:off x="1692360" y="3716280"/>
                <a:ext cx="1079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èche droite rayée 7"/>
          <p:cNvSpPr/>
          <p:nvPr/>
        </p:nvSpPr>
        <p:spPr>
          <a:xfrm rot="7493400">
            <a:off x="22384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2"/>
                </a:lnTo>
                <a:lnTo>
                  <a:pt x="1799432" y="169863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t 1"/>
              <p:cNvSpPr txBox="1"/>
              <p:nvPr/>
            </p:nvSpPr>
            <p:spPr>
              <a:xfrm>
                <a:off x="2843280" y="1052640"/>
                <a:ext cx="3168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t 2"/>
              <p:cNvSpPr txBox="1"/>
              <p:nvPr/>
            </p:nvSpPr>
            <p:spPr>
              <a:xfrm>
                <a:off x="1547640" y="3716280"/>
                <a:ext cx="13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t 9"/>
              <p:cNvSpPr txBox="1"/>
              <p:nvPr/>
            </p:nvSpPr>
            <p:spPr>
              <a:xfrm>
                <a:off x="4743360" y="3789360"/>
                <a:ext cx="1514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èche droite rayée 7"/>
          <p:cNvSpPr/>
          <p:nvPr/>
        </p:nvSpPr>
        <p:spPr>
          <a:xfrm rot="7493400">
            <a:off x="24526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1"/>
                </a:lnTo>
                <a:lnTo>
                  <a:pt x="1799432" y="169862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t 8"/>
              <p:cNvSpPr txBox="1"/>
              <p:nvPr/>
            </p:nvSpPr>
            <p:spPr>
              <a:xfrm>
                <a:off x="2268360" y="1052640"/>
                <a:ext cx="4341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t 10"/>
              <p:cNvSpPr txBox="1"/>
              <p:nvPr/>
            </p:nvSpPr>
            <p:spPr>
              <a:xfrm>
                <a:off x="1116000" y="3716280"/>
                <a:ext cx="1876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Flèche droite rayée 9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èche droite rayée 12"/>
          <p:cNvSpPr/>
          <p:nvPr/>
        </p:nvSpPr>
        <p:spPr>
          <a:xfrm rot="7493400">
            <a:off x="22384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2"/>
                </a:lnTo>
                <a:lnTo>
                  <a:pt x="1799432" y="169863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ensées 14"/>
          <p:cNvSpPr/>
          <p:nvPr/>
        </p:nvSpPr>
        <p:spPr>
          <a:xfrm>
            <a:off x="1643040" y="4572000"/>
            <a:ext cx="2571840" cy="1000080"/>
          </a:xfrm>
          <a:prstGeom prst="cloudCallout">
            <a:avLst>
              <a:gd name="adj1" fmla="val -25824"/>
              <a:gd name="adj2" fmla="val -7679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t 1"/>
              <p:cNvSpPr txBox="1"/>
              <p:nvPr/>
            </p:nvSpPr>
            <p:spPr>
              <a:xfrm>
                <a:off x="2967120" y="1052640"/>
                <a:ext cx="31176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t 3"/>
              <p:cNvSpPr txBox="1"/>
              <p:nvPr/>
            </p:nvSpPr>
            <p:spPr>
              <a:xfrm>
                <a:off x="1525680" y="3716280"/>
                <a:ext cx="1305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t 5"/>
              <p:cNvSpPr txBox="1"/>
              <p:nvPr/>
            </p:nvSpPr>
            <p:spPr>
              <a:xfrm>
                <a:off x="4230720" y="3789360"/>
                <a:ext cx="2286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t 7"/>
              <p:cNvSpPr txBox="1"/>
              <p:nvPr/>
            </p:nvSpPr>
            <p:spPr>
              <a:xfrm>
                <a:off x="2124000" y="4762440"/>
                <a:ext cx="1362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Flèche droite rayée 8"/>
          <p:cNvSpPr/>
          <p:nvPr/>
        </p:nvSpPr>
        <p:spPr>
          <a:xfrm rot="10800000">
            <a:off x="3142800" y="392868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rayée 11"/>
          <p:cNvSpPr/>
          <p:nvPr/>
        </p:nvSpPr>
        <p:spPr>
          <a:xfrm rot="3875400">
            <a:off x="3732840" y="2827800"/>
            <a:ext cx="1679760" cy="223920"/>
          </a:xfrm>
          <a:custGeom>
            <a:avLst/>
            <a:gdLst/>
            <a:ahLst/>
            <a:rect l="l" t="t" r="r" b="b"/>
            <a:pathLst>
              <a:path w="1679575" h="223838">
                <a:moveTo>
                  <a:pt x="0" y="55960"/>
                </a:moveTo>
                <a:lnTo>
                  <a:pt x="6995" y="55960"/>
                </a:lnTo>
                <a:lnTo>
                  <a:pt x="6995" y="167879"/>
                </a:lnTo>
                <a:lnTo>
                  <a:pt x="0" y="167879"/>
                </a:lnTo>
                <a:lnTo>
                  <a:pt x="0" y="55960"/>
                </a:lnTo>
                <a:close/>
                <a:moveTo>
                  <a:pt x="13990" y="55960"/>
                </a:moveTo>
                <a:lnTo>
                  <a:pt x="27980" y="55960"/>
                </a:lnTo>
                <a:lnTo>
                  <a:pt x="27980" y="167879"/>
                </a:lnTo>
                <a:lnTo>
                  <a:pt x="13990" y="167879"/>
                </a:lnTo>
                <a:lnTo>
                  <a:pt x="13990" y="55960"/>
                </a:lnTo>
                <a:close/>
                <a:moveTo>
                  <a:pt x="34975" y="55960"/>
                </a:moveTo>
                <a:lnTo>
                  <a:pt x="1567656" y="55960"/>
                </a:lnTo>
                <a:lnTo>
                  <a:pt x="1567656" y="0"/>
                </a:lnTo>
                <a:lnTo>
                  <a:pt x="1679575" y="111919"/>
                </a:lnTo>
                <a:lnTo>
                  <a:pt x="1567656" y="223838"/>
                </a:lnTo>
                <a:lnTo>
                  <a:pt x="1567656" y="167879"/>
                </a:lnTo>
                <a:lnTo>
                  <a:pt x="34975" y="167879"/>
                </a:lnTo>
                <a:lnTo>
                  <a:pt x="34975" y="5596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t 2"/>
              <p:cNvSpPr txBox="1"/>
              <p:nvPr/>
            </p:nvSpPr>
            <p:spPr>
              <a:xfrm>
                <a:off x="4619520" y="3716280"/>
                <a:ext cx="1285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t 4"/>
              <p:cNvSpPr txBox="1"/>
              <p:nvPr/>
            </p:nvSpPr>
            <p:spPr>
              <a:xfrm>
                <a:off x="1042920" y="3716280"/>
                <a:ext cx="19051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t 5"/>
              <p:cNvSpPr txBox="1"/>
              <p:nvPr/>
            </p:nvSpPr>
            <p:spPr>
              <a:xfrm>
                <a:off x="2987640" y="1052640"/>
                <a:ext cx="29653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214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cune des expressions projetées, l’inscrire dans la colonne qui lui correspond et compléter la forme manquante lorsque cela est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57120" y="1000080"/>
          <a:ext cx="8215560" cy="1101600"/>
        </p:xfrm>
        <a:graphic>
          <a:graphicData uri="http://schemas.openxmlformats.org/drawingml/2006/table">
            <a:tbl>
              <a:tblPr/>
              <a:tblGrid>
                <a:gridCol w="433440"/>
                <a:gridCol w="3495600"/>
                <a:gridCol w="2301840"/>
                <a:gridCol w="198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ZoneTexte 6"/>
          <p:cNvSpPr/>
          <p:nvPr/>
        </p:nvSpPr>
        <p:spPr>
          <a:xfrm>
            <a:off x="357120" y="357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disposez d’un tableau comme celui-ci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7"/>
          <p:cNvSpPr/>
          <p:nvPr/>
        </p:nvSpPr>
        <p:spPr>
          <a:xfrm>
            <a:off x="500040" y="457200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 l’expression ne vous semble ni développée, ni factorisée, l’inscrire dans la colonne de droite et compléter alors, si possible, les 2 premières colon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2428920"/>
                <a:gridCol w="26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lèche droite rayée 7"/>
          <p:cNvSpPr/>
          <p:nvPr/>
        </p:nvSpPr>
        <p:spPr>
          <a:xfrm rot="2251200">
            <a:off x="4844520" y="2852640"/>
            <a:ext cx="2408400" cy="204840"/>
          </a:xfrm>
          <a:custGeom>
            <a:avLst/>
            <a:gdLst/>
            <a:ahLst/>
            <a:rect l="l" t="t" r="r" b="b"/>
            <a:pathLst>
              <a:path w="2408662" h="203395">
                <a:moveTo>
                  <a:pt x="0" y="50849"/>
                </a:moveTo>
                <a:lnTo>
                  <a:pt x="6356" y="50849"/>
                </a:lnTo>
                <a:lnTo>
                  <a:pt x="6356" y="152546"/>
                </a:lnTo>
                <a:lnTo>
                  <a:pt x="0" y="152546"/>
                </a:lnTo>
                <a:lnTo>
                  <a:pt x="0" y="50849"/>
                </a:lnTo>
                <a:close/>
                <a:moveTo>
                  <a:pt x="12712" y="50849"/>
                </a:moveTo>
                <a:lnTo>
                  <a:pt x="25424" y="50849"/>
                </a:lnTo>
                <a:lnTo>
                  <a:pt x="25424" y="152546"/>
                </a:lnTo>
                <a:lnTo>
                  <a:pt x="12712" y="152546"/>
                </a:lnTo>
                <a:lnTo>
                  <a:pt x="12712" y="50849"/>
                </a:lnTo>
                <a:close/>
                <a:moveTo>
                  <a:pt x="31780" y="50849"/>
                </a:moveTo>
                <a:lnTo>
                  <a:pt x="2306965" y="50849"/>
                </a:lnTo>
                <a:lnTo>
                  <a:pt x="2306965" y="0"/>
                </a:lnTo>
                <a:lnTo>
                  <a:pt x="2408662" y="101698"/>
                </a:lnTo>
                <a:lnTo>
                  <a:pt x="2306965" y="203395"/>
                </a:lnTo>
                <a:lnTo>
                  <a:pt x="2306965" y="152546"/>
                </a:lnTo>
                <a:lnTo>
                  <a:pt x="31780" y="152546"/>
                </a:lnTo>
                <a:lnTo>
                  <a:pt x="31780" y="5084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lèche courbée vers le bas 11"/>
          <p:cNvSpPr/>
          <p:nvPr/>
        </p:nvSpPr>
        <p:spPr>
          <a:xfrm rot="10800000">
            <a:off x="2357280" y="4357440"/>
            <a:ext cx="5214960" cy="928440"/>
          </a:xfrm>
          <a:custGeom>
            <a:avLst/>
            <a:gdLst>
              <a:gd name="textAreaLeft" fmla="*/ 1216440 w 5214960"/>
              <a:gd name="textAreaRight" fmla="*/ 3882240 w 5214960"/>
              <a:gd name="textAreaTop" fmla="*/ 124200 h 928440"/>
              <a:gd name="textAreaBottom" fmla="*/ 8042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79" hR="21600" stAng="10800000" swAng="5400000"/>
                <a:lnTo>
                  <a:pt x="11040" y="0"/>
                </a:lnTo>
                <a:arcTo wR="10079" hR="21600" stAng="-5400000" swAng="3662554"/>
                <a:lnTo>
                  <a:pt x="21280" y="16200"/>
                </a:lnTo>
                <a:lnTo>
                  <a:pt x="20639" y="21600"/>
                </a:lnTo>
                <a:lnTo>
                  <a:pt x="19357" y="16200"/>
                </a:lnTo>
                <a:lnTo>
                  <a:pt x="19838" y="16200"/>
                </a:lnTo>
                <a:arcTo wR="10079" hR="21600" stAng="-1737446" swAng="-3586006"/>
                <a:lnTo>
                  <a:pt x="10560" y="25"/>
                </a:lnTo>
                <a:arcTo wR="10079" hR="21600" stAng="-5476548" swAng="-5323452"/>
                <a:close/>
              </a:path>
              <a:path fill="darkenLess" w="21600" h="21600">
                <a:moveTo>
                  <a:pt x="0" y="21600"/>
                </a:moveTo>
                <a:arcTo wR="10079" hR="21600" stAng="10800000" swAng="5400000"/>
                <a:lnTo>
                  <a:pt x="10079" y="0"/>
                </a:lnTo>
                <a:arcTo wR="10079" hR="21600" stAng="-5400000" swAng="76548"/>
                <a:lnTo>
                  <a:pt x="10560" y="25"/>
                </a:lnTo>
                <a:arcTo wR="10079" hR="21600" stAng="-5476548" swAng="-532345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t 2"/>
              <p:cNvSpPr txBox="1"/>
              <p:nvPr/>
            </p:nvSpPr>
            <p:spPr>
              <a:xfrm>
                <a:off x="6257880" y="3716280"/>
                <a:ext cx="2200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t 8"/>
              <p:cNvSpPr txBox="1"/>
              <p:nvPr/>
            </p:nvSpPr>
            <p:spPr>
              <a:xfrm>
                <a:off x="2124000" y="1052640"/>
                <a:ext cx="50738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t 12"/>
              <p:cNvSpPr txBox="1"/>
              <p:nvPr/>
            </p:nvSpPr>
            <p:spPr>
              <a:xfrm>
                <a:off x="4211640" y="3716280"/>
                <a:ext cx="1285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t 14"/>
              <p:cNvSpPr txBox="1"/>
              <p:nvPr/>
            </p:nvSpPr>
            <p:spPr>
              <a:xfrm>
                <a:off x="1042920" y="3716280"/>
                <a:ext cx="18954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èche droite rayée 7"/>
          <p:cNvSpPr/>
          <p:nvPr/>
        </p:nvSpPr>
        <p:spPr>
          <a:xfrm rot="7695600">
            <a:off x="2405160" y="2936520"/>
            <a:ext cx="1884240" cy="169920"/>
          </a:xfrm>
          <a:custGeom>
            <a:avLst/>
            <a:gdLst/>
            <a:ahLst/>
            <a:rect l="l" t="t" r="r" b="b"/>
            <a:pathLst>
              <a:path w="1884363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1"/>
                </a:lnTo>
                <a:lnTo>
                  <a:pt x="1799432" y="169862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t 2"/>
              <p:cNvSpPr txBox="1"/>
              <p:nvPr/>
            </p:nvSpPr>
            <p:spPr>
              <a:xfrm>
                <a:off x="1547640" y="3716280"/>
                <a:ext cx="1019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t 8"/>
              <p:cNvSpPr txBox="1"/>
              <p:nvPr/>
            </p:nvSpPr>
            <p:spPr>
              <a:xfrm>
                <a:off x="3046320" y="1050840"/>
                <a:ext cx="26780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924280"/>
                <a:gridCol w="2786040"/>
                <a:gridCol w="20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Flèche droite rayée 4"/>
          <p:cNvSpPr/>
          <p:nvPr/>
        </p:nvSpPr>
        <p:spPr>
          <a:xfrm>
            <a:off x="350028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lèche droite rayée 6"/>
          <p:cNvSpPr/>
          <p:nvPr/>
        </p:nvSpPr>
        <p:spPr>
          <a:xfrm rot="7493400">
            <a:off x="22384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2"/>
                </a:lnTo>
                <a:lnTo>
                  <a:pt x="1799432" y="169863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sées 8"/>
          <p:cNvSpPr/>
          <p:nvPr/>
        </p:nvSpPr>
        <p:spPr>
          <a:xfrm>
            <a:off x="1763640" y="4572000"/>
            <a:ext cx="3786120" cy="1214280"/>
          </a:xfrm>
          <a:prstGeom prst="cloudCallout">
            <a:avLst>
              <a:gd name="adj1" fmla="val -25824"/>
              <a:gd name="adj2" fmla="val -7679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t 2"/>
              <p:cNvSpPr txBox="1"/>
              <p:nvPr/>
            </p:nvSpPr>
            <p:spPr>
              <a:xfrm>
                <a:off x="1042920" y="3716280"/>
                <a:ext cx="22194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t 10"/>
              <p:cNvSpPr txBox="1"/>
              <p:nvPr/>
            </p:nvSpPr>
            <p:spPr>
              <a:xfrm>
                <a:off x="1908000" y="1052640"/>
                <a:ext cx="5135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t 12"/>
              <p:cNvSpPr txBox="1"/>
              <p:nvPr/>
            </p:nvSpPr>
            <p:spPr>
              <a:xfrm>
                <a:off x="4557600" y="3716280"/>
                <a:ext cx="1629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t 18"/>
              <p:cNvSpPr txBox="1"/>
              <p:nvPr/>
            </p:nvSpPr>
            <p:spPr>
              <a:xfrm>
                <a:off x="1908000" y="4873680"/>
                <a:ext cx="2867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Flèche droite rayée 4"/>
          <p:cNvSpPr/>
          <p:nvPr/>
        </p:nvSpPr>
        <p:spPr>
          <a:xfrm rot="10800000">
            <a:off x="3142800" y="392868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èche droite rayée 6"/>
          <p:cNvSpPr/>
          <p:nvPr/>
        </p:nvSpPr>
        <p:spPr>
          <a:xfrm rot="3528000">
            <a:off x="4048200" y="2836440"/>
            <a:ext cx="1884240" cy="169920"/>
          </a:xfrm>
          <a:custGeom>
            <a:avLst/>
            <a:gdLst/>
            <a:ahLst/>
            <a:rect l="l" t="t" r="r" b="b"/>
            <a:pathLst>
              <a:path w="1884362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1" y="42466"/>
                </a:lnTo>
                <a:lnTo>
                  <a:pt x="1799431" y="0"/>
                </a:lnTo>
                <a:lnTo>
                  <a:pt x="1884362" y="84932"/>
                </a:lnTo>
                <a:lnTo>
                  <a:pt x="1799431" y="169863"/>
                </a:lnTo>
                <a:lnTo>
                  <a:pt x="1799431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ensées 8"/>
          <p:cNvSpPr/>
          <p:nvPr/>
        </p:nvSpPr>
        <p:spPr>
          <a:xfrm>
            <a:off x="3143160" y="4714920"/>
            <a:ext cx="3786120" cy="1357200"/>
          </a:xfrm>
          <a:prstGeom prst="cloudCallout">
            <a:avLst>
              <a:gd name="adj1" fmla="val 15578"/>
              <a:gd name="adj2" fmla="val -7575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t 2"/>
              <p:cNvSpPr txBox="1"/>
              <p:nvPr/>
            </p:nvSpPr>
            <p:spPr>
              <a:xfrm>
                <a:off x="4357800" y="3789360"/>
                <a:ext cx="2286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t 11"/>
              <p:cNvSpPr txBox="1"/>
              <p:nvPr/>
            </p:nvSpPr>
            <p:spPr>
              <a:xfrm>
                <a:off x="1697040" y="3716280"/>
                <a:ext cx="96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t 13"/>
              <p:cNvSpPr txBox="1"/>
              <p:nvPr/>
            </p:nvSpPr>
            <p:spPr>
              <a:xfrm>
                <a:off x="3492360" y="5145120"/>
                <a:ext cx="2638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t 5"/>
              <p:cNvSpPr txBox="1"/>
              <p:nvPr/>
            </p:nvSpPr>
            <p:spPr>
              <a:xfrm>
                <a:off x="1887480" y="1204920"/>
                <a:ext cx="5276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Objet 9"/>
              <p:cNvSpPr txBox="1"/>
              <p:nvPr/>
            </p:nvSpPr>
            <p:spPr>
              <a:xfrm>
                <a:off x="3995640" y="4976640"/>
                <a:ext cx="3368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23920" y="1079640"/>
                <a:ext cx="89200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4200" y="3000240"/>
          <a:ext cx="8643960" cy="1341720"/>
        </p:xfrm>
        <a:graphic>
          <a:graphicData uri="http://schemas.openxmlformats.org/drawingml/2006/table">
            <a:tbl>
              <a:tblPr/>
              <a:tblGrid>
                <a:gridCol w="455760"/>
                <a:gridCol w="2259000"/>
                <a:gridCol w="2571840"/>
                <a:gridCol w="3357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Flèche droite rayée 12"/>
          <p:cNvSpPr/>
          <p:nvPr/>
        </p:nvSpPr>
        <p:spPr>
          <a:xfrm rot="1864800">
            <a:off x="4508640" y="2889360"/>
            <a:ext cx="2673360" cy="218880"/>
          </a:xfrm>
          <a:custGeom>
            <a:avLst/>
            <a:gdLst/>
            <a:ahLst/>
            <a:rect l="l" t="t" r="r" b="b"/>
            <a:pathLst>
              <a:path w="2673350" h="219075">
                <a:moveTo>
                  <a:pt x="0" y="54769"/>
                </a:moveTo>
                <a:lnTo>
                  <a:pt x="6846" y="54769"/>
                </a:lnTo>
                <a:lnTo>
                  <a:pt x="6846" y="164306"/>
                </a:lnTo>
                <a:lnTo>
                  <a:pt x="0" y="164306"/>
                </a:lnTo>
                <a:lnTo>
                  <a:pt x="0" y="54769"/>
                </a:lnTo>
                <a:close/>
                <a:moveTo>
                  <a:pt x="13692" y="54769"/>
                </a:moveTo>
                <a:lnTo>
                  <a:pt x="27384" y="54769"/>
                </a:lnTo>
                <a:lnTo>
                  <a:pt x="27384" y="164306"/>
                </a:lnTo>
                <a:lnTo>
                  <a:pt x="13692" y="164306"/>
                </a:lnTo>
                <a:lnTo>
                  <a:pt x="13692" y="54769"/>
                </a:lnTo>
                <a:close/>
                <a:moveTo>
                  <a:pt x="34230" y="54769"/>
                </a:moveTo>
                <a:lnTo>
                  <a:pt x="2563813" y="54769"/>
                </a:lnTo>
                <a:lnTo>
                  <a:pt x="2563813" y="0"/>
                </a:lnTo>
                <a:lnTo>
                  <a:pt x="2673350" y="109538"/>
                </a:lnTo>
                <a:lnTo>
                  <a:pt x="2563813" y="219075"/>
                </a:lnTo>
                <a:lnTo>
                  <a:pt x="2563813" y="164306"/>
                </a:lnTo>
                <a:lnTo>
                  <a:pt x="34230" y="164306"/>
                </a:lnTo>
                <a:lnTo>
                  <a:pt x="34230" y="5476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èche droite rayée 16"/>
          <p:cNvSpPr/>
          <p:nvPr/>
        </p:nvSpPr>
        <p:spPr>
          <a:xfrm rot="10800000">
            <a:off x="5286240" y="3857400"/>
            <a:ext cx="425520" cy="214200"/>
          </a:xfrm>
          <a:custGeom>
            <a:avLst/>
            <a:gdLst/>
            <a:ahLst/>
            <a:rect l="l" t="t" r="r" b="b"/>
            <a:pathLst>
              <a:path w="425450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318294" y="53578"/>
                </a:lnTo>
                <a:lnTo>
                  <a:pt x="318294" y="0"/>
                </a:lnTo>
                <a:lnTo>
                  <a:pt x="425450" y="107157"/>
                </a:lnTo>
                <a:lnTo>
                  <a:pt x="318294" y="214313"/>
                </a:lnTo>
                <a:lnTo>
                  <a:pt x="318294" y="160735"/>
                </a:lnTo>
                <a:lnTo>
                  <a:pt x="33486" y="160735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lèche droite rayée 18"/>
          <p:cNvSpPr/>
          <p:nvPr/>
        </p:nvSpPr>
        <p:spPr>
          <a:xfrm rot="10800000">
            <a:off x="2571840" y="3857400"/>
            <a:ext cx="425520" cy="214200"/>
          </a:xfrm>
          <a:custGeom>
            <a:avLst/>
            <a:gdLst/>
            <a:ahLst/>
            <a:rect l="l" t="t" r="r" b="b"/>
            <a:pathLst>
              <a:path w="425450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318294" y="53578"/>
                </a:lnTo>
                <a:lnTo>
                  <a:pt x="318294" y="0"/>
                </a:lnTo>
                <a:lnTo>
                  <a:pt x="425450" y="107157"/>
                </a:lnTo>
                <a:lnTo>
                  <a:pt x="318294" y="214313"/>
                </a:lnTo>
                <a:lnTo>
                  <a:pt x="318294" y="160735"/>
                </a:lnTo>
                <a:lnTo>
                  <a:pt x="33486" y="160735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ensées 19"/>
          <p:cNvSpPr/>
          <p:nvPr/>
        </p:nvSpPr>
        <p:spPr>
          <a:xfrm>
            <a:off x="3643200" y="4714920"/>
            <a:ext cx="4000680" cy="1143000"/>
          </a:xfrm>
          <a:prstGeom prst="cloudCallout">
            <a:avLst>
              <a:gd name="adj1" fmla="val 15578"/>
              <a:gd name="adj2" fmla="val -7575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necteur droit 28"/>
          <p:cNvSpPr/>
          <p:nvPr/>
        </p:nvSpPr>
        <p:spPr>
          <a:xfrm>
            <a:off x="6450120" y="5442120"/>
            <a:ext cx="78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necteur droit 30"/>
          <p:cNvSpPr/>
          <p:nvPr/>
        </p:nvSpPr>
        <p:spPr>
          <a:xfrm>
            <a:off x="4722840" y="5443560"/>
            <a:ext cx="78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t 5"/>
              <p:cNvSpPr txBox="1"/>
              <p:nvPr/>
            </p:nvSpPr>
            <p:spPr>
              <a:xfrm>
                <a:off x="5786280" y="3743280"/>
                <a:ext cx="3033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t 15"/>
              <p:cNvSpPr txBox="1"/>
              <p:nvPr/>
            </p:nvSpPr>
            <p:spPr>
              <a:xfrm>
                <a:off x="3063960" y="3755880"/>
                <a:ext cx="22287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t 20"/>
              <p:cNvSpPr txBox="1"/>
              <p:nvPr/>
            </p:nvSpPr>
            <p:spPr>
              <a:xfrm>
                <a:off x="762120" y="3716280"/>
                <a:ext cx="1809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6206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exemple ?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4"/>
          <p:cNvSpPr/>
          <p:nvPr/>
        </p:nvSpPr>
        <p:spPr>
          <a:xfrm>
            <a:off x="954000" y="1484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300024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2786040"/>
                <a:gridCol w="150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Flèche droite rayée 6"/>
          <p:cNvSpPr/>
          <p:nvPr/>
        </p:nvSpPr>
        <p:spPr>
          <a:xfrm rot="8505000">
            <a:off x="2693160" y="2770200"/>
            <a:ext cx="1884600" cy="169920"/>
          </a:xfrm>
          <a:custGeom>
            <a:avLst/>
            <a:gdLst/>
            <a:ahLst/>
            <a:rect l="l" t="t" r="r" b="b"/>
            <a:pathLst>
              <a:path w="1884362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1" y="42466"/>
                </a:lnTo>
                <a:lnTo>
                  <a:pt x="1799431" y="0"/>
                </a:lnTo>
                <a:lnTo>
                  <a:pt x="1884362" y="84931"/>
                </a:lnTo>
                <a:lnTo>
                  <a:pt x="1799431" y="169862"/>
                </a:lnTo>
                <a:lnTo>
                  <a:pt x="1799431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èche droite rayée 7"/>
          <p:cNvSpPr/>
          <p:nvPr/>
        </p:nvSpPr>
        <p:spPr>
          <a:xfrm>
            <a:off x="3500280" y="3645000"/>
            <a:ext cx="1354320" cy="142920"/>
          </a:xfrm>
          <a:custGeom>
            <a:avLst/>
            <a:gdLst/>
            <a:ahLst/>
            <a:rect l="l" t="t" r="r" b="b"/>
            <a:pathLst>
              <a:path w="1354137" h="142875">
                <a:moveTo>
                  <a:pt x="0" y="35719"/>
                </a:moveTo>
                <a:lnTo>
                  <a:pt x="4465" y="35719"/>
                </a:lnTo>
                <a:lnTo>
                  <a:pt x="4465" y="107156"/>
                </a:lnTo>
                <a:lnTo>
                  <a:pt x="0" y="107156"/>
                </a:lnTo>
                <a:lnTo>
                  <a:pt x="0" y="35719"/>
                </a:lnTo>
                <a:close/>
                <a:moveTo>
                  <a:pt x="8930" y="35719"/>
                </a:moveTo>
                <a:lnTo>
                  <a:pt x="17859" y="35719"/>
                </a:lnTo>
                <a:lnTo>
                  <a:pt x="17859" y="107156"/>
                </a:lnTo>
                <a:lnTo>
                  <a:pt x="8930" y="107156"/>
                </a:lnTo>
                <a:lnTo>
                  <a:pt x="8930" y="35719"/>
                </a:lnTo>
                <a:close/>
                <a:moveTo>
                  <a:pt x="22324" y="35719"/>
                </a:moveTo>
                <a:lnTo>
                  <a:pt x="1282700" y="35719"/>
                </a:lnTo>
                <a:lnTo>
                  <a:pt x="1282700" y="0"/>
                </a:lnTo>
                <a:lnTo>
                  <a:pt x="1354137" y="71438"/>
                </a:lnTo>
                <a:lnTo>
                  <a:pt x="1282700" y="142875"/>
                </a:lnTo>
                <a:lnTo>
                  <a:pt x="1282700" y="107156"/>
                </a:lnTo>
                <a:lnTo>
                  <a:pt x="22324" y="107156"/>
                </a:lnTo>
                <a:lnTo>
                  <a:pt x="22324" y="3571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8"/>
          <p:cNvSpPr/>
          <p:nvPr/>
        </p:nvSpPr>
        <p:spPr>
          <a:xfrm>
            <a:off x="2239920" y="521496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... On continu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1285920" y="335772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0"/>
          <p:cNvSpPr/>
          <p:nvPr/>
        </p:nvSpPr>
        <p:spPr>
          <a:xfrm>
            <a:off x="5000760" y="3357720"/>
            <a:ext cx="20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(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t 6"/>
              <p:cNvSpPr txBox="1"/>
              <p:nvPr/>
            </p:nvSpPr>
            <p:spPr>
              <a:xfrm>
                <a:off x="1836720" y="2781360"/>
                <a:ext cx="5113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t 4"/>
              <p:cNvSpPr txBox="1"/>
              <p:nvPr/>
            </p:nvSpPr>
            <p:spPr>
              <a:xfrm>
                <a:off x="2916360" y="2687760"/>
                <a:ext cx="31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t 2"/>
              <p:cNvSpPr txBox="1"/>
              <p:nvPr/>
            </p:nvSpPr>
            <p:spPr>
              <a:xfrm>
                <a:off x="2268360" y="2708280"/>
                <a:ext cx="4341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t 2"/>
              <p:cNvSpPr txBox="1"/>
              <p:nvPr/>
            </p:nvSpPr>
            <p:spPr>
              <a:xfrm>
                <a:off x="2967120" y="2674800"/>
                <a:ext cx="311760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t 2"/>
              <p:cNvSpPr txBox="1"/>
              <p:nvPr/>
            </p:nvSpPr>
            <p:spPr>
              <a:xfrm>
                <a:off x="2987640" y="2708280"/>
                <a:ext cx="29653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t 2"/>
              <p:cNvSpPr txBox="1"/>
              <p:nvPr/>
            </p:nvSpPr>
            <p:spPr>
              <a:xfrm>
                <a:off x="2124000" y="2637000"/>
                <a:ext cx="50738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Marielle Séguy</dc:creator>
  <dc:description/>
  <dc:language>en-US</dc:language>
  <cp:lastModifiedBy>auderi</cp:lastModifiedBy>
  <dcterms:modified xsi:type="dcterms:W3CDTF">2015-09-30T16:57:43Z</dcterms:modified>
  <cp:revision>61</cp:revision>
  <dc:subject/>
  <dc:title>Diapositive 1</dc:title>
</cp:coreProperties>
</file>