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2BC-C4B0-400C-ADBB-8E5733B3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733-E4F2-47DC-BAF6-4ABF8B6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BAE-F35F-4E3A-88A7-F3E8A75C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057-DF76-41DF-B1A9-0B78FA57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138-F0D5-437F-9DB6-5D9FE050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3B3-1322-48BE-82C3-42C9FCF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593-8350-46C2-8CFB-806313A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890-7BFB-4BED-9AC3-4EF110A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4A7-1949-40BF-BBD5-7E1A349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4CC-AC7E-4971-AA97-AE764CD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9FB-BDB9-41C0-9804-191B53D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CF2-4C4D-4268-9BDE-B85978F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97EC-CE71-45FA-9023-C51004C39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50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gner un rectangle avec un coin diagonal 1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661000" cy="2225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gner un rectangle avec un coin diagonal 15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06:57:50Z</dcterms:created>
  <dc:creator>Rigaux</dc:creator>
  <dc:description/>
  <dc:language>en-US</dc:language>
  <cp:lastModifiedBy>auderi</cp:lastModifiedBy>
  <dcterms:modified xsi:type="dcterms:W3CDTF">2016-07-01T14:47:15Z</dcterms:modified>
  <cp:revision>17</cp:revision>
  <dc:subject/>
  <dc:title>Calcul algébrique 2</dc:title>
</cp:coreProperties>
</file>