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6C4-9772-4903-A6D2-2C8466DF71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AEB-D41E-4781-B595-9DC6594D1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47A0-426D-43D5-8C98-9C98E250C7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36C-5008-427F-93B2-F02F0F6C6A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CE3-72F6-4A7F-9E1F-E52A47C21C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376D-F832-443E-8C6B-73A947D5A0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A33B-6527-49F8-8605-32EFCFFF03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894-562C-4067-9BAD-894A15F9C8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A85-55AB-4BB6-B592-1863DC1356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DBA1-075D-4473-A199-6B6F9FA1D1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67AE-C47A-42A5-BE65-15664B4075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9B9-B0C0-4590-93A9-ABE27AA68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BFDF-C69D-45DC-87AD-5CFE533A55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8E8-F902-4404-B50F-2056E90D2D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989-B9B9-4C34-8C72-6B30A4D343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695-4119-4D5A-BC61-49CDB3C360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BC4-2E69-43EE-8755-27D94675A5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CE62-CCB4-4903-9411-795ECE26F2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BBE0-091A-468B-81C8-7D253576B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72F4-119B-472C-8E25-A704E78B55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4E4-6AB6-4C53-9BC8-04A318C607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78F-F5C6-421F-9AE4-044274921B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12C-F7EC-49E7-9405-BAE2FAA618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E7B5-0FBA-4C1C-8272-E9DA637E82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8691-A445-4E1B-8F31-FDEA91BA12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DC4-A39F-4A14-B029-4DDFA1A0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36D-0E03-40DA-9362-F2F018E0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440-0297-46BC-8433-BFB0D1CF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CEA-A4EF-4936-B840-17915CF8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911-431F-4B80-910F-6A26707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359-8B90-4E21-9889-F3C3EDB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1A4-3405-4219-8305-B4C1283E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B2A-EC2A-4404-AA7F-152A05C2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613-8AD6-4952-9330-6E541C3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56E-8D7F-4E3B-9036-946A8CB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06B-FD6C-414D-9341-9A39BF7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8A5-3FC0-4968-B702-FFD8CF6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C34-D3BD-4F62-AEAF-DD494FE39E3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222-FCCD-4CE9-8EA3-5FEBF1A7A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/100 = 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11"/>
          <p:cNvSpPr/>
          <p:nvPr/>
        </p:nvSpPr>
        <p:spPr>
          <a:xfrm>
            <a:off x="7380360" y="242100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rganigramme : Processus 12"/>
          <p:cNvSpPr/>
          <p:nvPr/>
        </p:nvSpPr>
        <p:spPr>
          <a:xfrm flipV="1" rot="20096400">
            <a:off x="6176880" y="276120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6"/>
          <p:cNvSpPr/>
          <p:nvPr/>
        </p:nvSpPr>
        <p:spPr>
          <a:xfrm>
            <a:off x="1116000" y="4005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+ 10/100 = 1,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8"/>
          <p:cNvSpPr/>
          <p:nvPr/>
        </p:nvSpPr>
        <p:spPr>
          <a:xfrm>
            <a:off x="7667640" y="278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rganigramme : Processus 9"/>
          <p:cNvSpPr/>
          <p:nvPr/>
        </p:nvSpPr>
        <p:spPr>
          <a:xfrm flipV="1" rot="20096400">
            <a:off x="6176880" y="318492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6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/100 = 0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ensées 6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60/100 = 0,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8"/>
          <p:cNvSpPr/>
          <p:nvPr/>
        </p:nvSpPr>
        <p:spPr>
          <a:xfrm>
            <a:off x="7524720" y="2708280"/>
            <a:ext cx="1368360" cy="649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rganigramme : Processus 9"/>
          <p:cNvSpPr/>
          <p:nvPr/>
        </p:nvSpPr>
        <p:spPr>
          <a:xfrm flipV="1" rot="20096400">
            <a:off x="6176880" y="304848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ensées 4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 € pour 20 €, soit 10 € pour 100 €, c’est-à-dire 1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8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rganigramme : Processus 9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6"/>
          <p:cNvSpPr/>
          <p:nvPr/>
        </p:nvSpPr>
        <p:spPr>
          <a:xfrm>
            <a:off x="179280" y="3573360"/>
            <a:ext cx="878544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50 € pour 25 €, soit 200 € pour 100 €, c’est-à-dire 20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Répondre par </a:t>
            </a:r>
            <a:br>
              <a:rPr sz="8000"/>
            </a:b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VRAI ou FAU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sées 6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 h pour 4 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25 h pour 100 h, c’est-à-dire 2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6"/>
          <p:cNvSpPr/>
          <p:nvPr/>
        </p:nvSpPr>
        <p:spPr>
          <a:xfrm>
            <a:off x="144360" y="3573360"/>
            <a:ext cx="882036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50 s pour 400 s, soit 12,5 s pour 100 s, c’est-à-dire 12,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nsées 6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25 m, soit une diminution de 75 m pour 100 m, c’est-à-dire 7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13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rganigramme : Processus 14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ensées 7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400 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une augmentation de 300 m pour 100 m, c’est-à-dire 3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00:23Z</dcterms:modified>
  <cp:revision>218</cp:revision>
  <dc:subject/>
  <dc:title>Diapositive 0</dc:title>
</cp:coreProperties>
</file>