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CC93-4B4E-4550-A53C-CEAAA0D743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1503-3D78-4DB8-A732-0DD53A0054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E8BD-3525-426D-9638-5E993A1EDE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C72-F983-4657-A849-81C62EB503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02B-6AE6-4E95-A9E3-CA6775CB20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366-12A5-4847-B854-7717AB10B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D0E2-16B7-4093-888D-05F2CF90BD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F74-5180-473C-A1F2-7A8A681EA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DCF-7B83-4CBE-B2BE-62BF51C91E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9DB6-AA13-4A90-AB00-AE5DB9C023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F8F-1814-4AEC-AEAE-9E969046BF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343C-45F6-4A3E-9A3E-8A81CAAC08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23E-04DD-475C-86FE-25D5436A00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CD6-A60C-4AEA-9429-FA1BB85CB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5E7-D878-42DA-A137-FD7F7519C0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E8A-CD17-4771-B8D2-D0B1C9BD5A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603-13B5-4931-ADE6-F8E3CA9066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60F-1CA3-4FE6-B2A6-D818491F3A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5C79-2FC3-4640-BA00-B598DD6F1B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A97-F17E-4BD4-AF6F-05430E0811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053-9ADB-40E6-8D21-25D7ADBE20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713-63CB-4732-BCFF-CEEA657EBE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719-8389-466B-A956-9A3A1C460C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EC5C-A857-41D0-AD04-04C6C27EDA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9993-BC7E-4993-9107-F258C6A178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6ED9-7DA5-4FB6-8AB5-9A816888FC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400-1411-4C4D-8B7B-31923A67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7A6-738E-4431-B0FC-BC80113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EC5-1528-4B39-902A-BCC6359F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E89-84AF-4186-9FAE-AC09BC31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859-37AF-4AA3-BD30-75F9C0A6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ADC-8220-4474-B2D0-45696D9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4AB-37D2-41FF-8A47-E68FAAC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7EC-4789-46BD-A7E6-B048A9B0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30B-6BB0-435E-961C-945CBAF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F9A-4C94-45BB-A68E-8D12995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186-1620-4000-B8BB-0DD6B6D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B4E-6C70-410D-941C-16C5C4A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D52-DEE3-4D17-9A2C-8C184B552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478240" y="5203800"/>
                <a:ext cx="34477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637000" y="5000760"/>
                <a:ext cx="400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922480" y="5095800"/>
                <a:ext cx="3434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t 3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t 4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t 5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t 2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proposition de correction en utilisant la forme la plus adaptée à chaque calc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678200" y="4902120"/>
                <a:ext cx="1928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-4428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359240" y="4932360"/>
                <a:ext cx="235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537080" y="4932360"/>
                <a:ext cx="20001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Rectangle 1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t 3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ZoneTexte 11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716360" y="4902120"/>
                <a:ext cx="2000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746280" y="5203800"/>
                <a:ext cx="3338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214880" y="4978440"/>
                <a:ext cx="278604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Dans chaque cas, les 3 expressions sont égales. Calculer la valeur numérique pou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donné 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en choisissant la forme de l’expression la plus adapté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019160" y="5232240"/>
                <a:ext cx="333864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700520" y="5462640"/>
                <a:ext cx="181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1071720" y="5160960"/>
                <a:ext cx="3336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4859280" y="5373720"/>
                <a:ext cx="226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857160" y="5203800"/>
                <a:ext cx="36705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5025960" y="5462640"/>
                <a:ext cx="1879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71680" y="5222880"/>
                <a:ext cx="4133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4908600" y="5375160"/>
                <a:ext cx="187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t 5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1285920" y="5270400"/>
                <a:ext cx="36241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4971960" y="5297400"/>
                <a:ext cx="1814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t 4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2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-1584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t 1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t 1"/>
              <p:cNvSpPr txBox="1"/>
              <p:nvPr/>
            </p:nvSpPr>
            <p:spPr>
              <a:xfrm>
                <a:off x="144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643120" y="5176800"/>
                <a:ext cx="311616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t 6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1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t 6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auderi</cp:lastModifiedBy>
  <dcterms:modified xsi:type="dcterms:W3CDTF">2015-09-30T16:56:32Z</dcterms:modified>
  <cp:revision>38</cp:revision>
  <dc:subject/>
  <dc:title>S’agit-il d’une expression développée ? factorisée ?</dc:title>
</cp:coreProperties>
</file>