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D43-0845-4F21-A824-D0D9791116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0BA1-8FD4-40AF-8523-0D0B9FC37E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AC1-F8A3-4D48-997C-2B3CBD84CF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CD7-5367-41C7-8C01-B6C07C6611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DA9-2490-415F-9F10-FA5F8C09BD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2908-1D3A-4992-8852-A0878CEE58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FFE-7382-490E-B31D-82AAA7C580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86E-11B9-44C4-889B-042B16D8F2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21B-EF7F-49D4-816C-40B5391603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54D4-59DA-4D43-B4D3-46D2A1F961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16E-B926-465A-9EF6-18F15B89E2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B8D3-D03A-4BE0-867D-904439EC38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ECD8-9431-446D-9C1C-32E118733D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513-CE8C-4382-9175-EB915CE38F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F526-06F2-4C03-8297-784C592216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F6D0-03F7-439A-B248-91DA09FD24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0D3D-0FD5-4385-8662-61214A60D7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88B4-EE58-4BAE-84A6-3CBBB9620B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EBC9-DE36-4E76-890F-9D73F5AEF6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9235-6ACA-4D00-8F09-E419D39A43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0DC-180D-4A1B-9685-C5AAF121FD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1D46-B19D-4728-8F19-FAD497512A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ABE4-9830-40CB-8FCA-465187C38F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2B3B-513D-4B52-9756-2E117C47F2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F7E-F172-461F-8577-ED78648E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8BF-E23C-4C99-8739-FA63F50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F83-E24C-4CF9-8C87-6F5C8302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8BB-689C-4457-8F7E-438DED97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A41-6D29-4DA4-8839-18C96E6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AD5-04CF-40FF-B27D-D3B3C612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EBE-14D6-4BE1-9AB3-FA0C090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99A-5A8A-43CF-BA35-3177219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0BE-2362-40C3-A130-185CE159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E66-12F9-4B3C-B638-63F9ADF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B40-CFE0-48F7-B301-CA7A676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265-A65A-47C5-8E1F-6780FED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E38-FB86-4591-A817-578A631D6B7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438-34CA-474C-9416-6B6D3C214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53737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612720" y="714240"/>
            <a:ext cx="7918560" cy="357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É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DU PREMIER DEGRÉ </a:t>
            </a:r>
            <a:br>
              <a:rPr sz="4800"/>
            </a:b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SÉRIES 2 ET 2 B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50920" y="2830680"/>
            <a:ext cx="4092480" cy="81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292720" y="2730600"/>
            <a:ext cx="317664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3462480" cy="101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816440" y="2827440"/>
            <a:ext cx="4148280" cy="81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50920" y="2778120"/>
            <a:ext cx="4103640" cy="8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5076720" y="2700360"/>
            <a:ext cx="3360960" cy="98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928800" y="2114640"/>
            <a:ext cx="281916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715000" y="2071800"/>
            <a:ext cx="2009880" cy="6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1143000" y="4152960"/>
            <a:ext cx="227664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34" name="Picture 10" descr=""/>
          <p:cNvPicPr/>
          <p:nvPr/>
        </p:nvPicPr>
        <p:blipFill>
          <a:blip r:embed="rId4"/>
          <a:stretch/>
        </p:blipFill>
        <p:spPr>
          <a:xfrm>
            <a:off x="500040" y="2997360"/>
            <a:ext cx="37148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5"/>
          <a:stretch/>
        </p:blipFill>
        <p:spPr>
          <a:xfrm>
            <a:off x="5940360" y="3268800"/>
            <a:ext cx="1057320" cy="952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6" name="Cadre 25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26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14960" y="2152800"/>
            <a:ext cx="2819520" cy="59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187280" y="2152800"/>
            <a:ext cx="2086200" cy="599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3"/>
          <a:stretch/>
        </p:blipFill>
        <p:spPr>
          <a:xfrm>
            <a:off x="1662120" y="3268800"/>
            <a:ext cx="1181160" cy="95220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46" name="Picture 11" descr=""/>
          <p:cNvPicPr/>
          <p:nvPr/>
        </p:nvPicPr>
        <p:blipFill>
          <a:blip r:embed="rId4"/>
          <a:stretch/>
        </p:blipFill>
        <p:spPr>
          <a:xfrm>
            <a:off x="5000760" y="2997360"/>
            <a:ext cx="371448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653080" y="4081320"/>
            <a:ext cx="227664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8" name="Cadre 1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16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539640" y="2071800"/>
            <a:ext cx="3524400" cy="60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5643720" y="207180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357120" y="2928960"/>
            <a:ext cx="3915000" cy="57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1071720" y="3916440"/>
            <a:ext cx="2666880" cy="95256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58" name="Picture 7" descr=""/>
          <p:cNvPicPr/>
          <p:nvPr/>
        </p:nvPicPr>
        <p:blipFill>
          <a:blip r:embed="rId5"/>
          <a:stretch/>
        </p:blipFill>
        <p:spPr>
          <a:xfrm>
            <a:off x="6156360" y="3124080"/>
            <a:ext cx="118116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9" name="Cadre 14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dre 15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332000" y="2143080"/>
            <a:ext cx="2009520" cy="600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2"/>
          <a:stretch/>
        </p:blipFill>
        <p:spPr>
          <a:xfrm>
            <a:off x="4915080" y="2071800"/>
            <a:ext cx="3800160" cy="600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1554120" y="3289320"/>
            <a:ext cx="85716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5438880" y="3916440"/>
            <a:ext cx="299088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9" name="Picture 11" descr=""/>
          <p:cNvPicPr/>
          <p:nvPr/>
        </p:nvPicPr>
        <p:blipFill>
          <a:blip r:embed="rId5"/>
          <a:stretch/>
        </p:blipFill>
        <p:spPr>
          <a:xfrm>
            <a:off x="4829040" y="2957400"/>
            <a:ext cx="3886200" cy="542880"/>
          </a:xfrm>
          <a:prstGeom prst="rect">
            <a:avLst/>
          </a:prstGeom>
          <a:ln w="0">
            <a:noFill/>
          </a:ln>
        </p:spPr>
      </p:pic>
      <p:sp>
        <p:nvSpPr>
          <p:cNvPr id="170" name="Cadre 12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dre 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dre 8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560920" y="2114640"/>
            <a:ext cx="2467080" cy="60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395280" y="2071800"/>
            <a:ext cx="3800520" cy="600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3"/>
          <a:stretch/>
        </p:blipFill>
        <p:spPr>
          <a:xfrm>
            <a:off x="428760" y="2997360"/>
            <a:ext cx="3886200" cy="542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1000080" y="3973680"/>
            <a:ext cx="2772000" cy="895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85" name="Picture 18" descr=""/>
          <p:cNvPicPr/>
          <p:nvPr/>
        </p:nvPicPr>
        <p:blipFill>
          <a:blip r:embed="rId5"/>
          <a:stretch/>
        </p:blipFill>
        <p:spPr>
          <a:xfrm>
            <a:off x="6012000" y="2781360"/>
            <a:ext cx="132372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"/>
          <p:cNvPicPr/>
          <p:nvPr/>
        </p:nvPicPr>
        <p:blipFill>
          <a:blip r:embed="rId6"/>
          <a:stretch/>
        </p:blipFill>
        <p:spPr>
          <a:xfrm>
            <a:off x="5840280" y="3429000"/>
            <a:ext cx="1324080" cy="57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7"/>
          <a:stretch/>
        </p:blipFill>
        <p:spPr>
          <a:xfrm>
            <a:off x="6286680" y="4292640"/>
            <a:ext cx="85716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dre 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048280" y="2143080"/>
            <a:ext cx="3524400" cy="600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1285920" y="214308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"/>
          <p:cNvPicPr/>
          <p:nvPr/>
        </p:nvPicPr>
        <p:blipFill>
          <a:blip r:embed="rId3"/>
          <a:stretch/>
        </p:blipFill>
        <p:spPr>
          <a:xfrm>
            <a:off x="1785960" y="3197160"/>
            <a:ext cx="857160" cy="95256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93" name="Picture 5" descr=""/>
          <p:cNvPicPr/>
          <p:nvPr/>
        </p:nvPicPr>
        <p:blipFill>
          <a:blip r:embed="rId4"/>
          <a:stretch/>
        </p:blipFill>
        <p:spPr>
          <a:xfrm>
            <a:off x="4871880" y="2924280"/>
            <a:ext cx="391500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5"/>
          <a:stretch/>
        </p:blipFill>
        <p:spPr>
          <a:xfrm>
            <a:off x="5634000" y="3906720"/>
            <a:ext cx="2581200" cy="962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5" name="Cadre 9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eorgia"/>
                <a:ea typeface="Times New Roman"/>
              </a:rPr>
              <a:t>Résoudre les équat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262480" y="2143080"/>
            <a:ext cx="3095640" cy="600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143080"/>
            <a:ext cx="246708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1643040" y="2857680"/>
            <a:ext cx="132408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132408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5"/>
          <a:stretch/>
        </p:blipFill>
        <p:spPr>
          <a:xfrm>
            <a:off x="1908000" y="4214880"/>
            <a:ext cx="85752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02" name="Picture 9" descr=""/>
          <p:cNvPicPr/>
          <p:nvPr/>
        </p:nvPicPr>
        <p:blipFill>
          <a:blip r:embed="rId6"/>
          <a:stretch/>
        </p:blipFill>
        <p:spPr>
          <a:xfrm>
            <a:off x="4976640" y="3144960"/>
            <a:ext cx="3524400" cy="571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7"/>
          <a:stretch/>
        </p:blipFill>
        <p:spPr>
          <a:xfrm>
            <a:off x="5600880" y="4226040"/>
            <a:ext cx="254304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4" name="Cadre 12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3305160" cy="60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5643720" y="228600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428760" y="3143160"/>
            <a:ext cx="3714480" cy="57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tretch/>
        </p:blipFill>
        <p:spPr>
          <a:xfrm>
            <a:off x="1214280" y="4226040"/>
            <a:ext cx="227664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13" name="Picture 6" descr=""/>
          <p:cNvPicPr/>
          <p:nvPr/>
        </p:nvPicPr>
        <p:blipFill>
          <a:blip r:embed="rId5"/>
          <a:stretch/>
        </p:blipFill>
        <p:spPr>
          <a:xfrm>
            <a:off x="6143760" y="3340080"/>
            <a:ext cx="85716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Cadre 11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dre 12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052960" y="2214720"/>
            <a:ext cx="3305160" cy="59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207648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71680" y="2781360"/>
            <a:ext cx="2895480" cy="571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1979640" y="3429000"/>
            <a:ext cx="1476360" cy="571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5"/>
          <a:stretch/>
        </p:blipFill>
        <p:spPr>
          <a:xfrm>
            <a:off x="2584440" y="4149720"/>
            <a:ext cx="1123920" cy="57168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4929120" y="3068640"/>
            <a:ext cx="3714840" cy="571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7"/>
          <a:stretch/>
        </p:blipFill>
        <p:spPr>
          <a:xfrm>
            <a:off x="5724360" y="4076640"/>
            <a:ext cx="227664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8" name="Cadre 1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dre 16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309564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5643720" y="2071800"/>
            <a:ext cx="2076120" cy="60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500040" y="2857680"/>
            <a:ext cx="3524400" cy="571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4"/>
          <a:stretch/>
        </p:blipFill>
        <p:spPr>
          <a:xfrm>
            <a:off x="1143000" y="3936960"/>
            <a:ext cx="2543040" cy="57168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36" name="Picture 8" descr=""/>
          <p:cNvPicPr/>
          <p:nvPr/>
        </p:nvPicPr>
        <p:blipFill>
          <a:blip r:embed="rId5"/>
          <a:stretch/>
        </p:blipFill>
        <p:spPr>
          <a:xfrm>
            <a:off x="5492880" y="2781360"/>
            <a:ext cx="2895480" cy="571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6"/>
          <a:stretch/>
        </p:blipFill>
        <p:spPr>
          <a:xfrm>
            <a:off x="6191280" y="3429000"/>
            <a:ext cx="1476360" cy="571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6832440" y="4226040"/>
            <a:ext cx="112428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9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64000" y="2722680"/>
            <a:ext cx="3087720" cy="92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39700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313080" cy="95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4680" y="2822400"/>
            <a:ext cx="3865320" cy="82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033800" cy="75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154480" y="2755800"/>
            <a:ext cx="3089520" cy="88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0956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4809960" y="2852640"/>
            <a:ext cx="4083120" cy="74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05080" cy="72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92760" y="2708280"/>
            <a:ext cx="4000320" cy="97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539640" y="2681280"/>
            <a:ext cx="3597480" cy="1035000"/>
          </a:xfrm>
          <a:prstGeom prst="rect">
            <a:avLst/>
          </a:prstGeom>
          <a:ln w="0">
            <a:noFill/>
          </a:ln>
        </p:spPr>
      </p:pic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417672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815000" y="2808360"/>
            <a:ext cx="4078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958920" cy="96372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12-23T20:35:05Z</dcterms:modified>
  <cp:revision>300</cp:revision>
  <dc:subject/>
  <dc:title>Diapositive 0</dc:title>
</cp:coreProperties>
</file>