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DB9C-0B03-437B-BD8C-BD0097F6A8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0974-F667-41A3-B2B3-0465FDB80C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8F36-7912-4270-A124-BF785ED7AF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79BE-A37C-49BC-BB59-CCD5D2C2A8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B64D-AF7F-459F-8FAA-C4B35986641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9B24-9528-4F07-8676-929364F794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6AC7-F055-45DB-8D39-5031380BAD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9FF4-278B-4895-8EF4-478BE56D2A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8538-34EE-4745-8B66-E433BE50AF9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4493-ECE2-405E-ACF0-1F2AE2264E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93DF-A7EC-4098-AE80-FBD71E6B1AA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A29A-0034-427B-80A5-B60CCB0238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C504-F24E-48F6-B287-E8257C484A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9F0D-8D86-42AB-8582-87D963F243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5457-B630-48D5-885E-169B604AEAF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D0DC-B3B3-451E-B4D7-EF2A79F38B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2785-EE6A-4818-B5DE-9691A16A0B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BAC2-470B-42C8-91A3-EF50240CFF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5606-82BC-4899-8A9A-3773C5CC15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FBB9-1CEE-403A-8E72-A139197597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9C17-D188-4AC0-87C0-1890FEF1AB5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330E-6DCB-4703-9DE1-94D59A2BBCF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DB77-0FFD-4BDF-B068-0D70559767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A28A-5864-4696-BD5D-F5CA28EA50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6AFA-0865-4F24-9367-161314B1CE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A5D3-A162-4369-8BF9-78D529467F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31AA-E1C1-46E8-86DA-CE27F465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787-9C78-416E-BABA-B8618AF9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9DE0-3B0B-495E-A732-8059C7A4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4E9-4CBB-4F76-8A44-E7B63655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6C2-B9FE-4143-AD45-931832C6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8863-AAE3-4C6E-856C-1726B566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74EF-F137-4A3F-8DA4-11F93CF9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0C19-314F-467F-A852-3779978E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3FC6-EC81-498B-A72A-1909CA45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8BC4-F072-4577-9037-4F51FCFC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E3A1-87FE-4BBB-90E2-4DB9A394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BDD6-F283-430A-B23A-DEAE11E5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3C27-60FB-43C7-AF91-BC342366716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308C-890E-48A3-875A-B3956FB7C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POURCENTAG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33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1,002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001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2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0" y="1628640"/>
            <a:ext cx="914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1,05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’augmenter de 5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05 = 1 + 0,05 = 1 + 5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tre 1"/>
          <p:cNvSpPr/>
          <p:nvPr/>
        </p:nvSpPr>
        <p:spPr>
          <a:xfrm>
            <a:off x="0" y="1628640"/>
            <a:ext cx="914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8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 diminuer de 20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8 = 1 – 0,2 = 1 – 20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tre 1"/>
          <p:cNvSpPr/>
          <p:nvPr/>
        </p:nvSpPr>
        <p:spPr>
          <a:xfrm>
            <a:off x="0" y="1628640"/>
            <a:ext cx="914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1,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’augmenter de 30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3 = 1 + 0,3 = 1 + 30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tre 1"/>
          <p:cNvSpPr/>
          <p:nvPr/>
        </p:nvSpPr>
        <p:spPr>
          <a:xfrm>
            <a:off x="0" y="1628640"/>
            <a:ext cx="914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55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 diminuer de 45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55 = 1 – 0,45  = 1 – 45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itre 1"/>
          <p:cNvSpPr/>
          <p:nvPr/>
        </p:nvSpPr>
        <p:spPr>
          <a:xfrm>
            <a:off x="0" y="1628640"/>
            <a:ext cx="914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1,46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’augmenter de 46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46 = 1 + 0,46 = 1 + 46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42c8"/>
                </a:solidFill>
                <a:latin typeface="Georgia"/>
                <a:ea typeface="Arial"/>
              </a:rPr>
              <a:t>Compléter les phrases par </a:t>
            </a:r>
            <a:br>
              <a:rPr sz="4800"/>
            </a:br>
            <a:r>
              <a:rPr b="0" lang="fr-FR" sz="4800" spc="-1" strike="noStrike">
                <a:solidFill>
                  <a:srgbClr val="0042c8"/>
                </a:solidFill>
                <a:latin typeface="Georgia"/>
                <a:ea typeface="Arial"/>
              </a:rPr>
              <a:t>« augmenter » ou « diminuer » suivi du taux de pourcentage </a:t>
            </a:r>
            <a:br>
              <a:rPr sz="4800"/>
            </a:br>
            <a:r>
              <a:rPr b="0" lang="fr-FR" sz="4800" spc="-1" strike="noStrike">
                <a:solidFill>
                  <a:srgbClr val="0042c8"/>
                </a:solidFill>
                <a:latin typeface="Georgia"/>
                <a:ea typeface="Arial"/>
              </a:rPr>
              <a:t>qui convien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tre 1"/>
          <p:cNvSpPr/>
          <p:nvPr/>
        </p:nvSpPr>
        <p:spPr>
          <a:xfrm>
            <a:off x="0" y="1628640"/>
            <a:ext cx="914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01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 diminuer de 99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1 = 1 – 0,99 = 1 – 99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re 1"/>
          <p:cNvSpPr/>
          <p:nvPr/>
        </p:nvSpPr>
        <p:spPr>
          <a:xfrm>
            <a:off x="0" y="1628640"/>
            <a:ext cx="914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33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 diminuer de 67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33 = 1 – 0,67 = 1 – 67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re 1"/>
          <p:cNvSpPr/>
          <p:nvPr/>
        </p:nvSpPr>
        <p:spPr>
          <a:xfrm>
            <a:off x="0" y="1628640"/>
            <a:ext cx="914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1,002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’augmenter de 0,2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002 = 1 + 0,002 = 1 + 0,2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re 1"/>
          <p:cNvSpPr/>
          <p:nvPr/>
        </p:nvSpPr>
        <p:spPr>
          <a:xfrm>
            <a:off x="0" y="1628640"/>
            <a:ext cx="91440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001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 diminuer de 99,9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01 = 1 – 0,999 = 1 – 99,9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re 1"/>
          <p:cNvSpPr/>
          <p:nvPr/>
        </p:nvSpPr>
        <p:spPr>
          <a:xfrm>
            <a:off x="0" y="1628640"/>
            <a:ext cx="914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2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’augmenter de 100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= 1 + 100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1,20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5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’augmenter de 20 %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ensées 3"/>
          <p:cNvSpPr/>
          <p:nvPr/>
        </p:nvSpPr>
        <p:spPr>
          <a:xfrm>
            <a:off x="1116000" y="3357720"/>
            <a:ext cx="6912000" cy="1584000"/>
          </a:xfrm>
          <a:prstGeom prst="cloudCallout">
            <a:avLst>
              <a:gd name="adj1" fmla="val 36782"/>
              <a:gd name="adj2" fmla="val -12431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0 = 1 + 0,20 = 1 + 20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1,05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8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1,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55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1,46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01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SEM</cp:lastModifiedBy>
  <dcterms:modified xsi:type="dcterms:W3CDTF">2014-06-29T14:57:32Z</dcterms:modified>
  <cp:revision>214</cp:revision>
  <dc:subject/>
  <dc:title>Diapositive 0</dc:title>
</cp:coreProperties>
</file>