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AB097-FDCA-4C69-8157-D9D1C988BD44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1541D-7D90-4D22-937F-B7D59A06B1F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86278-73B4-4EF3-9414-91D98DA5D5B5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0B782-E5D2-41A3-99E5-C20832F6B8B7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67E77-D09E-460C-A63C-8606872F727D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505B1-6AC9-446F-BD3D-E947B1148A85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B67C5-E159-47D2-B20C-82B0754D8D92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93747-7712-4C3D-8A8C-F97FEFC74F3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BA72A-FC04-481A-B874-F9611BFE9386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792D7-EDBF-4C81-97ED-5FB614DFD338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200FB-0F63-469C-843A-9FEAD3E9DA4D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0BA74-99BF-4477-9495-06B2A744DB17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A85FB-64DC-4272-9576-0D71E79CB94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0E999-59B6-4A5B-BE82-008885F837AE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99E60-B259-4746-993C-A92FF4305015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10AE3-A750-4A07-8E8A-3E309C632D4F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B6D50-0941-4066-BD93-5E577A62423F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72489-A468-4652-B7D6-698365279AB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CF830-D955-4ABB-9973-8FAC44064C6A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EAA5D-D914-4E35-98BB-77BDF59DC4A3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DCFC0-882E-4622-AF44-5D6777F53799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9E7C1-D1C3-4ABF-8AB3-8A44AEB9A90D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15AF3-4E15-44EE-BE5A-0AB813A5C543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43A97-CEC3-4473-838E-9F92D1B3F4B4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6BAC5-B739-48EF-8DAD-2F2DF06CDCDA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6C324-EB63-4D33-B3FC-183700F44FE7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B817C-1FFD-4728-AB2B-9BA1F7696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597D6-A267-41C5-B49A-C2FA76D6D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87331-93DD-4AA3-9569-9DB16B73C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88710-FE2E-4B72-8120-E706F4BFC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A6EED-FF99-4A64-95F4-643A041D5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D2362-A704-48B5-AF04-6CFA8C8FE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846FF-7665-4E72-9ECF-196FB0E12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CF3AE-E725-41A5-BC4D-F5767865F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C9F4B-E55A-4728-B611-88DB6AD22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13A51-4277-4A01-A1D2-E6BADE3A0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D2123-C483-45B7-A8FB-AE170403D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1F4B4-9A89-488D-9A5C-7842318B3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2c2c2">
            <a:alpha val="3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4368A-5140-4C48-A2A9-564484217E67}" type="datetime">
              <a:rPr b="0" lang="fr-FR" sz="1200" spc="-1" strike="noStrike">
                <a:solidFill>
                  <a:srgbClr val="898989"/>
                </a:solidFill>
                <a:latin typeface="Cambria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5A2EE-C2EE-4970-8A11-CB15CCCD6863}" type="slidenum">
              <a:rPr b="0" lang="fr-FR" sz="12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itre 1"/>
          <p:cNvSpPr/>
          <p:nvPr/>
        </p:nvSpPr>
        <p:spPr>
          <a:xfrm>
            <a:off x="0" y="4032360"/>
            <a:ext cx="9144000" cy="13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alcul mental et automatismes – IREM de Clermont-Ferr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à coins arrondis 3"/>
          <p:cNvSpPr/>
          <p:nvPr/>
        </p:nvSpPr>
        <p:spPr>
          <a:xfrm>
            <a:off x="612720" y="1628640"/>
            <a:ext cx="7918560" cy="2160720"/>
          </a:xfrm>
          <a:prstGeom prst="roundRect">
            <a:avLst>
              <a:gd name="adj" fmla="val 16667"/>
            </a:avLst>
          </a:prstGeom>
          <a:solidFill>
            <a:srgbClr val="696969">
              <a:alpha val="6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42c8"/>
                </a:solidFill>
                <a:latin typeface="Georgia"/>
              </a:rPr>
              <a:t>POURCENTAGES</a:t>
            </a:r>
            <a:br>
              <a:rPr sz="6600"/>
            </a:br>
            <a:r>
              <a:rPr b="1" lang="fr-FR" sz="6600" spc="-1" strike="noStrike">
                <a:solidFill>
                  <a:srgbClr val="0042c8"/>
                </a:solidFill>
                <a:latin typeface="Georgia"/>
              </a:rPr>
              <a:t>SÉRIE 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7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itre 1"/>
          <p:cNvSpPr/>
          <p:nvPr/>
        </p:nvSpPr>
        <p:spPr>
          <a:xfrm>
            <a:off x="0" y="1628640"/>
            <a:ext cx="914400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minuer un nombre de 2,5 %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vient à multiplier ce nombre par ..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8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itre 1"/>
          <p:cNvSpPr/>
          <p:nvPr/>
        </p:nvSpPr>
        <p:spPr>
          <a:xfrm>
            <a:off x="0" y="1628640"/>
            <a:ext cx="914400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gmenter un nombre de 100 %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vient à multiplier ce nombre par ..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9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itre 1"/>
          <p:cNvSpPr/>
          <p:nvPr/>
        </p:nvSpPr>
        <p:spPr>
          <a:xfrm>
            <a:off x="0" y="1628640"/>
            <a:ext cx="914400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minuer un nombre de 0,1 %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vient à multiplier ce nombre par ..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0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itre 1"/>
          <p:cNvSpPr/>
          <p:nvPr/>
        </p:nvSpPr>
        <p:spPr>
          <a:xfrm>
            <a:off x="0" y="1628640"/>
            <a:ext cx="914400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gmenter un nombre de 250 %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vient à multiplier ce nombre par ..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27144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5bd3"/>
                </a:solidFill>
                <a:latin typeface="Georgia"/>
                <a:ea typeface="Arial"/>
              </a:rPr>
              <a:t>CORRECTION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itre 1"/>
          <p:cNvSpPr/>
          <p:nvPr/>
        </p:nvSpPr>
        <p:spPr>
          <a:xfrm>
            <a:off x="0" y="1628640"/>
            <a:ext cx="9144000" cy="522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gmenter un nombre de 7 %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vient à multiplier ce nombre par ..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éponse : 1,0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ensées 5"/>
          <p:cNvSpPr/>
          <p:nvPr/>
        </p:nvSpPr>
        <p:spPr>
          <a:xfrm>
            <a:off x="1116000" y="3068640"/>
            <a:ext cx="6912000" cy="1584360"/>
          </a:xfrm>
          <a:prstGeom prst="cloudCallout">
            <a:avLst>
              <a:gd name="adj1" fmla="val 59185"/>
              <a:gd name="adj2" fmla="val -88939"/>
            </a:avLst>
          </a:prstGeom>
          <a:solidFill>
            <a:srgbClr val="eea84a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100 + 7)/100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u 1 + 7/10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2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itre 1"/>
          <p:cNvSpPr/>
          <p:nvPr/>
        </p:nvSpPr>
        <p:spPr>
          <a:xfrm>
            <a:off x="0" y="1628640"/>
            <a:ext cx="9144000" cy="522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minuer un nombre de 8 %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vient à multiplier ce nombre par ..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éponse : 0,9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ensées 5"/>
          <p:cNvSpPr/>
          <p:nvPr/>
        </p:nvSpPr>
        <p:spPr>
          <a:xfrm>
            <a:off x="1116000" y="3068640"/>
            <a:ext cx="6912000" cy="1584360"/>
          </a:xfrm>
          <a:prstGeom prst="cloudCallout">
            <a:avLst>
              <a:gd name="adj1" fmla="val 59185"/>
              <a:gd name="adj2" fmla="val -88939"/>
            </a:avLst>
          </a:prstGeom>
          <a:solidFill>
            <a:srgbClr val="eea84a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100 – 8)/100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u 1 – 8/10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3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itre 1"/>
          <p:cNvSpPr/>
          <p:nvPr/>
        </p:nvSpPr>
        <p:spPr>
          <a:xfrm>
            <a:off x="0" y="1628640"/>
            <a:ext cx="9144000" cy="522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gmenter un nombre de 50 %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vient à multiplier ce nombre par ..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éponse : 1,5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ensées 5"/>
          <p:cNvSpPr/>
          <p:nvPr/>
        </p:nvSpPr>
        <p:spPr>
          <a:xfrm>
            <a:off x="1116000" y="3068640"/>
            <a:ext cx="6912000" cy="1584360"/>
          </a:xfrm>
          <a:prstGeom prst="cloudCallout">
            <a:avLst>
              <a:gd name="adj1" fmla="val 59185"/>
              <a:gd name="adj2" fmla="val -88939"/>
            </a:avLst>
          </a:prstGeom>
          <a:solidFill>
            <a:srgbClr val="eea84a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100 + 50)/100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u 1 + 50/10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4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itre 1"/>
          <p:cNvSpPr/>
          <p:nvPr/>
        </p:nvSpPr>
        <p:spPr>
          <a:xfrm>
            <a:off x="0" y="1628640"/>
            <a:ext cx="9144000" cy="522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minuer un nombre de 15 %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vient à multiplier ce nombre par ..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éponse : 0,8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ensées 5"/>
          <p:cNvSpPr/>
          <p:nvPr/>
        </p:nvSpPr>
        <p:spPr>
          <a:xfrm>
            <a:off x="1116000" y="3068640"/>
            <a:ext cx="6912000" cy="1584360"/>
          </a:xfrm>
          <a:prstGeom prst="cloudCallout">
            <a:avLst>
              <a:gd name="adj1" fmla="val 59185"/>
              <a:gd name="adj2" fmla="val -88939"/>
            </a:avLst>
          </a:prstGeom>
          <a:solidFill>
            <a:srgbClr val="eea84a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100 – 15)/100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u 1 – 15/10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5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itre 1"/>
          <p:cNvSpPr/>
          <p:nvPr/>
        </p:nvSpPr>
        <p:spPr>
          <a:xfrm>
            <a:off x="0" y="1628640"/>
            <a:ext cx="9144000" cy="522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minuer un nombre de 100 %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vient à multiplier ce nombre par ..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éponse : 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ensées 5"/>
          <p:cNvSpPr/>
          <p:nvPr/>
        </p:nvSpPr>
        <p:spPr>
          <a:xfrm>
            <a:off x="1116000" y="3068640"/>
            <a:ext cx="6912000" cy="1584360"/>
          </a:xfrm>
          <a:prstGeom prst="cloudCallout">
            <a:avLst>
              <a:gd name="adj1" fmla="val 59185"/>
              <a:gd name="adj2" fmla="val -88939"/>
            </a:avLst>
          </a:prstGeom>
          <a:solidFill>
            <a:srgbClr val="eea84a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100 – 100)/100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u 1 – 100/10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42c8"/>
                </a:solidFill>
                <a:latin typeface="Georgia"/>
                <a:ea typeface="Arial"/>
              </a:rPr>
              <a:t>Compléter par le nombre qui convient.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6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itre 1"/>
          <p:cNvSpPr/>
          <p:nvPr/>
        </p:nvSpPr>
        <p:spPr>
          <a:xfrm>
            <a:off x="0" y="1628640"/>
            <a:ext cx="9144000" cy="522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gmenter un nombre de 0,5 %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vient à multiplier ce nombre par ..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éponse : 1,00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ensées 5"/>
          <p:cNvSpPr/>
          <p:nvPr/>
        </p:nvSpPr>
        <p:spPr>
          <a:xfrm>
            <a:off x="1116000" y="3068640"/>
            <a:ext cx="6912000" cy="1584360"/>
          </a:xfrm>
          <a:prstGeom prst="cloudCallout">
            <a:avLst>
              <a:gd name="adj1" fmla="val 59185"/>
              <a:gd name="adj2" fmla="val -88939"/>
            </a:avLst>
          </a:prstGeom>
          <a:solidFill>
            <a:srgbClr val="eea84a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100 + 0,5)/100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u 1 + 0,5/10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7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itre 1"/>
          <p:cNvSpPr/>
          <p:nvPr/>
        </p:nvSpPr>
        <p:spPr>
          <a:xfrm>
            <a:off x="0" y="1628640"/>
            <a:ext cx="9144000" cy="522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minuer un nombre de 2,5 %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vient à multiplier ce nombre par ..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éponse : 0,97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ensées 7"/>
          <p:cNvSpPr/>
          <p:nvPr/>
        </p:nvSpPr>
        <p:spPr>
          <a:xfrm>
            <a:off x="1116000" y="3068640"/>
            <a:ext cx="6912000" cy="1584360"/>
          </a:xfrm>
          <a:prstGeom prst="cloudCallout">
            <a:avLst>
              <a:gd name="adj1" fmla="val 59185"/>
              <a:gd name="adj2" fmla="val -88939"/>
            </a:avLst>
          </a:prstGeom>
          <a:solidFill>
            <a:srgbClr val="eea84a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100 – 2,5)/100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u 1 – 2,5/10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8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itre 1"/>
          <p:cNvSpPr/>
          <p:nvPr/>
        </p:nvSpPr>
        <p:spPr>
          <a:xfrm>
            <a:off x="0" y="1628640"/>
            <a:ext cx="9144000" cy="522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gmenter un nombre de 100 %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vient à multiplier ce nombre par ..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éponse : 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ensées 5"/>
          <p:cNvSpPr/>
          <p:nvPr/>
        </p:nvSpPr>
        <p:spPr>
          <a:xfrm>
            <a:off x="1116000" y="3068640"/>
            <a:ext cx="6912000" cy="1584360"/>
          </a:xfrm>
          <a:prstGeom prst="cloudCallout">
            <a:avLst>
              <a:gd name="adj1" fmla="val 59185"/>
              <a:gd name="adj2" fmla="val -88939"/>
            </a:avLst>
          </a:prstGeom>
          <a:solidFill>
            <a:srgbClr val="eea84a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100 + 100)/100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u 1 + 100/10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9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itre 1"/>
          <p:cNvSpPr/>
          <p:nvPr/>
        </p:nvSpPr>
        <p:spPr>
          <a:xfrm>
            <a:off x="0" y="1628640"/>
            <a:ext cx="9144000" cy="522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minuer un nombre de 0,1 %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vient à multiplier ce nombre par ..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éponse : 0,999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ensées 5"/>
          <p:cNvSpPr/>
          <p:nvPr/>
        </p:nvSpPr>
        <p:spPr>
          <a:xfrm>
            <a:off x="1116000" y="3068640"/>
            <a:ext cx="6912000" cy="1584360"/>
          </a:xfrm>
          <a:prstGeom prst="cloudCallout">
            <a:avLst>
              <a:gd name="adj1" fmla="val 59185"/>
              <a:gd name="adj2" fmla="val -88939"/>
            </a:avLst>
          </a:prstGeom>
          <a:solidFill>
            <a:srgbClr val="eea84a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100 – 0,1)/100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u 1 – 0,1/10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0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itre 1"/>
          <p:cNvSpPr/>
          <p:nvPr/>
        </p:nvSpPr>
        <p:spPr>
          <a:xfrm>
            <a:off x="0" y="1628640"/>
            <a:ext cx="9144000" cy="522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gmenter un nombre de 250 %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vient à multiplier ce nombre par ..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éponse : 3,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ensées 5"/>
          <p:cNvSpPr/>
          <p:nvPr/>
        </p:nvSpPr>
        <p:spPr>
          <a:xfrm>
            <a:off x="1116000" y="3068640"/>
            <a:ext cx="6912000" cy="1584360"/>
          </a:xfrm>
          <a:prstGeom prst="cloudCallout">
            <a:avLst>
              <a:gd name="adj1" fmla="val 59185"/>
              <a:gd name="adj2" fmla="val -88939"/>
            </a:avLst>
          </a:prstGeom>
          <a:solidFill>
            <a:srgbClr val="eea84a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100 + 250)/100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u 1 + 250/10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27144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5bd3"/>
                </a:solidFill>
                <a:latin typeface="Georgia"/>
                <a:ea typeface="Arial"/>
              </a:rPr>
              <a:t>FIN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0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itre 1"/>
          <p:cNvSpPr/>
          <p:nvPr/>
        </p:nvSpPr>
        <p:spPr>
          <a:xfrm>
            <a:off x="0" y="1628640"/>
            <a:ext cx="9144000" cy="522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gmenter un nombre de 10 %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vient à multiplier ce nombre par ..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éponse : 1,1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ensées 3"/>
          <p:cNvSpPr/>
          <p:nvPr/>
        </p:nvSpPr>
        <p:spPr>
          <a:xfrm>
            <a:off x="1116000" y="3068640"/>
            <a:ext cx="6912000" cy="1584360"/>
          </a:xfrm>
          <a:prstGeom prst="cloudCallout">
            <a:avLst>
              <a:gd name="adj1" fmla="val 59185"/>
              <a:gd name="adj2" fmla="val -88939"/>
            </a:avLst>
          </a:prstGeom>
          <a:solidFill>
            <a:srgbClr val="eea84a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100 + 10)/100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u 1 + 10/10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itre 1"/>
          <p:cNvSpPr/>
          <p:nvPr/>
        </p:nvSpPr>
        <p:spPr>
          <a:xfrm>
            <a:off x="0" y="1628640"/>
            <a:ext cx="914400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gmenter un nombre de 7 %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vient à multiplier ce nombre par ..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2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itre 1"/>
          <p:cNvSpPr/>
          <p:nvPr/>
        </p:nvSpPr>
        <p:spPr>
          <a:xfrm>
            <a:off x="0" y="1628640"/>
            <a:ext cx="914400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minuer un nombre de 8 %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vient à multiplier ce nombre par ..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3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itre 1"/>
          <p:cNvSpPr/>
          <p:nvPr/>
        </p:nvSpPr>
        <p:spPr>
          <a:xfrm>
            <a:off x="0" y="1628640"/>
            <a:ext cx="914400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gmenter un nombre de 50 %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vient à multiplier ce nombre par ..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4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itre 1"/>
          <p:cNvSpPr/>
          <p:nvPr/>
        </p:nvSpPr>
        <p:spPr>
          <a:xfrm>
            <a:off x="0" y="1628640"/>
            <a:ext cx="914400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minuer un nombre de 15 %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vient à multiplier ce nombre par ..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5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itre 1"/>
          <p:cNvSpPr/>
          <p:nvPr/>
        </p:nvSpPr>
        <p:spPr>
          <a:xfrm>
            <a:off x="0" y="1628640"/>
            <a:ext cx="914400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minuer un nombre de 100 %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vient à multiplier ce nombre par ..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6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itre 1"/>
          <p:cNvSpPr/>
          <p:nvPr/>
        </p:nvSpPr>
        <p:spPr>
          <a:xfrm>
            <a:off x="0" y="1628640"/>
            <a:ext cx="914400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gmenter un nombre de 0,5 %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vient à multiplier ce nombre par ..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5T15:38:50Z</dcterms:created>
  <dc:creator>Marielle Séguy</dc:creator>
  <dc:description/>
  <dc:language>en-US</dc:language>
  <cp:lastModifiedBy>SEM</cp:lastModifiedBy>
  <dcterms:modified xsi:type="dcterms:W3CDTF">2014-06-29T14:57:49Z</dcterms:modified>
  <cp:revision>212</cp:revision>
  <dc:subject/>
  <dc:title>Diapositive 0</dc:title>
</cp:coreProperties>
</file>