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8899-1817-4CA0-BFF2-1977556DC6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E5B-EFB0-4349-A6B4-27C11F08F2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08D8-1AED-4948-AAE6-20716D698A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41D-47B6-4239-BE00-FFD21187D7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5BF1-0878-46E5-8E66-3C2DCFB008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336-E451-4D02-8E1F-7D9B0D1797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515-529C-4608-9E4C-FEFAB8B247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425-2E93-4C0B-A811-2E7C17AAB3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622-9194-4BC5-AD77-18CD90ECBD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CB3-73DA-437F-84C1-559BF8C099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455C-3F6E-4681-ACEB-0F7529EEED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9DCF-578B-4648-896E-31BB9A3237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DA8C-F093-466B-A163-1CBFD9A076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56E-DA8D-4E0B-9BA9-F0B10A3A81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7D9-8BCC-49E7-8546-C26CFC9380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4F8-EFF8-4A0B-B520-95CFD95C8F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F588-1620-446E-BB87-B59240CB42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898-B403-4AB1-88A1-A0E07311F5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DCA-7A68-4453-A994-61E1777AFA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3B72-1D41-49BB-B46F-F46FC262FC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2F0-58E8-43C6-A090-E18DE828CD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4CB-4ED6-4B50-9783-3EA044559B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BCF-C0F9-49E4-A3A5-A8ADE2D0F3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850-2A72-44E1-8CB8-4947FC90B3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B14E-2657-4A85-9DB6-0B5DF4B67E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5E1-8DD2-4F29-91B2-86538D70C9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F11-BE93-4D38-85DE-37D07A4E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498-1A7D-42B0-ACEB-BD1D37E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F18-ED76-42BD-B614-1F506F0A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1F6-4E72-4C8E-8AF4-5460577B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E5-6A1C-4348-83F6-0F6C87B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27F-E7DC-487F-BE93-11E23D05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DDD-366C-4658-8A63-F2055423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EB9-68AC-4048-B900-C41B614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1D1-F4B5-410D-BB59-1E5FC06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DFC-10D8-4547-8C76-3827706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CF2-2570-4FF7-B4A5-A47BD208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5E0-7923-499D-AA47-05D700B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8377-7841-46DC-850D-45B9AADA16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76FC-183E-42E7-BD8C-B87BB1286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3"/>
          <p:cNvSpPr/>
          <p:nvPr/>
        </p:nvSpPr>
        <p:spPr>
          <a:xfrm>
            <a:off x="0" y="191628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1258920" y="2754360"/>
                <a:ext cx="6505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185840" y="2492280"/>
                <a:ext cx="691524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1798560" y="2158920"/>
                <a:ext cx="57056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5"/>
          <p:cNvSpPr/>
          <p:nvPr/>
        </p:nvSpPr>
        <p:spPr>
          <a:xfrm>
            <a:off x="5435640" y="2133720"/>
            <a:ext cx="1297080" cy="1366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6"/>
          <p:cNvSpPr/>
          <p:nvPr/>
        </p:nvSpPr>
        <p:spPr>
          <a:xfrm>
            <a:off x="2411280" y="3645000"/>
            <a:ext cx="3024360" cy="1268280"/>
          </a:xfrm>
          <a:prstGeom prst="cloudCallout">
            <a:avLst>
              <a:gd name="adj1" fmla="val 61092"/>
              <a:gd name="adj2" fmla="val -6636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58098" t="0" r="0" b="0"/>
          <a:stretch/>
        </p:blipFill>
        <p:spPr>
          <a:xfrm>
            <a:off x="4284720" y="1152360"/>
            <a:ext cx="4816440" cy="4319640"/>
          </a:xfrm>
          <a:prstGeom prst="rect">
            <a:avLst/>
          </a:prstGeom>
          <a:ln w="0">
            <a:noFill/>
          </a:ln>
        </p:spPr>
      </p:pic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0" y="1052640"/>
            <a:ext cx="43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58098" t="0" r="0" b="0"/>
          <a:stretch/>
        </p:blipFill>
        <p:spPr>
          <a:xfrm>
            <a:off x="4284720" y="1152360"/>
            <a:ext cx="4798800" cy="4303800"/>
          </a:xfrm>
          <a:prstGeom prst="rect">
            <a:avLst/>
          </a:prstGeom>
          <a:ln w="0">
            <a:noFill/>
          </a:ln>
        </p:spPr>
      </p:pic>
      <p:sp>
        <p:nvSpPr>
          <p:cNvPr id="88" name="Pensées 5"/>
          <p:cNvSpPr/>
          <p:nvPr/>
        </p:nvSpPr>
        <p:spPr>
          <a:xfrm>
            <a:off x="0" y="3573360"/>
            <a:ext cx="4788000" cy="1295640"/>
          </a:xfrm>
          <a:prstGeom prst="cloudCallout">
            <a:avLst>
              <a:gd name="adj1" fmla="val 9611"/>
              <a:gd name="adj2" fmla="val -117152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&lt; 3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&l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844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Pensées 4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591080" y="1413000"/>
                <a:ext cx="35402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119160" y="1413000"/>
                <a:ext cx="46940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lipse 4"/>
          <p:cNvSpPr/>
          <p:nvPr/>
        </p:nvSpPr>
        <p:spPr>
          <a:xfrm>
            <a:off x="5219640" y="1557360"/>
            <a:ext cx="865080" cy="1942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692360" y="3933720"/>
            <a:ext cx="3671640" cy="1268640"/>
          </a:xfrm>
          <a:prstGeom prst="cloudCallout">
            <a:avLst>
              <a:gd name="adj1" fmla="val 53777"/>
              <a:gd name="adj2" fmla="val -8961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sées 8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positive puis néga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éterminer le sens de variation </a:t>
            </a:r>
            <a:r>
              <a:rPr b="1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es fonctions affines</a:t>
            </a: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 suivant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512640" y="1341360"/>
                <a:ext cx="7947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49360" y="2590920"/>
                <a:ext cx="632628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39640" y="3965400"/>
                <a:ext cx="2930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onst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0" y="1052640"/>
            <a:ext cx="435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rcRect l="67093" t="0" r="0" b="4188"/>
          <a:stretch/>
        </p:blipFill>
        <p:spPr>
          <a:xfrm>
            <a:off x="5364000" y="900000"/>
            <a:ext cx="3600720" cy="438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rcRect l="67085" t="0" r="0" b="4188"/>
          <a:stretch/>
        </p:blipFill>
        <p:spPr>
          <a:xfrm>
            <a:off x="5364000" y="900000"/>
            <a:ext cx="3621240" cy="4415040"/>
          </a:xfrm>
          <a:prstGeom prst="rect">
            <a:avLst/>
          </a:prstGeom>
          <a:ln w="0">
            <a:noFill/>
          </a:ln>
        </p:spPr>
      </p:pic>
      <p:sp>
        <p:nvSpPr>
          <p:cNvPr id="113" name="Pensées 5"/>
          <p:cNvSpPr/>
          <p:nvPr/>
        </p:nvSpPr>
        <p:spPr>
          <a:xfrm>
            <a:off x="0" y="3429000"/>
            <a:ext cx="6084720" cy="1152360"/>
          </a:xfrm>
          <a:prstGeom prst="cloudCallout">
            <a:avLst>
              <a:gd name="adj1" fmla="val -3416"/>
              <a:gd name="adj2" fmla="val -131263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lt; 0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– 3) &g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sées 7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258920" y="1938240"/>
                <a:ext cx="6505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4"/>
          <p:cNvSpPr/>
          <p:nvPr/>
        </p:nvSpPr>
        <p:spPr>
          <a:xfrm>
            <a:off x="4284720" y="1844640"/>
            <a:ext cx="2735280" cy="1655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sées 5"/>
          <p:cNvSpPr/>
          <p:nvPr/>
        </p:nvSpPr>
        <p:spPr>
          <a:xfrm>
            <a:off x="1979640" y="3860640"/>
            <a:ext cx="4032360" cy="126864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609480" y="1797120"/>
                <a:ext cx="780588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4"/>
          <p:cNvSpPr/>
          <p:nvPr/>
        </p:nvSpPr>
        <p:spPr>
          <a:xfrm>
            <a:off x="3851280" y="1844640"/>
            <a:ext cx="3816360" cy="180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ensées 5"/>
          <p:cNvSpPr/>
          <p:nvPr/>
        </p:nvSpPr>
        <p:spPr>
          <a:xfrm>
            <a:off x="1692360" y="4032360"/>
            <a:ext cx="4319640" cy="126828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OpenSymbol"/>
                <a:ea typeface="OpenSymbol"/>
              </a:rPr>
              <a:t>√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5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6"/>
          <p:cNvSpPr/>
          <p:nvPr/>
        </p:nvSpPr>
        <p:spPr>
          <a:xfrm>
            <a:off x="2735280" y="4356000"/>
            <a:ext cx="3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468360" y="572616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63380" t="0" r="0" b="5500"/>
          <a:stretch/>
        </p:blipFill>
        <p:spPr>
          <a:xfrm>
            <a:off x="2268360" y="1157400"/>
            <a:ext cx="4643640" cy="45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9"/>
              <p:cNvSpPr txBox="1"/>
              <p:nvPr/>
            </p:nvSpPr>
            <p:spPr>
              <a:xfrm>
                <a:off x="1741320" y="2754360"/>
                <a:ext cx="5705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3"/>
          <p:cNvSpPr/>
          <p:nvPr/>
        </p:nvSpPr>
        <p:spPr>
          <a:xfrm>
            <a:off x="0" y="191628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8440" cy="22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1606680" y="2093760"/>
                <a:ext cx="592920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512640" y="2637000"/>
                <a:ext cx="79470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2:37Z</dcterms:modified>
  <cp:revision>262</cp:revision>
  <dc:subject/>
  <dc:title>Diapositive 0</dc:title>
</cp:coreProperties>
</file>