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31CC-D427-454D-9F56-26BA3D6090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DBD-0257-441B-A69A-DD4B21285B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762A-2982-4CD9-904F-025212A50E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E2E-26F0-4065-B74E-6BEFCAE830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E38-7C21-4CEE-8C7E-49916E5C0F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3B68-3679-491D-892B-43CEA12E66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CB61-3796-4B73-AD47-B7244D300D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DAE-B3E4-446F-932C-F18E0772C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F1C-6C1E-4EF5-A4D8-61A77CCC1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323F-BB9D-4A2A-A09D-2EB68978BD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94C4-EAAD-4AC5-BF2E-600AFD7A56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D184-DB46-4C53-8371-EEA9626041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3D7-2467-406F-B133-6E198338CB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362-2F9A-4D02-ADB3-1CE3FB71CB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0BE-1C94-42B3-83C9-08D5B3ED0D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8CD-CEF5-4475-A822-1783C9360C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CD7-294E-4B8B-9D41-EE9736BD75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45A8-BDB2-409F-8331-065A7D997A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EB42-50D8-4EE5-993C-2C22440757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11D-1030-4DC6-8E24-CE907F3244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11E-2CCF-4204-B94F-1599DECE54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201-681A-44C3-A12B-68A16660E1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8B7E-DEAF-48F8-8FB4-A48FA9A4D1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ED2-9125-4DC6-AEDF-2684B55FA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BD7-FA4F-4865-A0EA-D04EC7EAC7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4BAE-726D-45AD-9A29-D74C662639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0D5-7C2A-4F98-9787-EDACA368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162-C076-406C-BF58-C9AE964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AE3-8EF7-4A34-8E9B-FE2C9A98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CAF-164F-403F-84D1-33722647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130-D4D5-4718-A4AF-2E73881E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044-76B0-450A-9FD7-03F7591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90E-F0F4-4784-81A3-A995DF1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D7FB-3F6E-4A6B-A7A4-69011F2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F6F-0362-4572-BCA4-358E516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2D5-6F2D-42EC-BD7A-C871FC9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A91B-30F7-4262-BA0F-F96AA6B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131-01B3-49FC-89AA-E91A0CC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83C-BE96-4F3F-97E8-8F863D7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A33E-9E91-46F8-A4F3-43A02F6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312-68FA-4A66-97E9-C3C52CF9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1D7-6F92-4C3C-834C-1E5A2289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7683-C282-4564-83B3-9D7CA8A0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C42-9A7F-41D1-ABD9-BF21C30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08F-F79E-4039-BC86-447E626C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3AD-5721-490F-B3E9-4036E00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639-9BD6-458D-B541-44A78797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91C-DC75-452C-9EC9-2A4B6CD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F7C-0259-4141-851B-652F4D9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2F5-2686-4CB9-9543-DF84BEB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F2A-CC26-410A-88C3-E07CC050B80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E945-EF2E-432D-AF4E-D2921F457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95E-2DC8-4942-A32A-5283E169290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0E2-E137-436F-9172-4C2B4FAF4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5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6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6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72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75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80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81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82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93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96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01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02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03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Ellipse 2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Ellipse 2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Ellipse 3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Ellipse 25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14" name="Rectangle 22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Connecteur droit 23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17" name="Rectangle 20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Connecteur droit 2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2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2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2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35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38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e 65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4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4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Ellipse 74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Ellipse 75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Ellipse 76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Ellipse 77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Ellipse 78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Ellipse 79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Ellipse 80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Ellipse 81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Ellipse 82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54" name="Rectangle 71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Connecteur droit 72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57" name="Rectangle 69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Connecteur droit 70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1"/>
          <p:cNvSpPr/>
          <p:nvPr/>
        </p:nvSpPr>
        <p:spPr>
          <a:xfrm>
            <a:off x="0" y="5661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1 et 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Connecteur droit avec flèche 10"/>
          <p:cNvCxnSpPr/>
          <p:nvPr/>
        </p:nvCxnSpPr>
        <p:spPr>
          <a:xfrm flipH="1">
            <a:off x="1978920" y="309528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2" name="Connecteur droit avec flèche 13"/>
          <p:cNvCxnSpPr/>
          <p:nvPr/>
        </p:nvCxnSpPr>
        <p:spPr>
          <a:xfrm flipV="1">
            <a:off x="4788000" y="3095280"/>
            <a:ext cx="2448720" cy="8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3" name="Connecteur droit 17"/>
          <p:cNvSpPr/>
          <p:nvPr/>
        </p:nvSpPr>
        <p:spPr>
          <a:xfrm>
            <a:off x="520236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680400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6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6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79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82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3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une solution –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11"/>
          <p:cNvCxnSpPr/>
          <p:nvPr/>
        </p:nvCxnSpPr>
        <p:spPr>
          <a:xfrm flipH="1">
            <a:off x="3563640" y="3860280"/>
            <a:ext cx="1226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7" name="Connecteur droit avec flèche 17"/>
          <p:cNvCxnSpPr/>
          <p:nvPr/>
        </p:nvCxnSpPr>
        <p:spPr>
          <a:xfrm flipV="1">
            <a:off x="3995280" y="3068280"/>
            <a:ext cx="108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90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91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02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05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–3 et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Connecteur droit avec flèche 10"/>
          <p:cNvCxnSpPr/>
          <p:nvPr/>
        </p:nvCxnSpPr>
        <p:spPr>
          <a:xfrm flipH="1">
            <a:off x="1978920" y="349200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0" name="Connecteur droit avec flèche 12"/>
          <p:cNvCxnSpPr/>
          <p:nvPr/>
        </p:nvCxnSpPr>
        <p:spPr>
          <a:xfrm flipV="1">
            <a:off x="360000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1" name="Connecteur droit avec flèche 18"/>
          <p:cNvCxnSpPr/>
          <p:nvPr/>
        </p:nvCxnSpPr>
        <p:spPr>
          <a:xfrm flipV="1">
            <a:off x="478764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26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29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necteur droit avec flèche 8"/>
          <p:cNvCxnSpPr/>
          <p:nvPr/>
        </p:nvCxnSpPr>
        <p:spPr>
          <a:xfrm flipH="1">
            <a:off x="1978920" y="2707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4" name="Connecteur droit avec flèche 11"/>
          <p:cNvCxnSpPr/>
          <p:nvPr/>
        </p:nvCxnSpPr>
        <p:spPr>
          <a:xfrm>
            <a:off x="4789440" y="2707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5" name="Connecteur droit avec flèche 20"/>
          <p:cNvCxnSpPr/>
          <p:nvPr/>
        </p:nvCxnSpPr>
        <p:spPr>
          <a:xfrm flipH="1">
            <a:off x="550800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6" name="Connecteur droit avec flèche 21"/>
          <p:cNvCxnSpPr/>
          <p:nvPr/>
        </p:nvCxnSpPr>
        <p:spPr>
          <a:xfrm flipH="1">
            <a:off x="658728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3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39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40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51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54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-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cteur droit avec flèche 7"/>
          <p:cNvCxnSpPr/>
          <p:nvPr/>
        </p:nvCxnSpPr>
        <p:spPr>
          <a:xfrm flipH="1">
            <a:off x="1978920" y="1483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59" name="Connecteur droit avec flèche 8"/>
          <p:cNvCxnSpPr/>
          <p:nvPr/>
        </p:nvCxnSpPr>
        <p:spPr>
          <a:xfrm>
            <a:off x="4789440" y="1483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e 2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9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9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Ellipse 8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Ellipse 9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Ellipse 1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Ellipse 1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Ellipse 1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Ellipse 1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Ellipse 1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Ellipse 1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Ellipse 1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04" name="Rectangle 19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Connecteur droit 2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7 ; 6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e 21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6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6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6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Ellipse 42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Ellipse 43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Ellipse 45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Ellipse 46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Ellipse 47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Ellipse 48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Ellipse 49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Ellipse 40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475" name="Rectangle 37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Connecteur droit 3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478" name="Rectangle 27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Connecteur droit 36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ZoneTexte 11"/>
          <p:cNvSpPr/>
          <p:nvPr/>
        </p:nvSpPr>
        <p:spPr>
          <a:xfrm>
            <a:off x="0" y="5267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0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cteur droit 11"/>
          <p:cNvSpPr/>
          <p:nvPr/>
        </p:nvSpPr>
        <p:spPr>
          <a:xfrm flipH="1">
            <a:off x="2771280" y="2852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onnecteur droit 16"/>
          <p:cNvSpPr/>
          <p:nvPr/>
        </p:nvSpPr>
        <p:spPr>
          <a:xfrm flipH="1">
            <a:off x="2771280" y="3284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Connecteur droit avec flèche 9"/>
          <p:cNvCxnSpPr/>
          <p:nvPr/>
        </p:nvCxnSpPr>
        <p:spPr>
          <a:xfrm flipH="1">
            <a:off x="2770920" y="2923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5" name="Connecteur droit avec flèche 10"/>
          <p:cNvCxnSpPr/>
          <p:nvPr/>
        </p:nvCxnSpPr>
        <p:spPr>
          <a:xfrm flipH="1">
            <a:off x="4500000" y="2925360"/>
            <a:ext cx="1080" cy="359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6" name="Connecteur droit avec flèche 12"/>
          <p:cNvCxnSpPr/>
          <p:nvPr/>
        </p:nvCxnSpPr>
        <p:spPr>
          <a:xfrm flipV="1">
            <a:off x="4500360" y="162828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e 50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8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9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9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Ellipse 61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Ellipse 62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Ellipse 6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Ellipse 65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Ellipse 66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Ellipse 67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Ellipse 68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Ellipse 59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02" name="Rectangle 56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Connecteur droit 57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05" name="Rectangle 54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Connecteur droit 55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ZoneTexte 11"/>
          <p:cNvSpPr/>
          <p:nvPr/>
        </p:nvSpPr>
        <p:spPr>
          <a:xfrm>
            <a:off x="0" y="5251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cteur droit 7"/>
          <p:cNvSpPr/>
          <p:nvPr/>
        </p:nvSpPr>
        <p:spPr>
          <a:xfrm flipH="1">
            <a:off x="2771280" y="196200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cteur droit 8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Connecteur droit avec flèche 9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2" name="Connecteur droit avec flèche 11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3" name="Connecteur droit avec flèche 13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1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1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1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Ellipse 4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Ellipse 4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Ellipse 5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Ellipse 5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Ellipse 5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Ellipse 5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Ellipse 5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Ellipse 4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29" name="Rectangle 4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Connecteur droit 4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32" name="Rectangle 3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Connecteur droit 4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ZoneTexte 11"/>
          <p:cNvSpPr/>
          <p:nvPr/>
        </p:nvSpPr>
        <p:spPr>
          <a:xfrm>
            <a:off x="-3636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oneTexte 11"/>
          <p:cNvSpPr/>
          <p:nvPr/>
        </p:nvSpPr>
        <p:spPr>
          <a:xfrm>
            <a:off x="0" y="57834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1]</a:t>
            </a:r>
            <a:r>
              <a:rPr b="0" lang="fr-FR" sz="3000" spc="-1" strike="noStrike">
                <a:solidFill>
                  <a:srgbClr val="00b050"/>
                </a:solidFill>
                <a:latin typeface="Arial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necteur droit 7"/>
          <p:cNvSpPr/>
          <p:nvPr/>
        </p:nvSpPr>
        <p:spPr>
          <a:xfrm flipH="1">
            <a:off x="2771280" y="4194000"/>
            <a:ext cx="4753080" cy="9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necteur droit 8"/>
          <p:cNvSpPr/>
          <p:nvPr/>
        </p:nvSpPr>
        <p:spPr>
          <a:xfrm flipH="1">
            <a:off x="2771640" y="3284640"/>
            <a:ext cx="21607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Connecteur droit avec flèche 9"/>
          <p:cNvCxnSpPr/>
          <p:nvPr/>
        </p:nvCxnSpPr>
        <p:spPr>
          <a:xfrm flipH="1" flipV="1">
            <a:off x="4500000" y="1699920"/>
            <a:ext cx="1080" cy="2521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39" name="Connecteur droit avec flèche 13"/>
          <p:cNvCxnSpPr/>
          <p:nvPr/>
        </p:nvCxnSpPr>
        <p:spPr>
          <a:xfrm flipV="1">
            <a:off x="493200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0" name="Connecteur droit avec flèche 15"/>
          <p:cNvCxnSpPr/>
          <p:nvPr/>
        </p:nvCxnSpPr>
        <p:spPr>
          <a:xfrm flipV="1">
            <a:off x="6227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1" name="Connecteur droit avec flèche 38"/>
          <p:cNvCxnSpPr/>
          <p:nvPr/>
        </p:nvCxnSpPr>
        <p:spPr>
          <a:xfrm flipV="1">
            <a:off x="2771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2" name="Connecteur droit avec flèche 40"/>
          <p:cNvCxnSpPr/>
          <p:nvPr/>
        </p:nvCxnSpPr>
        <p:spPr>
          <a:xfrm flipV="1">
            <a:off x="752436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43" name="Connecteur droit 42"/>
          <p:cNvSpPr/>
          <p:nvPr/>
        </p:nvSpPr>
        <p:spPr>
          <a:xfrm flipH="1">
            <a:off x="6227280" y="3284640"/>
            <a:ext cx="1297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e 23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4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4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4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9" name="Ellipse 35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Ellipse 36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Ellipse 38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Ellipse 39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Ellipse 50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Ellipse 51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Ellipse 33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59" name="Rectangle 30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Connecteur droit 31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62" name="Rectangle 28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Connecteur droit 29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–1[</a:t>
            </a:r>
            <a:r>
              <a:rPr b="0" lang="fr-FR" sz="3000" spc="-1" strike="noStrike">
                <a:solidFill>
                  <a:srgbClr val="00b050"/>
                </a:solidFill>
                <a:latin typeface="Calibri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] –1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nnecteur droit 9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10"/>
          <p:cNvSpPr/>
          <p:nvPr/>
        </p:nvSpPr>
        <p:spPr>
          <a:xfrm flipV="1">
            <a:off x="3706920" y="1628640"/>
            <a:ext cx="649080" cy="648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necteur droit 11"/>
          <p:cNvSpPr/>
          <p:nvPr/>
        </p:nvSpPr>
        <p:spPr>
          <a:xfrm>
            <a:off x="4049640" y="316872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onnecteur droit 12"/>
          <p:cNvSpPr/>
          <p:nvPr/>
        </p:nvSpPr>
        <p:spPr>
          <a:xfrm flipH="1">
            <a:off x="2771280" y="1979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Connecteur droit avec flèche 14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1" name="Connecteur droit avec flèche 15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2" name="Connecteur droit avec flèche 16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e 18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75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76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77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Ellipse 30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Ellipse 31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Ellipse 3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Ellipse 43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Ellipse 44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Ellipse 45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Ellipse 46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Ellipse 28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88" name="Rectangle 2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Connecteur droit 26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91" name="Rectangle 23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Connecteur droit 24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onnecteur droit 5"/>
          <p:cNvSpPr/>
          <p:nvPr/>
        </p:nvSpPr>
        <p:spPr>
          <a:xfrm flipH="1">
            <a:off x="2700000" y="4653000"/>
            <a:ext cx="4824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néquation 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Connecteur droit avec flèche 8"/>
          <p:cNvCxnSpPr/>
          <p:nvPr/>
        </p:nvCxnSpPr>
        <p:spPr>
          <a:xfrm>
            <a:off x="4500360" y="465264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e 20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Ellipse 29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Ellipse 30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Ellipse 3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Ellipse 32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Ellipse 33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Ellipse 34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Ellipse 35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Ellipse 36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Ellipse 37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26" name="Rectangle 26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Connecteur droit 27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29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35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36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47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50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56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57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68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71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7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7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89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92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e 41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9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9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Ellipse 50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Ellipse 51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Ellipse 52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Ellipse 5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Ellipse 5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Ellipse 5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Ellipse 5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Ellipse 5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Ellipse 5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209" name="Rectangle 47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onnecteur droit 48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212" name="Rectangle 45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Connecteur droit 46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in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g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 4 ; 7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17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18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19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Ellipse 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Ellipse 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Ellipse 1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Ellipse 11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Ellipse 12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Ellipse 13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Ellipse 14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Ellipse 1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30" name="Rectangle 1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onnecteur droit 1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33" name="Rectangle 22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Connecteur droit 23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38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39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40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Ellipse 2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Ellipse 2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Ellipse 3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Ellipse 3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Ellipse 3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Ellipse 3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Ellipse 2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51" name="Rectangle 2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Connecteur droit 2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54" name="Rectangle 21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Connecteur droit 22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0:17Z</dcterms:modified>
  <cp:revision>251</cp:revision>
  <dc:subject/>
  <dc:title>Diapositive 0</dc:title>
</cp:coreProperties>
</file>