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722D-7C1D-4F7E-8A32-AFA7AF4038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2290-A0D8-4317-977A-9C46E7E6FF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5E1-1BCB-4F0C-82AC-0539F3F510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1B1-C47E-4424-B4A4-B749042D42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5B0E-1C79-48E0-B062-40F795ACDA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C932-6EAD-4DD8-883C-9199A5446D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F61A-73E3-457A-81D8-8174D327DE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6A43-E4CA-40A6-8CD1-6B4DA831E1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42F-3C82-4525-BDBD-ECA0984039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768-B36C-4229-8644-A21F4E3918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B15-B822-45CA-B6A0-B136148B4F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51E-197D-4748-9E63-7765563FE5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9A6-2F3B-48B6-BF83-1D80BC0C3D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55B-7ABB-458F-A36E-2D82425015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C2A-C746-4415-A267-EA45D9C5CC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840-825F-466C-9F44-C2126E5A01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F441-A03C-44E8-A29D-80E6392695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675-F6B5-4D09-B832-0DE10DB751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CA0-7D8A-4982-97DF-CA99C7EBDF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C8D5-5520-4BDF-91F8-7841BD85B9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596-DADD-4619-AD0F-C12332C82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6F9-2DFB-4A5F-8026-966811B3AF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267-2207-4ABD-B48F-2C4C379500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CE0-CBBA-4FA3-8B71-B01B61A1BC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69C-E201-447E-8B29-B38B3C6DB3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47B-736C-486C-BFAA-4260234EB7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2F1-906E-48E1-A42A-E84230A5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DBE-2466-43B0-8F26-CE749F3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F1D-7A7A-43CB-B514-5F45E775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5AA-894B-4E34-84F2-BBD5A0C0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B10-E98A-4E82-AA8D-A9EA296F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130-98B6-4F0A-B811-840B4655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2CC-EA10-40EC-BE38-15B3765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C36-5970-4B88-95FA-5AEA613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933-D6BE-4A20-80D1-AF8E1783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A4B-BE57-493A-911F-AD4E27C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EBE-C30C-48B2-8CE3-08AFE04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F30-C266-4D63-BA93-B8B3294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89BA-0ABB-4D1C-A13B-2AFFD40C03F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42BC-C3DE-4904-8489-B3BAF3FB6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5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8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1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4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7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FONCTION OU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PAS FONCTION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0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3" name="Ellipse 5"/>
          <p:cNvSpPr/>
          <p:nvPr/>
        </p:nvSpPr>
        <p:spPr>
          <a:xfrm rot="20611200">
            <a:off x="358920" y="3003120"/>
            <a:ext cx="2752560" cy="1152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6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9" name="Ellipse 4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102" name="Ellipse 6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P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our chaque courbe, dire si elle correspond à la représentation graphique d’une fonction ou non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Xavier Malbert</dc:creator>
  <dc:description/>
  <dc:language>en-US</dc:language>
  <cp:lastModifiedBy>Marielle Séguy</cp:lastModifiedBy>
  <dcterms:modified xsi:type="dcterms:W3CDTF">2015-04-23T09:45:17Z</dcterms:modified>
  <cp:revision>263</cp:revision>
  <dc:subject/>
  <dc:title>Fonction ou Pas fonction</dc:title>
</cp:coreProperties>
</file>