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A4A-3775-4424-99AA-8378566D59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14B2-C92B-47EF-89D0-DF40054827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38E-EB3A-4388-8B59-E04E81D352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7555-C619-4D52-983E-E2A1DDA6CD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820-3BA6-42DD-8969-ECDF231D84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05E-CE3B-4C05-A98F-7FB3B0BD35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5C6-9914-446E-A517-19676076CD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0D62-213C-47C4-BCFD-939768260A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406-E0CF-4FB9-B815-EDEFEE2FEE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91C-721C-4739-9161-60E4CC9FF4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F36-02B4-45E9-BBA5-504DE16A1B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A812-1DDA-4A7A-8451-A4CEF5592C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93CE-7704-4992-BDFD-A6E2941A00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A81B-E6C5-49F9-846B-83A3EFDC6C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A352-D5FF-442D-8A82-C473650B50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1CE-858F-4514-B34C-ECBD89460B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46A7-D769-4451-902D-B16E2AA9F9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BE0-90F5-4B86-B972-DD8DD04BCC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3810-2992-4546-9BFB-7D573BF5DA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E1E-F684-4289-BA63-8FB90F436C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4978-C35A-4EDB-BC64-980E2C95EF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19D-7465-407F-941F-7225DE239C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5E72-2A1D-483F-9D06-08289623AD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CD33-3987-47A8-A7BC-48DEFA41B1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5909-05CF-4B60-AC27-C303F11AD9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DBA-AE0A-4939-A6ED-E8E471AF8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68A-783F-4F80-9D16-5201A1F8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FC9-1BDC-452B-AB7E-AB2E032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928-58B5-40E7-9035-7CF7237E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325-3FE3-45BC-B326-61E4EAC2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769E-C623-4549-9986-19B0DA86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75DF-BB54-434B-8D48-6F0AA0A7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662E-EB23-4BA1-9CDE-922F26E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1E40-99BD-44CF-A912-B527540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74D6-A4F2-4F8D-90D3-1F25D391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EEC0-C1B1-4614-B80E-0EBB9BD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D46-EDD0-42F5-8627-BECB5E0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A0A-9271-45FC-8F20-02EE3215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8B4-5C4A-474F-B08A-314B618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73CE-B59E-4E7F-B4DB-B2C0BDA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3200-F399-405A-85B9-A69215C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900-AA62-4A88-9DF5-8B9712C7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73AC-0DEC-42D3-855E-87F45586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291-9CE8-4EF1-9A79-C7431F8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C33-C47F-4EA9-88A8-8B87B20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A4A-1D8E-4006-9478-2E71EBB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1E6-14EC-4666-8F67-49C386C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82E-6A7B-4139-9C57-2F140234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323-D510-4B01-A9E3-C9C2120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B43-0089-4084-8453-D3D5B1C7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947F-9ED2-490F-889A-C466BCDAC8C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DF3-D8DC-4A7F-A6B0-DF18DE040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550C-6C54-4092-902A-2ADB7491EC6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266-D58C-47CC-980F-2CD70811C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6 a pour image –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est l’image de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posi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2)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31" name="ZoneTexte 11"/>
          <p:cNvSpPr/>
          <p:nvPr/>
        </p:nvSpPr>
        <p:spPr>
          <a:xfrm>
            <a:off x="0" y="579744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7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rganigramme : Connecteur 4"/>
          <p:cNvSpPr/>
          <p:nvPr/>
        </p:nvSpPr>
        <p:spPr>
          <a:xfrm>
            <a:off x="8496360" y="828720"/>
            <a:ext cx="360360" cy="3585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Connecteur droit avec flèche 6"/>
          <p:cNvCxnSpPr/>
          <p:nvPr/>
        </p:nvCxnSpPr>
        <p:spPr>
          <a:xfrm flipV="1">
            <a:off x="8675280" y="1052280"/>
            <a:ext cx="1080" cy="194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5" name="Connecteur droit avec flèche 7"/>
          <p:cNvCxnSpPr/>
          <p:nvPr/>
        </p:nvCxnSpPr>
        <p:spPr>
          <a:xfrm flipH="1">
            <a:off x="4140000" y="1052280"/>
            <a:ext cx="446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1"/>
          <p:cNvSpPr/>
          <p:nvPr/>
        </p:nvSpPr>
        <p:spPr>
          <a:xfrm>
            <a:off x="216000" y="59612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rganigramme : Connecteur 8"/>
          <p:cNvSpPr/>
          <p:nvPr/>
        </p:nvSpPr>
        <p:spPr>
          <a:xfrm>
            <a:off x="3959280" y="280836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14"/>
          <p:cNvSpPr/>
          <p:nvPr/>
        </p:nvSpPr>
        <p:spPr>
          <a:xfrm>
            <a:off x="250920" y="6308640"/>
            <a:ext cx="16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6"/>
          <p:cNvSpPr/>
          <p:nvPr/>
        </p:nvSpPr>
        <p:spPr>
          <a:xfrm>
            <a:off x="2700360" y="5950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11"/>
          <p:cNvSpPr/>
          <p:nvPr/>
        </p:nvSpPr>
        <p:spPr>
          <a:xfrm>
            <a:off x="0" y="5797440"/>
            <a:ext cx="65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rganigramme : Connecteur 4"/>
          <p:cNvSpPr/>
          <p:nvPr/>
        </p:nvSpPr>
        <p:spPr>
          <a:xfrm>
            <a:off x="2016000" y="4068720"/>
            <a:ext cx="360360" cy="35892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necteur droit avec flèche 6"/>
          <p:cNvCxnSpPr/>
          <p:nvPr/>
        </p:nvCxnSpPr>
        <p:spPr>
          <a:xfrm>
            <a:off x="2195280" y="299736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9" name="Connecteur droit avec flèche 7"/>
          <p:cNvCxnSpPr/>
          <p:nvPr/>
        </p:nvCxnSpPr>
        <p:spPr>
          <a:xfrm>
            <a:off x="2195640" y="4292280"/>
            <a:ext cx="1945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11"/>
          <p:cNvSpPr/>
          <p:nvPr/>
        </p:nvSpPr>
        <p:spPr>
          <a:xfrm>
            <a:off x="0" y="574524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antécédent –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rganigramme : Connecteur 5"/>
          <p:cNvSpPr/>
          <p:nvPr/>
        </p:nvSpPr>
        <p:spPr>
          <a:xfrm>
            <a:off x="3851280" y="115920"/>
            <a:ext cx="504720" cy="50472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cteur droit 12"/>
          <p:cNvSpPr/>
          <p:nvPr/>
        </p:nvSpPr>
        <p:spPr>
          <a:xfrm>
            <a:off x="179280" y="6093000"/>
            <a:ext cx="45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5"/>
          <p:cNvSpPr/>
          <p:nvPr/>
        </p:nvSpPr>
        <p:spPr>
          <a:xfrm>
            <a:off x="1403280" y="6165720"/>
            <a:ext cx="53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 n’a pas d’antécé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Connecteur droit avec flèche 11"/>
          <p:cNvCxnSpPr/>
          <p:nvPr/>
        </p:nvCxnSpPr>
        <p:spPr>
          <a:xfrm>
            <a:off x="4140360" y="40428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9" name="Connecteur droit avec flèche 14"/>
          <p:cNvCxnSpPr/>
          <p:nvPr/>
        </p:nvCxnSpPr>
        <p:spPr>
          <a:xfrm flipH="1">
            <a:off x="250200" y="404280"/>
            <a:ext cx="3817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11"/>
          <p:cNvSpPr/>
          <p:nvPr/>
        </p:nvSpPr>
        <p:spPr>
          <a:xfrm>
            <a:off x="0" y="6002280"/>
            <a:ext cx="65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</a:t>
            </a:r>
            <a:r>
              <a:rPr b="0" i="1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 est 6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rganigramme : Connecteur 5"/>
          <p:cNvSpPr/>
          <p:nvPr/>
        </p:nvSpPr>
        <p:spPr>
          <a:xfrm>
            <a:off x="7848720" y="2771640"/>
            <a:ext cx="3585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Connecteur droit avec flèche 6"/>
          <p:cNvCxnSpPr/>
          <p:nvPr/>
        </p:nvCxnSpPr>
        <p:spPr>
          <a:xfrm flipV="1">
            <a:off x="4140360" y="299664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Connecteur droit avec flèche 8"/>
          <p:cNvCxnSpPr/>
          <p:nvPr/>
        </p:nvCxnSpPr>
        <p:spPr>
          <a:xfrm flipH="1">
            <a:off x="250560" y="299700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7" name="Organigramme : Connecteur 11"/>
          <p:cNvSpPr/>
          <p:nvPr/>
        </p:nvSpPr>
        <p:spPr>
          <a:xfrm>
            <a:off x="3851280" y="2997360"/>
            <a:ext cx="35892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e la courbe représentative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sur [-6 ; 7], 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répondre aux questions par VRAI ou FAUX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11"/>
          <p:cNvSpPr/>
          <p:nvPr/>
        </p:nvSpPr>
        <p:spPr>
          <a:xfrm>
            <a:off x="0" y="566100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est un antécédent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rganigramme : Connecteur 5"/>
          <p:cNvSpPr/>
          <p:nvPr/>
        </p:nvSpPr>
        <p:spPr>
          <a:xfrm>
            <a:off x="3851280" y="1482840"/>
            <a:ext cx="433440" cy="43344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Connecteur droit avec flèche 6"/>
          <p:cNvCxnSpPr/>
          <p:nvPr/>
        </p:nvCxnSpPr>
        <p:spPr>
          <a:xfrm flipH="1">
            <a:off x="250560" y="169992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cteur droit 9"/>
          <p:cNvSpPr/>
          <p:nvPr/>
        </p:nvSpPr>
        <p:spPr>
          <a:xfrm>
            <a:off x="179280" y="6021360"/>
            <a:ext cx="50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0"/>
          <p:cNvSpPr/>
          <p:nvPr/>
        </p:nvSpPr>
        <p:spPr>
          <a:xfrm>
            <a:off x="0" y="6165720"/>
            <a:ext cx="70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 n’est pas un antécédent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Connecteur droit avec flèche 14"/>
          <p:cNvCxnSpPr/>
          <p:nvPr/>
        </p:nvCxnSpPr>
        <p:spPr>
          <a:xfrm>
            <a:off x="4140360" y="169992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Connecteur droit avec flèche 17"/>
          <p:cNvCxnSpPr/>
          <p:nvPr/>
        </p:nvCxnSpPr>
        <p:spPr>
          <a:xfrm>
            <a:off x="3492000" y="170028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8" name="Connecteur droit avec flèche 18"/>
          <p:cNvCxnSpPr/>
          <p:nvPr/>
        </p:nvCxnSpPr>
        <p:spPr>
          <a:xfrm>
            <a:off x="8459280" y="170028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11"/>
          <p:cNvSpPr/>
          <p:nvPr/>
        </p:nvSpPr>
        <p:spPr>
          <a:xfrm>
            <a:off x="0" y="579744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6 a pour image –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rganigramme : Connecteur 5"/>
          <p:cNvSpPr/>
          <p:nvPr/>
        </p:nvSpPr>
        <p:spPr>
          <a:xfrm>
            <a:off x="71280" y="536400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necteur droit avec flèche 6"/>
          <p:cNvCxnSpPr/>
          <p:nvPr/>
        </p:nvCxnSpPr>
        <p:spPr>
          <a:xfrm>
            <a:off x="250560" y="2997000"/>
            <a:ext cx="1080" cy="25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4" name="Connecteur droit avec flèche 7"/>
          <p:cNvCxnSpPr/>
          <p:nvPr/>
        </p:nvCxnSpPr>
        <p:spPr>
          <a:xfrm>
            <a:off x="250920" y="558936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8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87" name="ZoneTexte 11"/>
          <p:cNvSpPr/>
          <p:nvPr/>
        </p:nvSpPr>
        <p:spPr>
          <a:xfrm>
            <a:off x="0" y="5797440"/>
            <a:ext cx="70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est l’image de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rganigramme : Connecteur 5"/>
          <p:cNvSpPr/>
          <p:nvPr/>
        </p:nvSpPr>
        <p:spPr>
          <a:xfrm>
            <a:off x="3311640" y="151128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Connecteur droit avec flèche 6"/>
          <p:cNvCxnSpPr/>
          <p:nvPr/>
        </p:nvCxnSpPr>
        <p:spPr>
          <a:xfrm flipV="1">
            <a:off x="3492000" y="1699560"/>
            <a:ext cx="1080" cy="1297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1" name="Connecteur droit avec flèche 7"/>
          <p:cNvCxnSpPr/>
          <p:nvPr/>
        </p:nvCxnSpPr>
        <p:spPr>
          <a:xfrm>
            <a:off x="3492360" y="1699920"/>
            <a:ext cx="648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2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94" name="ZoneTexte 11"/>
          <p:cNvSpPr/>
          <p:nvPr/>
        </p:nvSpPr>
        <p:spPr>
          <a:xfrm>
            <a:off x="0" y="5797440"/>
            <a:ext cx="71643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pos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rganigramme : Connecteur 5"/>
          <p:cNvSpPr/>
          <p:nvPr/>
        </p:nvSpPr>
        <p:spPr>
          <a:xfrm>
            <a:off x="7164360" y="393372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necteur droit avec flèche 6"/>
          <p:cNvCxnSpPr/>
          <p:nvPr/>
        </p:nvCxnSpPr>
        <p:spPr>
          <a:xfrm>
            <a:off x="7380000" y="2997000"/>
            <a:ext cx="1080" cy="115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Connecteur droit avec flèche 7"/>
          <p:cNvCxnSpPr/>
          <p:nvPr/>
        </p:nvCxnSpPr>
        <p:spPr>
          <a:xfrm flipH="1">
            <a:off x="4103280" y="4149360"/>
            <a:ext cx="3277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9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necteur droit 13"/>
          <p:cNvSpPr/>
          <p:nvPr/>
        </p:nvSpPr>
        <p:spPr>
          <a:xfrm>
            <a:off x="3492360" y="616572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5"/>
          <p:cNvSpPr/>
          <p:nvPr/>
        </p:nvSpPr>
        <p:spPr>
          <a:xfrm>
            <a:off x="2987640" y="6165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é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203" name="ZoneTexte 11"/>
          <p:cNvSpPr/>
          <p:nvPr/>
        </p:nvSpPr>
        <p:spPr>
          <a:xfrm>
            <a:off x="0" y="579744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2)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rganigramme : Connecteur 7"/>
          <p:cNvSpPr/>
          <p:nvPr/>
        </p:nvSpPr>
        <p:spPr>
          <a:xfrm>
            <a:off x="2627280" y="2808360"/>
            <a:ext cx="477720" cy="47628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Connecteur droit avec flèche 8"/>
          <p:cNvCxnSpPr/>
          <p:nvPr/>
        </p:nvCxnSpPr>
        <p:spPr>
          <a:xfrm>
            <a:off x="2916360" y="2997000"/>
            <a:ext cx="122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0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11"/>
          <p:cNvSpPr/>
          <p:nvPr/>
        </p:nvSpPr>
        <p:spPr>
          <a:xfrm>
            <a:off x="0" y="579744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a pour image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6"/>
          <p:cNvCxnSpPr/>
          <p:nvPr/>
        </p:nvCxnSpPr>
        <p:spPr>
          <a:xfrm>
            <a:off x="4787640" y="2998440"/>
            <a:ext cx="1080" cy="1222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96" name="Connecteur droit avec flèche 7"/>
          <p:cNvCxnSpPr/>
          <p:nvPr/>
        </p:nvCxnSpPr>
        <p:spPr>
          <a:xfrm flipH="1">
            <a:off x="4139640" y="4292280"/>
            <a:ext cx="648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rganigramme : Connecteur 16"/>
          <p:cNvSpPr/>
          <p:nvPr/>
        </p:nvSpPr>
        <p:spPr>
          <a:xfrm>
            <a:off x="4608360" y="4103640"/>
            <a:ext cx="35892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7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antécédent –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 est 6.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est un antécédent de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7:10Z</dcterms:modified>
  <cp:revision>240</cp:revision>
  <dc:subject/>
  <dc:title>Diapositive 0</dc:title>
</cp:coreProperties>
</file>