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F04E-2713-4872-9D6E-6A9D4CD012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9EA9-85C6-4364-B635-B8B87C74AD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617E-BD35-461F-B0C8-6AC3A508D3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4151-C5C0-4B49-95F9-683A8ECAB6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C502-D8E3-49D3-A30A-D60B9D66FFE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F7CA-D23C-40DE-ABFB-838E43E196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218D-F671-4173-82F5-7240F6EFF5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2C49-ABEB-4A95-9E03-621AE06835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BB01-A3A5-4BF9-8CCA-EADA929483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564D-E440-43AA-AAA7-459A362170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B36E-D813-49EC-9569-1FE29ED619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266B-B50A-4AB5-A967-8DC373A831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41AE-1547-49B5-B20E-11D825DA78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FFAD-351A-4A81-8E8A-64878E5863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337E-15A0-4E1A-87D4-DEAC42856A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4B37-46FF-4419-AEA0-2F737DABDC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E477-8E8E-46C9-9F97-845EA75824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3A24-CB0A-4436-8F6C-EDB7AF976F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FDF5-5354-4092-8967-1075533C31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34E9-89D0-40F3-8CF9-EA1408C964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7575-A347-4214-9840-672506336E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72A9-CE7C-4042-8048-E561795693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903C-4380-4A10-BA60-854A66BE23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C4F4-2BEC-43FA-A38F-C6FBCF99BD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A675-2B47-4739-9D7C-7DFDEA1792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E325-4BA8-493A-B880-2D5B3FAD57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7F2-987B-498B-A190-84C056C5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542-F302-4A58-97CD-748CAA52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471-4A86-4B62-A824-67F67385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E0B-1F1F-4EC0-9958-6BD51119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41A-68B2-43C1-B2BF-89E4D011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C27A-5AD0-4919-99A3-9D55856A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7D4-01FD-44D9-A2FB-83029BAF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4359-EDDF-4EB5-A182-0C60E93D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7AA8-C0BC-4DCB-A7FD-95E59236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8814-C033-46B2-AC01-DEF27288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79C-E915-4416-829C-F412A618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27F-5FBA-4072-8A41-4E2E5C60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1A44-872B-477D-A94B-50644914223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204C-6F70-408E-A163-14552AF09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42c8"/>
                </a:solidFill>
                <a:latin typeface="Georgia"/>
              </a:rPr>
              <a:t>FONCTIONS AFFIN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1725480" y="2714760"/>
                <a:ext cx="56721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2284560" y="2346480"/>
                <a:ext cx="4554360" cy="19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2363760" y="2714760"/>
                <a:ext cx="43941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1685880" y="2714760"/>
                <a:ext cx="555012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42c8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25560" y="1125360"/>
                <a:ext cx="5194080" cy="19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5076720" y="1125360"/>
                <a:ext cx="343548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ZoneTexte 7"/>
          <p:cNvSpPr/>
          <p:nvPr/>
        </p:nvSpPr>
        <p:spPr>
          <a:xfrm>
            <a:off x="0" y="3141720"/>
            <a:ext cx="91440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1835280" y="5373720"/>
            <a:ext cx="5400720" cy="86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3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2/3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–2/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oneTexte 15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0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      </a:t>
            </a:r>
            <a:r>
              <a:rPr b="0" lang="fr-FR" sz="5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2050920" y="4869000"/>
            <a:ext cx="4969080" cy="17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"/>
              <p:cNvSpPr txBox="1"/>
              <p:nvPr/>
            </p:nvSpPr>
            <p:spPr>
              <a:xfrm>
                <a:off x="-36360" y="1058760"/>
                <a:ext cx="479412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4500720" y="1047600"/>
                <a:ext cx="4120920" cy="20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8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9" descr=""/>
          <p:cNvPicPr/>
          <p:nvPr/>
        </p:nvPicPr>
        <p:blipFill>
          <a:blip r:embed="rId1"/>
          <a:stretch/>
        </p:blipFill>
        <p:spPr>
          <a:xfrm>
            <a:off x="5637240" y="4921200"/>
            <a:ext cx="1166760" cy="160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1087560" y="1230480"/>
                <a:ext cx="69548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2" name="Picture 3" descr=""/>
          <p:cNvPicPr/>
          <p:nvPr/>
        </p:nvPicPr>
        <p:blipFill>
          <a:blip r:embed="rId1"/>
          <a:srcRect l="15616" t="15321" r="15616" b="15321"/>
          <a:stretch/>
        </p:blipFill>
        <p:spPr>
          <a:xfrm>
            <a:off x="5508720" y="3141720"/>
            <a:ext cx="3552840" cy="3651120"/>
          </a:xfrm>
          <a:prstGeom prst="rect">
            <a:avLst/>
          </a:prstGeom>
          <a:ln w="0">
            <a:noFill/>
          </a:ln>
        </p:spPr>
      </p:pic>
      <p:sp>
        <p:nvSpPr>
          <p:cNvPr id="103" name="ZoneTexte 11"/>
          <p:cNvSpPr/>
          <p:nvPr/>
        </p:nvSpPr>
        <p:spPr>
          <a:xfrm rot="884400">
            <a:off x="667476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1116000" y="1916280"/>
                <a:ext cx="47959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ZoneTexte 7"/>
          <p:cNvSpPr/>
          <p:nvPr/>
        </p:nvSpPr>
        <p:spPr>
          <a:xfrm>
            <a:off x="0" y="3284640"/>
            <a:ext cx="55800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n’est pas de la f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avec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et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deux ré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Représentation graphique de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2"/>
              <p:cNvSpPr txBox="1"/>
              <p:nvPr/>
            </p:nvSpPr>
            <p:spPr>
              <a:xfrm>
                <a:off x="1725480" y="1557360"/>
                <a:ext cx="567396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8" name="ZoneTexte 11"/>
          <p:cNvSpPr/>
          <p:nvPr/>
        </p:nvSpPr>
        <p:spPr>
          <a:xfrm rot="884400">
            <a:off x="667476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rcRect l="31222" t="0" r="0" b="30633"/>
          <a:stretch/>
        </p:blipFill>
        <p:spPr>
          <a:xfrm>
            <a:off x="5554800" y="3160800"/>
            <a:ext cx="3554280" cy="3652920"/>
          </a:xfrm>
          <a:prstGeom prst="rect">
            <a:avLst/>
          </a:prstGeom>
          <a:ln w="0">
            <a:noFill/>
          </a:ln>
        </p:spPr>
      </p:pic>
      <p:sp>
        <p:nvSpPr>
          <p:cNvPr id="110" name="ZoneTexte 6"/>
          <p:cNvSpPr/>
          <p:nvPr/>
        </p:nvSpPr>
        <p:spPr>
          <a:xfrm>
            <a:off x="0" y="3284640"/>
            <a:ext cx="55800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n’est pas de la f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avec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et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deux réels et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n’est pas définie sur </a:t>
            </a:r>
            <a:r>
              <a:rPr b="0" lang="fr-FR" sz="3200" spc="-1" strike="noStrike">
                <a:solidFill>
                  <a:srgbClr val="0042c8"/>
                </a:solidFill>
                <a:latin typeface="OpenSymbol"/>
                <a:ea typeface="OpenSymbol"/>
              </a:rPr>
              <a:t>ℝ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Représentation graphique de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oneTexte 11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    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    </a:t>
            </a:r>
            <a:r>
              <a:rPr b="0" lang="fr-FR" sz="5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"/>
              <p:cNvSpPr txBox="1"/>
              <p:nvPr/>
            </p:nvSpPr>
            <p:spPr>
              <a:xfrm>
                <a:off x="684360" y="981000"/>
                <a:ext cx="615456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4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684360" y="1916280"/>
                <a:ext cx="671508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1"/>
          <a:stretch/>
        </p:blipFill>
        <p:spPr>
          <a:xfrm>
            <a:off x="3132000" y="5361120"/>
            <a:ext cx="747720" cy="9475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"/>
          <p:cNvPicPr/>
          <p:nvPr/>
        </p:nvPicPr>
        <p:blipFill>
          <a:blip r:embed="rId2"/>
          <a:stretch/>
        </p:blipFill>
        <p:spPr>
          <a:xfrm>
            <a:off x="5724360" y="5300640"/>
            <a:ext cx="1511640" cy="927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1908000" y="5013360"/>
            <a:ext cx="547236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Pour chacune des fonctions proposées, indiquer s’il s’agit d’une fonction affine en répondant par VRAI ou FAUX. 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Si la réponse est vraie, donner le coefficient directeur « </a:t>
            </a:r>
            <a:r>
              <a:rPr b="0" i="1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a</a:t>
            </a: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 » et l’ordonnée à l’origine « </a:t>
            </a:r>
            <a:r>
              <a:rPr b="0" i="1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b</a:t>
            </a: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 » de la droite représentant la fon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73080" y="836640"/>
                <a:ext cx="68752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4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88920" y="1557360"/>
                <a:ext cx="8155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79200" y="2492280"/>
                <a:ext cx="53564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ZoneTexte 8"/>
          <p:cNvSpPr/>
          <p:nvPr/>
        </p:nvSpPr>
        <p:spPr>
          <a:xfrm>
            <a:off x="0" y="3357720"/>
            <a:ext cx="9144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7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–2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2268360" y="5229360"/>
            <a:ext cx="4607280" cy="115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oneTexte 11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– 4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 </a:t>
            </a:r>
            <a:r>
              <a:rPr b="0" lang="fr-FR" sz="5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2195640" y="5229360"/>
            <a:ext cx="5184720" cy="107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1725480" y="1052640"/>
                <a:ext cx="56721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6272280" y="5300640"/>
            <a:ext cx="747720" cy="93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Object 3"/>
              <p:cNvSpPr txBox="1"/>
              <p:nvPr/>
            </p:nvSpPr>
            <p:spPr>
              <a:xfrm>
                <a:off x="1692360" y="1859040"/>
                <a:ext cx="590076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"/>
              <p:cNvSpPr txBox="1"/>
              <p:nvPr/>
            </p:nvSpPr>
            <p:spPr>
              <a:xfrm>
                <a:off x="88920" y="1125360"/>
                <a:ext cx="4554360" cy="19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4518000" y="1125360"/>
                <a:ext cx="2718000" cy="19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ZoneTexte 11"/>
          <p:cNvSpPr/>
          <p:nvPr/>
        </p:nvSpPr>
        <p:spPr>
          <a:xfrm rot="884400">
            <a:off x="667476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rcRect l="15616" t="15321" r="15616" b="15321"/>
          <a:stretch/>
        </p:blipFill>
        <p:spPr>
          <a:xfrm>
            <a:off x="5554800" y="3160800"/>
            <a:ext cx="3554280" cy="3652920"/>
          </a:xfrm>
          <a:prstGeom prst="rect">
            <a:avLst/>
          </a:prstGeom>
          <a:ln w="0">
            <a:noFill/>
          </a:ln>
        </p:spPr>
      </p:pic>
      <p:sp>
        <p:nvSpPr>
          <p:cNvPr id="143" name="ZoneTexte 8"/>
          <p:cNvSpPr/>
          <p:nvPr/>
        </p:nvSpPr>
        <p:spPr>
          <a:xfrm>
            <a:off x="0" y="3284640"/>
            <a:ext cx="55800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n’est pas de la f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avec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et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deux ré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et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n’est pas définie sur </a:t>
            </a:r>
            <a:r>
              <a:rPr b="0" lang="fr-FR" sz="3200" spc="-1" strike="noStrike">
                <a:solidFill>
                  <a:srgbClr val="0042c8"/>
                </a:solidFill>
                <a:latin typeface="OpenSymbol"/>
                <a:ea typeface="OpenSymbol"/>
              </a:rPr>
              <a:t>ℝ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Représentation graphique de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2365200" y="1125360"/>
                <a:ext cx="439596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1781280" y="2133720"/>
                <a:ext cx="55148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ZoneTexte 7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–16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2195640" y="5229360"/>
            <a:ext cx="4752720" cy="115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ZoneTexte 7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          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1908000" y="5229360"/>
            <a:ext cx="5256360" cy="115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1685880" y="1052640"/>
                <a:ext cx="555012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3059280" y="5373720"/>
            <a:ext cx="1788840" cy="919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1106640" y="2077920"/>
                <a:ext cx="67053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2050920" y="5373720"/>
            <a:ext cx="4969080" cy="86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34920" y="1060560"/>
                <a:ext cx="4718160" cy="19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ZoneTexte 17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2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–2/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3"/>
              <p:cNvSpPr txBox="1"/>
              <p:nvPr/>
            </p:nvSpPr>
            <p:spPr>
              <a:xfrm>
                <a:off x="4645080" y="1052640"/>
                <a:ext cx="3598920" cy="19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1965240" y="2346480"/>
                <a:ext cx="5194440" cy="19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2"/>
              <p:cNvSpPr txBox="1"/>
              <p:nvPr/>
            </p:nvSpPr>
            <p:spPr>
              <a:xfrm>
                <a:off x="2166840" y="2278080"/>
                <a:ext cx="479448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1087560" y="2781360"/>
                <a:ext cx="69548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1725480" y="2714760"/>
                <a:ext cx="567396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1484280" y="2714760"/>
                <a:ext cx="615492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1127160" y="2714760"/>
                <a:ext cx="68752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1-11T21:03:52Z</dcterms:modified>
  <cp:revision>257</cp:revision>
  <dc:subject/>
  <dc:title>Diapositive 0</dc:title>
</cp:coreProperties>
</file>