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BD6-2549-4172-B202-1074D931B9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740E-7168-4D1B-9893-A57D08758F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04B-81EF-45B9-AAAC-47FF76DC04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D39-A4B1-44AA-B4ED-A81DE5D824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532-D5BD-4C1F-8157-4FA8692E77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F0AB-720E-42D4-B18D-BC20D55F75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958-EECA-46BF-A746-1B3DA077C1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4E53-10D4-434D-8805-F4247706DD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6BF-43F3-465D-A5F1-7CF6836901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788C-05E1-4DB2-85DE-F8336D9959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957-33C7-43A6-88C9-5B5EBA80B5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0AE-A751-4DEE-85E4-A7FE00AE34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FBE-007C-44A0-BB29-FE703E0083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594-9011-4747-81B4-83718F8D34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C2F-9BFC-44A8-9CC5-1E3C530F7A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33BD-1DA2-4C7E-958F-48C1E8E0D8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455-D1DE-4731-A435-DD753CB99A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B5FD-F790-4172-AC74-51DB94ADAB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4AA-C226-46F8-87A0-C9868AF1F4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E71-4B57-4727-92BD-CA0EC00BA0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AB4-0BD8-477D-8E8B-3E414E5F24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726F-E9FC-408A-B6AA-2153153DDA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3610-2E6D-4194-A25E-EBE72490F9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833D-7DB9-451D-97BC-A688D02224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C24E-C948-46CE-AB93-3036794F16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AA8-5379-404E-9B6E-EB016E397D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715-1F6B-4F7C-9735-21C5CF00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DE1-D7D7-42FC-BFC3-CA037707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4EA-5846-4257-A1E6-840114C1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E96-7B56-4525-A660-519CD415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ECE-3740-4DE2-B08B-F0EB9BE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404-90BC-45AC-9EF4-CFAF8209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329-91DD-4AC0-AF4D-2BB890F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F69-CAD1-4ACA-8A9C-3B790E7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D9E-7F2F-4DB2-96EB-3133A98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393-3F02-4311-B390-158A323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190-748F-49CE-8490-4139F17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BE7-DF5D-4570-9931-B3DBA1F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23A-85C2-4399-B11E-573EBB40CAD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ED4A-35BE-487E-8948-BF1C4399F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10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onnecteur droit avec flèche 7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9"/>
          <p:cNvCxnSpPr/>
          <p:nvPr/>
        </p:nvCxnSpPr>
        <p:spPr>
          <a:xfrm>
            <a:off x="2916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Ellipse 10"/>
          <p:cNvSpPr/>
          <p:nvPr/>
        </p:nvSpPr>
        <p:spPr>
          <a:xfrm flipV="1" rot="10800000">
            <a:off x="26269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13"/>
          <p:cNvCxnSpPr/>
          <p:nvPr/>
        </p:nvCxnSpPr>
        <p:spPr>
          <a:xfrm>
            <a:off x="1834920" y="2637000"/>
            <a:ext cx="1081800" cy="50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1"/>
          <p:cNvSpPr/>
          <p:nvPr/>
        </p:nvSpPr>
        <p:spPr>
          <a:xfrm>
            <a:off x="0" y="378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croissante sur [–3 ; 8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croissante sur [5 ; 12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7"/>
          <p:cNvSpPr/>
          <p:nvPr/>
        </p:nvSpPr>
        <p:spPr>
          <a:xfrm flipV="1">
            <a:off x="6012000" y="3105000"/>
            <a:ext cx="54108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8"/>
          <p:cNvSpPr/>
          <p:nvPr/>
        </p:nvSpPr>
        <p:spPr>
          <a:xfrm flipV="1">
            <a:off x="8352000" y="2086920"/>
            <a:ext cx="54108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Connecteur droit avec flèche 9"/>
          <p:cNvCxnSpPr/>
          <p:nvPr/>
        </p:nvCxnSpPr>
        <p:spPr>
          <a:xfrm flipV="1">
            <a:off x="6659640" y="2420640"/>
            <a:ext cx="172944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7"/>
          <p:cNvSpPr/>
          <p:nvPr/>
        </p:nvSpPr>
        <p:spPr>
          <a:xfrm flipV="1">
            <a:off x="5975280" y="1619280"/>
            <a:ext cx="5414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8"/>
          <p:cNvSpPr/>
          <p:nvPr/>
        </p:nvSpPr>
        <p:spPr>
          <a:xfrm flipV="1">
            <a:off x="8352000" y="1619280"/>
            <a:ext cx="54108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necteur droit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8"/>
          <p:cNvSpPr/>
          <p:nvPr/>
        </p:nvSpPr>
        <p:spPr>
          <a:xfrm flipV="1" rot="10800000">
            <a:off x="334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9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11"/>
          <p:cNvCxnSpPr/>
          <p:nvPr/>
        </p:nvCxnSpPr>
        <p:spPr>
          <a:xfrm>
            <a:off x="6984720" y="2133720"/>
            <a:ext cx="1080" cy="899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12"/>
          <p:cNvSpPr/>
          <p:nvPr/>
        </p:nvSpPr>
        <p:spPr>
          <a:xfrm flipV="1" rot="10800000">
            <a:off x="669600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cteur droit avec flèche 13"/>
          <p:cNvCxnSpPr/>
          <p:nvPr/>
        </p:nvCxnSpPr>
        <p:spPr>
          <a:xfrm>
            <a:off x="7992720" y="2141280"/>
            <a:ext cx="1080" cy="469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2" name="Ellipse 14"/>
          <p:cNvSpPr/>
          <p:nvPr/>
        </p:nvSpPr>
        <p:spPr>
          <a:xfrm flipV="1" rot="10800000">
            <a:off x="770400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cteur droit avec flèche 6"/>
          <p:cNvCxnSpPr/>
          <p:nvPr/>
        </p:nvCxnSpPr>
        <p:spPr>
          <a:xfrm>
            <a:off x="2987280" y="2133720"/>
            <a:ext cx="1080" cy="97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llipse 8"/>
          <p:cNvSpPr/>
          <p:nvPr/>
        </p:nvSpPr>
        <p:spPr>
          <a:xfrm flipV="1" rot="10800000">
            <a:off x="270000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10 ; 2[</a:t>
            </a:r>
            <a:r>
              <a:rPr b="0" lang="fr-FR" sz="4000" spc="-1" strike="noStrike">
                <a:solidFill>
                  <a:srgbClr val="005bd3"/>
                </a:solidFill>
                <a:latin typeface="OpenSymbol"/>
                <a:ea typeface="Times New Roman"/>
              </a:rPr>
              <a:t>∪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]2 ;12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par « VRAI » ou « FAUX » ou « ON NE PEUT PAS SAVOIR 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979640"/>
            <a:ext cx="8774280" cy="201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649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6"/>
          <p:cNvCxnSpPr/>
          <p:nvPr/>
        </p:nvCxnSpPr>
        <p:spPr>
          <a:xfrm>
            <a:off x="5256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Ellipse 7"/>
          <p:cNvSpPr/>
          <p:nvPr/>
        </p:nvSpPr>
        <p:spPr>
          <a:xfrm flipV="1" rot="10800000">
            <a:off x="496872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8"/>
          <p:cNvCxnSpPr/>
          <p:nvPr/>
        </p:nvCxnSpPr>
        <p:spPr>
          <a:xfrm>
            <a:off x="6264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Ellipse 9"/>
          <p:cNvSpPr/>
          <p:nvPr/>
        </p:nvSpPr>
        <p:spPr>
          <a:xfrm flipV="1" rot="10800000">
            <a:off x="59767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oneTexte 11"/>
          <p:cNvSpPr/>
          <p:nvPr/>
        </p:nvSpPr>
        <p:spPr>
          <a:xfrm>
            <a:off x="0" y="3728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décroissante sur [–10 ; 5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41" name="Ellipse 6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sur [–10 ; 2[ et sur ]2 ; 5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necteur droit 9"/>
          <p:cNvSpPr/>
          <p:nvPr/>
        </p:nvSpPr>
        <p:spPr>
          <a:xfrm>
            <a:off x="6300720" y="414972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necteur droit avec flèche 10"/>
          <p:cNvCxnSpPr/>
          <p:nvPr/>
        </p:nvCxnSpPr>
        <p:spPr>
          <a:xfrm>
            <a:off x="1402920" y="2421000"/>
            <a:ext cx="2017080" cy="937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6" name="Connecteur droit avec flèche 14"/>
          <p:cNvCxnSpPr/>
          <p:nvPr/>
        </p:nvCxnSpPr>
        <p:spPr>
          <a:xfrm>
            <a:off x="3995280" y="2349360"/>
            <a:ext cx="2017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15"/>
          <p:cNvSpPr/>
          <p:nvPr/>
        </p:nvSpPr>
        <p:spPr>
          <a:xfrm flipV="1" rot="10800000">
            <a:off x="1115640" y="166356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6"/>
          <p:cNvSpPr/>
          <p:nvPr/>
        </p:nvSpPr>
        <p:spPr>
          <a:xfrm flipV="1" rot="10800000">
            <a:off x="334764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llipse 17"/>
          <p:cNvSpPr/>
          <p:nvPr/>
        </p:nvSpPr>
        <p:spPr>
          <a:xfrm flipV="1" rot="10800000">
            <a:off x="594000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7451280" y="1988640"/>
            <a:ext cx="1080" cy="61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3" name="Ellipse 7"/>
          <p:cNvSpPr/>
          <p:nvPr/>
        </p:nvSpPr>
        <p:spPr>
          <a:xfrm flipV="1" rot="10800000">
            <a:off x="7164000" y="2600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11"/>
          <p:cNvSpPr/>
          <p:nvPr/>
        </p:nvSpPr>
        <p:spPr>
          <a:xfrm>
            <a:off x="0" y="414972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9" name="Connecteur droit avec flèche 14"/>
          <p:cNvCxnSpPr/>
          <p:nvPr/>
        </p:nvCxnSpPr>
        <p:spPr>
          <a:xfrm>
            <a:off x="1942920" y="214128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0" name="Ellipse 15"/>
          <p:cNvSpPr/>
          <p:nvPr/>
        </p:nvSpPr>
        <p:spPr>
          <a:xfrm flipV="1" rot="10800000">
            <a:off x="165564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necteur droit avec flèche 16"/>
          <p:cNvCxnSpPr/>
          <p:nvPr/>
        </p:nvCxnSpPr>
        <p:spPr>
          <a:xfrm>
            <a:off x="3058920" y="2133360"/>
            <a:ext cx="1080" cy="1006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2" name="Ellipse 17"/>
          <p:cNvSpPr/>
          <p:nvPr/>
        </p:nvSpPr>
        <p:spPr>
          <a:xfrm flipV="1" rot="10800000">
            <a:off x="2771640" y="1637280"/>
            <a:ext cx="54000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oneTexte 11"/>
          <p:cNvSpPr/>
          <p:nvPr/>
        </p:nvSpPr>
        <p:spPr>
          <a:xfrm>
            <a:off x="0" y="41497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7380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llipse 8"/>
          <p:cNvSpPr/>
          <p:nvPr/>
        </p:nvSpPr>
        <p:spPr>
          <a:xfrm flipV="1" rot="10800000">
            <a:off x="712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7) es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4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croissante sur [–3 ; 8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1:17Z</dcterms:modified>
  <cp:revision>254</cp:revision>
  <dc:subject/>
  <dc:title>Diapositive 0</dc:title>
</cp:coreProperties>
</file>