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D554-C694-473E-A48D-D3F1B7FE7F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207A-4A95-4318-ABF1-90CC95C85D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087A-2E2F-4D7A-B946-BB79DB72B7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9B69-8D15-4CD4-B292-72D8C9F98F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B82F-0C3F-43AC-A85D-4A9F102891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BCBC-6BC3-4CED-AD49-8E795A9C3F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6F9D-2716-4C70-8C09-753C902805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6E50-2BB1-4263-906F-480AFE158E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9126-CF81-4A50-9945-B94FCCD2453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C043-5B05-4CBB-BBB4-A53B2B5C18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C5CD-764A-4AC9-BA1F-CE51857B2F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5918-9F58-415E-AE8B-0CB322F70E8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BF55-2DEB-4603-87D2-1478BB5553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E2C4-9A57-401A-B007-51B8B28A547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0C68-8F8E-4662-B90B-A3206CBAA5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72A7-B2F9-4ED4-87AE-8F6E4EA60F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93E3-6B2D-4A46-B23B-8876390F82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400C-4FCC-4D3E-816B-FCD57647AC1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62F1-2EC5-4950-8D7F-BB77A91206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05C2-384B-4720-B912-31C25869DF7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C26E-9A3D-42C3-BC1C-D197FEB791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802D-8A4B-4B8D-A565-41CE26DCE1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53B1-643E-4145-A96A-228DF75E586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20F3-116F-4DC4-BC2E-C6C8C4DCE2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46EA-E87C-4B46-8CD2-8173FDBABC0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1ABC-A6F0-47CF-93A0-A8A87483F58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2EA-A967-4078-ABEF-194BD5A8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6DE9-60DD-4A28-BC27-D0357B72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331F-13E0-44BE-AD5A-60BC560B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C9AE-8C31-4C25-8654-CC198B9A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C00C-69B5-4C09-BAE6-C28C3BC9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FDF3-3904-4197-B5DD-CCD3EE55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82EF-32AA-4B92-85A2-384166AB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00C7-8083-4EFD-9489-36F53431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117E-8E91-417D-8E0F-A8F67CA0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6E98-C0AF-4CE9-A536-C0FF4D31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E7A3-8C23-4949-A375-68551F1D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F963-B24F-4706-9938-6ABEEF53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9E9D-EDF2-49E1-8622-0215C4BF683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3A2C-60D7-4BD1-A04F-CB6C95B2D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NOTION DE FONCTION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oneTexte 11"/>
          <p:cNvSpPr/>
          <p:nvPr/>
        </p:nvSpPr>
        <p:spPr>
          <a:xfrm>
            <a:off x="0" y="40719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e solution de l’équa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2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est 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39"/>
              <p:cNvSpPr txBox="1"/>
              <p:nvPr/>
            </p:nvSpPr>
            <p:spPr>
              <a:xfrm>
                <a:off x="1584360" y="1916280"/>
                <a:ext cx="586728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 4) =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9"/>
              <p:cNvSpPr txBox="1"/>
              <p:nvPr/>
            </p:nvSpPr>
            <p:spPr>
              <a:xfrm>
                <a:off x="1584360" y="1916280"/>
                <a:ext cx="586728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971640" y="3169800"/>
            <a:ext cx="75722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3 est 17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39"/>
              <p:cNvSpPr txBox="1"/>
              <p:nvPr/>
            </p:nvSpPr>
            <p:spPr>
              <a:xfrm>
                <a:off x="1882800" y="1987560"/>
                <a:ext cx="513720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 antécédent de –1 est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9"/>
              <p:cNvSpPr txBox="1"/>
              <p:nvPr/>
            </p:nvSpPr>
            <p:spPr>
              <a:xfrm>
                <a:off x="1504800" y="1989000"/>
                <a:ext cx="565956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3 a pour image 17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11"/>
          <p:cNvSpPr/>
          <p:nvPr/>
        </p:nvSpPr>
        <p:spPr>
          <a:xfrm>
            <a:off x="0" y="4933800"/>
            <a:ext cx="6804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r>
              <a:rPr b="0" i="1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3) = 2</a:t>
            </a:r>
            <a:r>
              <a:rPr b="0" lang="fr-FR" sz="58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² – 1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= 2</a:t>
            </a:r>
            <a:r>
              <a:rPr b="0" lang="fr-FR" sz="58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9 – 1 = 17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9"/>
              <p:cNvSpPr txBox="1"/>
              <p:nvPr/>
            </p:nvSpPr>
            <p:spPr>
              <a:xfrm>
                <a:off x="1967040" y="1987560"/>
                <a:ext cx="490860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7 a pour antécédent 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11"/>
          <p:cNvSpPr/>
          <p:nvPr/>
        </p:nvSpPr>
        <p:spPr>
          <a:xfrm>
            <a:off x="0" y="49338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1) = 2</a:t>
            </a:r>
            <a:r>
              <a:rPr b="0" lang="fr-FR" sz="60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 + 5 =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9"/>
              <p:cNvSpPr txBox="1"/>
              <p:nvPr/>
            </p:nvSpPr>
            <p:spPr>
              <a:xfrm>
                <a:off x="2282760" y="2095560"/>
                <a:ext cx="452124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5) =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11"/>
          <p:cNvSpPr/>
          <p:nvPr/>
        </p:nvSpPr>
        <p:spPr>
          <a:xfrm>
            <a:off x="0" y="4941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0" i="1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5) = [2</a:t>
            </a:r>
            <a:r>
              <a:rPr b="0" lang="fr-FR" sz="60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 + 5] / 5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= 15/5 =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39"/>
              <p:cNvSpPr txBox="1"/>
              <p:nvPr/>
            </p:nvSpPr>
            <p:spPr>
              <a:xfrm>
                <a:off x="2054160" y="1593720"/>
                <a:ext cx="48942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 antécédent de –3 est –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1"/>
          <p:cNvSpPr/>
          <p:nvPr/>
        </p:nvSpPr>
        <p:spPr>
          <a:xfrm>
            <a:off x="0" y="4941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0" i="1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–1) = [2</a:t>
            </a:r>
            <a:r>
              <a:rPr b="0" lang="fr-FR" sz="54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(–1) + 5]/(–1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= 3/(– 1) = –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39"/>
              <p:cNvSpPr txBox="1"/>
              <p:nvPr/>
            </p:nvSpPr>
            <p:spPr>
              <a:xfrm>
                <a:off x="2054160" y="1593720"/>
                <a:ext cx="48942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2,5 est l’image de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11"/>
          <p:cNvSpPr/>
          <p:nvPr/>
        </p:nvSpPr>
        <p:spPr>
          <a:xfrm>
            <a:off x="0" y="5084640"/>
            <a:ext cx="8244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0) = [2</a:t>
            </a:r>
            <a:r>
              <a:rPr b="0" lang="fr-FR" sz="36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fr-FR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0 + 5] / 0 : c’est impossible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necteur droit 10"/>
          <p:cNvSpPr/>
          <p:nvPr/>
        </p:nvSpPr>
        <p:spPr>
          <a:xfrm>
            <a:off x="1403280" y="4221000"/>
            <a:ext cx="633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39"/>
              <p:cNvSpPr txBox="1"/>
              <p:nvPr/>
            </p:nvSpPr>
            <p:spPr>
              <a:xfrm>
                <a:off x="2054160" y="1593720"/>
                <a:ext cx="48942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À partir de la forme explicite d’une fonction </a:t>
            </a:r>
            <a:r>
              <a:rPr b="0" i="1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f,</a:t>
            </a: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 répondre aux questions</a:t>
            </a:r>
            <a:br>
              <a:rPr sz="5800"/>
            </a:b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par VRAI ou FAUX.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3 a pour image 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oneTexte 11"/>
          <p:cNvSpPr/>
          <p:nvPr/>
        </p:nvSpPr>
        <p:spPr>
          <a:xfrm>
            <a:off x="0" y="4941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–3) =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9"/>
              <p:cNvSpPr txBox="1"/>
              <p:nvPr/>
            </p:nvSpPr>
            <p:spPr>
              <a:xfrm>
                <a:off x="1797120" y="1987560"/>
                <a:ext cx="53672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oneTexte 11"/>
          <p:cNvSpPr/>
          <p:nvPr/>
        </p:nvSpPr>
        <p:spPr>
          <a:xfrm>
            <a:off x="0" y="3780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e solution de l’équa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2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est 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11"/>
          <p:cNvSpPr/>
          <p:nvPr/>
        </p:nvSpPr>
        <p:spPr>
          <a:xfrm>
            <a:off x="36360" y="5675400"/>
            <a:ext cx="63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4) =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39"/>
              <p:cNvSpPr txBox="1"/>
              <p:nvPr/>
            </p:nvSpPr>
            <p:spPr>
              <a:xfrm>
                <a:off x="1584360" y="1916280"/>
                <a:ext cx="586728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 4) =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1"/>
          <p:cNvSpPr/>
          <p:nvPr/>
        </p:nvSpPr>
        <p:spPr>
          <a:xfrm>
            <a:off x="0" y="4724280"/>
            <a:ext cx="70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– 4)² – 12 = 16 – 12 = 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t </a:t>
            </a:r>
            <a:r>
              <a:rPr b="0" i="1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– 4) =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39"/>
              <p:cNvSpPr txBox="1"/>
              <p:nvPr/>
            </p:nvSpPr>
            <p:spPr>
              <a:xfrm>
                <a:off x="1584360" y="1916280"/>
                <a:ext cx="586728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71640" y="3142800"/>
            <a:ext cx="75722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3 est 17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1"/>
          <p:cNvSpPr/>
          <p:nvPr/>
        </p:nvSpPr>
        <p:spPr>
          <a:xfrm>
            <a:off x="0" y="4933800"/>
            <a:ext cx="6012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0" i="1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3) = (2</a:t>
            </a:r>
            <a:r>
              <a:rPr b="0" lang="fr-FR" sz="58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)² – 1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= 6² – 1 = 35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onnecteur droit 9"/>
          <p:cNvSpPr/>
          <p:nvPr/>
        </p:nvSpPr>
        <p:spPr>
          <a:xfrm>
            <a:off x="1332000" y="4292640"/>
            <a:ext cx="611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39"/>
              <p:cNvSpPr txBox="1"/>
              <p:nvPr/>
            </p:nvSpPr>
            <p:spPr>
              <a:xfrm>
                <a:off x="1882800" y="1987560"/>
                <a:ext cx="513720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 antécédent de –1 est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oneTexte 11"/>
          <p:cNvSpPr/>
          <p:nvPr/>
        </p:nvSpPr>
        <p:spPr>
          <a:xfrm>
            <a:off x="71280" y="4797360"/>
            <a:ext cx="8893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4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0) = 1 : 0 n’est pas un antécédent de –1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onnecteur droit 7"/>
          <p:cNvSpPr/>
          <p:nvPr/>
        </p:nvSpPr>
        <p:spPr>
          <a:xfrm>
            <a:off x="468360" y="4221000"/>
            <a:ext cx="820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9"/>
              <p:cNvSpPr txBox="1"/>
              <p:nvPr/>
            </p:nvSpPr>
            <p:spPr>
              <a:xfrm>
                <a:off x="1504800" y="1989000"/>
                <a:ext cx="565956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5 est 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39"/>
              <p:cNvSpPr txBox="1"/>
              <p:nvPr/>
            </p:nvSpPr>
            <p:spPr>
              <a:xfrm>
                <a:off x="1922400" y="2095560"/>
                <a:ext cx="48816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ZoneTexte 11"/>
          <p:cNvSpPr/>
          <p:nvPr/>
        </p:nvSpPr>
        <p:spPr>
          <a:xfrm>
            <a:off x="0" y="49338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5) = 2</a:t>
            </a:r>
            <a:r>
              <a:rPr b="0" lang="fr-FR" sz="60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 – 9 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71640" y="3142800"/>
            <a:ext cx="75722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3 a pour image 17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39"/>
              <p:cNvSpPr txBox="1"/>
              <p:nvPr/>
            </p:nvSpPr>
            <p:spPr>
              <a:xfrm>
                <a:off x="1967040" y="1987560"/>
                <a:ext cx="490860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7 a pour antécédent 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9"/>
              <p:cNvSpPr txBox="1"/>
              <p:nvPr/>
            </p:nvSpPr>
            <p:spPr>
              <a:xfrm>
                <a:off x="2282760" y="2095560"/>
                <a:ext cx="452124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5) =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9"/>
              <p:cNvSpPr txBox="1"/>
              <p:nvPr/>
            </p:nvSpPr>
            <p:spPr>
              <a:xfrm>
                <a:off x="2054160" y="1593720"/>
                <a:ext cx="48942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 antécédent de –3 est –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39"/>
              <p:cNvSpPr txBox="1"/>
              <p:nvPr/>
            </p:nvSpPr>
            <p:spPr>
              <a:xfrm>
                <a:off x="2054160" y="1593720"/>
                <a:ext cx="48942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2,5 est l’image de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39"/>
              <p:cNvSpPr txBox="1"/>
              <p:nvPr/>
            </p:nvSpPr>
            <p:spPr>
              <a:xfrm>
                <a:off x="2054160" y="1593720"/>
                <a:ext cx="48942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3 a pour image 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9"/>
              <p:cNvSpPr txBox="1"/>
              <p:nvPr/>
            </p:nvSpPr>
            <p:spPr>
              <a:xfrm>
                <a:off x="1797120" y="1987560"/>
                <a:ext cx="53672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4-23T09:55:16Z</dcterms:modified>
  <cp:revision>244</cp:revision>
  <dc:subject/>
  <dc:title>Diapositive 0</dc:title>
</cp:coreProperties>
</file>