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E2B9-0E23-4F41-BF45-B6B6AF9D50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791C-75FB-4D88-BA4B-71D3838046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4EBF-A929-43AB-95C9-3C541C4249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69B1-0EB9-466A-9A6C-34052F0116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1162-EF99-4CCE-B52C-09D16C9D49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B31C-1C1D-495C-8685-A22999E25C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0FBB-27DE-4847-A9A0-01BEC94E10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2C24-9171-47A1-852F-DCF5F19347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4526-9282-4B17-83B1-6AAB938307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DD95-0109-4FF1-A4E3-AF7C285E54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BB45-A309-414D-8F4F-D804FB4B9C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9437-6386-4FAE-A906-48ABF840A5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0D49-EBE5-4B04-A4CF-FAF0B5FD8D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0FC9-B5A4-4520-A074-DF382FD145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B3D9-5D0F-419A-8EBD-719A41E06F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5094-2170-4B14-9C15-C3DC75B0B7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9D6C-17BA-4DF3-8217-29B5FCEDD6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70AA-5220-46A2-B7E7-9FE7E6C1BD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536B-105F-4498-A32E-4E43543E69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00F4-B6F5-452D-9A78-C1717F615D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DA06-34E8-42C9-A053-859D4EA732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1C5E-596B-4B68-AC1C-75B7C8686C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6919-7160-4EF4-8878-178E10B0F7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4CB3-4AF6-4BBF-BA13-FB364AA40C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A9EF-24C8-4B66-A1D0-13C2A6DFA8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AE89-31A2-48FF-B503-CC0F7A64BE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4B9-9452-4E50-9433-BD2AE9D1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67A-4152-4A0C-8954-CD45C78D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4D97-4497-4E41-8D1E-18B747C8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934-BB08-4A29-9D7D-C4D0B526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55C-A451-4369-8E9B-765AB755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29F-4914-43D5-8D7E-480FAFD5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010-E2C1-4A43-8669-B97FA9F0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9D4-2ADE-4246-AA51-0B2F3CEA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A01-918D-4071-A399-D9489A8D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B4B-A1B0-4E80-A41B-09DD5625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1F5-7D54-4779-B8B1-B5F7AF21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72E-3836-49D9-BFA2-4A6A7C3E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5D37-8D77-40DD-BB21-F4F99DB2F09B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0E1F-8B91-47BF-B8FE-0E7C15DFF6FE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4"/>
          <p:cNvSpPr/>
          <p:nvPr/>
        </p:nvSpPr>
        <p:spPr>
          <a:xfrm>
            <a:off x="250920" y="1628640"/>
            <a:ext cx="86421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ÉCHANTILLONNAGE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taill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de l’échantillon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peut-on calculer la proportion théorique de jetons noirs ou une fréquence observé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eut-on affirmer que l’urne conti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utant de jetons noirs que de jetons blanc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eut-on affirmer que l’urne conti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lus de jetons noirs que de jetons blanc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 000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55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0" y="4859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taille de l’échantillon 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= 53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4859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proportion théorique 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p =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0,97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re 1"/>
          <p:cNvSpPr/>
          <p:nvPr/>
        </p:nvSpPr>
        <p:spPr>
          <a:xfrm>
            <a:off x="0" y="5084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fréquence observée 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f  =       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1"/>
          <a:stretch/>
        </p:blipFill>
        <p:spPr>
          <a:xfrm>
            <a:off x="4427640" y="5499000"/>
            <a:ext cx="637920" cy="8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taille de l’échantillon 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= 3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proportion théorique 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p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= 0,1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haque étude statistique, on note :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taille de l’échantillon étudié ;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proportion théorique ou la probabilité connue ;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a fréquence observée de l’échantill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fréquence observée 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f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=            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4140360" y="5111640"/>
            <a:ext cx="113004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taille de l’échantillon 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= 10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on ne peut calcu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qu’une fréquence observé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re 1"/>
          <p:cNvSpPr/>
          <p:nvPr/>
        </p:nvSpPr>
        <p:spPr>
          <a:xfrm>
            <a:off x="0" y="4797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On ne peut pas affirmer que l’urne conti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autant de jetons noirs que de jetons blanc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’est seulement un échantill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 0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55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tre 1"/>
          <p:cNvSpPr/>
          <p:nvPr/>
        </p:nvSpPr>
        <p:spPr>
          <a:xfrm>
            <a:off x="0" y="4797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On ne peut pas affirmer que l’urne conti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plus de jetons noirs que de jetons blanc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’est seulement un échantill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  <a:ea typeface="Arial"/>
              </a:rPr>
              <a:t>Répondre aux questions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0" y="4859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taill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de l’échantillon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0" y="4859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proportion théoriqu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0" y="4859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fréquence observé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taill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de l’échantillon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proportion théoriqu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fréquence observé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PC-MS</cp:lastModifiedBy>
  <dcterms:modified xsi:type="dcterms:W3CDTF">2016-06-23T14:22:10Z</dcterms:modified>
  <cp:revision>266</cp:revision>
  <dc:subject/>
  <dc:title>Diapositive 0</dc:title>
</cp:coreProperties>
</file>