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1BEC-989A-48F9-A521-A45B84D0F5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E61-74E7-488C-8D63-459CDE03D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53C2-7046-47CC-9359-8A788D535C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7C4F-261E-4A45-9913-DD27758F1B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CF3-F32D-4F0D-950D-59132E6180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4CB-EAC9-48C4-B43B-CA15F8C269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DCF-4A30-476B-AF54-8DC30DC2E2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1366-9AEE-4CEA-B110-8BC6397D00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D436-8AAB-4E43-B655-93D9C60336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4E20-BD81-44A2-8687-14F09B0B55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B48E-0E1F-4D43-8D82-ECB8A7E008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F22-F52B-41D6-B8FB-803ACD345B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EB9-2349-4576-8659-D0A71DE36E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26D-84DE-4FF6-93A5-152C4BA88A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53A1-3D4A-4904-AAF7-959F6ACDB5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B1D0-86D7-48ED-AFBA-D960C775E5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09D-CA1E-4762-8721-697CAE3880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A8E-CD57-42F4-AB65-0B9BFE245B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7B1D-7555-47E6-8986-7CB8F77A82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A1C6-CE15-4BB4-89AC-35CBB9D7E2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E2D8-D1CA-457D-8085-3CB412A1E8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1D4-81F8-449E-B98C-2C442F7C18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99E3-8934-475A-ABCB-930DD3C300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FE7-C7B0-420D-9331-E940F30E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C3D-CE73-40C7-A275-DB52B4E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E29-80A8-4212-9E31-8B7E873A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84A-182B-411D-A970-7E8C2B9D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CC7-4ED0-40AE-81E8-C50293D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C36-0CB4-485E-BCD1-2DE6D55F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F42-F394-4C1A-AE4F-5B672B4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52E-EE75-4BD0-AFA9-470BEC0D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CF4D-2D68-4B6D-9DA5-E2EB733C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7B9-A77B-43D6-ACC8-3DFC9B1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7C0-6377-47B0-B323-52FEC5A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78C-191C-433E-9C72-91A07E3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9CCB-C40A-4118-AFE8-EDE741FC8863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398-EC5A-4A68-9889-9362A9C68AAA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E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adame V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onsieur Z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90792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re 1" descr=""/>
          <p:cNvPicPr/>
          <p:nvPr/>
        </p:nvPicPr>
        <p:blipFill>
          <a:blip r:embed="rId1"/>
          <a:stretch/>
        </p:blipFill>
        <p:spPr>
          <a:xfrm>
            <a:off x="-19080" y="4456080"/>
            <a:ext cx="9156600" cy="142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468000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fluctuation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our le numéro « 3 » est [0,15 ; 0,3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69228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18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pens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32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toujours penser 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pour le groupe sanguin « A » est [0,35 ; 0,4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5040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             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[0,35 ; 0,45], alors on peut estimer que l’échantillon est conforme à la répartition mondiale du groupe « A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2268360" y="4724280"/>
            <a:ext cx="195264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 </a:t>
            </a:r>
            <a:br>
              <a:rPr sz="8000"/>
            </a:br>
            <a:br>
              <a:rPr sz="4000"/>
            </a:b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Arial"/>
              </a:rPr>
              <a:t>La calculatrice est autorisé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493 », il y a un risque que Madame 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’obtienne pas plus de 50 % des voi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501 » supérieure à 50 %, l’équipe de campagne de Monsieur Z a de bonnes raisons d’être confi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 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a proportion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 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 la valeur du caractère étudié e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’intervalle de fluctuation au seuil de 95 % pour le numéro « 3 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alors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l est l’intervalle de fluctuation au seuil de 95 % pour le groupe sanguin « A »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 [0,39 ; 0,49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b. [0,35 ; 0,45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-ce un échantillon confor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à la répartition mondiale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5:05:31Z</dcterms:modified>
  <cp:revision>304</cp:revision>
  <dc:subject/>
  <dc:title>Diapositive 0</dc:title>
</cp:coreProperties>
</file>