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8EFE-7CE2-48FF-B5A4-6D500BA8C3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426A-8A7F-4F1E-BFD9-3B8D617416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108-B06F-4F32-9671-5E66564E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F83-A4B8-410F-9956-9F7AA61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45D-F80C-4616-A704-2EB6B001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D41-AE34-4C67-A83E-444E0149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FE9-C06A-447B-9958-FED7FE32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071-452B-49EC-B60B-010F6A0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B18-8CD8-48F7-BB55-C7DF970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18F-401A-4B47-B5A1-7D023DCF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817-CD38-486E-95F9-FAD3B2F9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307-A4BA-4338-A20A-52A64DA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2B0-FEF6-422B-96F9-63ACECC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EEB-FB1A-4FD7-8117-8CE6CB45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1FDB-B01A-4B8A-945E-4BD4EC5D5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un seul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plus un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les deux défau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moin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auc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ZoneTexte 5" descr=""/>
          <p:cNvPicPr/>
          <p:nvPr/>
        </p:nvPicPr>
        <p:blipFill>
          <a:blip r:embed="rId2"/>
          <a:stretch/>
        </p:blipFill>
        <p:spPr>
          <a:xfrm>
            <a:off x="1438200" y="5310360"/>
            <a:ext cx="63406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3" descr=""/>
          <p:cNvPicPr/>
          <p:nvPr/>
        </p:nvPicPr>
        <p:blipFill>
          <a:blip r:embed="rId1"/>
          <a:stretch/>
        </p:blipFill>
        <p:spPr>
          <a:xfrm>
            <a:off x="1359000" y="4627440"/>
            <a:ext cx="65959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un seul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7120" y="476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Une machine fabrique des pièces métalliques. Deux défauts notés a et b peuvent être présents dans ces pièces. On tire au hasard une piè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On considère les évènements suiva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oneTexte 3" descr=""/>
          <p:cNvPicPr/>
          <p:nvPr/>
        </p:nvPicPr>
        <p:blipFill>
          <a:blip r:embed="rId1"/>
          <a:stretch/>
        </p:blipFill>
        <p:spPr>
          <a:xfrm>
            <a:off x="0" y="4614840"/>
            <a:ext cx="914400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516720" cy="85896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plu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oneTexte 5" descr=""/>
          <p:cNvPicPr/>
          <p:nvPr/>
        </p:nvPicPr>
        <p:blipFill>
          <a:blip r:embed="rId2"/>
          <a:stretch/>
        </p:blipFill>
        <p:spPr>
          <a:xfrm>
            <a:off x="1468440" y="5340240"/>
            <a:ext cx="6486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oneTexte 3" descr=""/>
          <p:cNvPicPr/>
          <p:nvPr/>
        </p:nvPicPr>
        <p:blipFill>
          <a:blip r:embed="rId1"/>
          <a:stretch/>
        </p:blipFill>
        <p:spPr>
          <a:xfrm>
            <a:off x="1438200" y="462744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les deux défau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moin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aucun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4:55:20Z</dcterms:modified>
  <cp:revision>47</cp:revision>
  <dc:subject/>
  <dc:title>PROBABILITES Série 1</dc:title>
</cp:coreProperties>
</file>