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DC49-6CD2-4931-86E1-1376780FFA3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1ED5-C3A0-4936-B04A-111DC4BA2123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AEAF-850B-4DAF-87FA-57141EFEC843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C221-0AF2-462B-9D1D-9164DA9B1C40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7ADF-9B27-44ED-8B38-040E8F66128D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E798-B1FD-44BC-BAC6-A5D5B06BD509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FAEE5-C645-4420-8B94-0C8A36510661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80FA-EA1C-4456-AB53-A76AFEED33BE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716E-F82E-46BA-B7E3-9BB307F55608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Grossir les roues. Ne pas mettre la pointe sur un rayon. Texte modifié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AAA7-41BD-4796-80D4-7988CA3182DC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8938-CAD4-4E23-95CD-724541ECEDF4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FA00-5065-4B52-9E99-74DBA359C076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0F2C-CDA4-4F5A-80EB-C18925974E82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F75C-BE5B-4115-867D-FE7BB0C151AB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18E1-C6D8-4570-BC54-74784A893847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5DDB-D2AC-461E-8756-6FAFD496E273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4EDF-FAE9-423A-A4BB-DE7CD2A0EB1F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A083-404D-4B55-A53D-64B3A4ECD58E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1369-AE84-49C7-B486-EF07D9674AD7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6212-7C60-4DC7-87F0-F7609ECE08BF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D63E-012F-46F0-AACB-55A2CD70BB5E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9709-DD11-47DF-9381-7784D566656A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67B5-CE8F-4997-A013-67CFA7054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3188-65F5-4DC6-8953-5438CC85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4667-D3DC-42A0-A462-680823181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E2E8-BCCF-4523-B582-2B3DAFD58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D9B8-208B-4DAB-9343-8DF3C2FD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A56C-8AB2-44D0-859F-36C71B6E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C81E-5512-4568-B886-FFD60401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E61C-7BA1-4F23-8BF2-F7E567BD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25A8-D7F1-430F-9932-58624654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36DF-4119-4EE9-8592-3FFBD969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8361-E9C0-47F6-B9E4-1FE58966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3CA0-FC5B-4BFF-BC34-55E2B4AE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BB22-4AB0-456E-A3F1-11C0DCF5D8D8}" type="datetime">
              <a:rPr b="0" lang="fr-FR" sz="1400" spc="-1" strike="noStrike">
                <a:solidFill>
                  <a:srgbClr val="000000"/>
                </a:solidFill>
                <a:latin typeface="Arial"/>
              </a:rPr>
              <a:t>29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6197-295A-4F72-9500-EE86B260199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70040" y="1468440"/>
            <a:ext cx="7601040" cy="1587600"/>
          </a:xfrm>
          <a:prstGeom prst="rect">
            <a:avLst/>
          </a:prstGeom>
          <a:solidFill>
            <a:srgbClr val="7f7f7f">
              <a:alpha val="60000"/>
            </a:srgbClr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0000"/>
                </a:solidFill>
                <a:latin typeface="Georgia"/>
              </a:rPr>
              <a:t>PROBABILITÉS</a:t>
            </a:r>
            <a:br>
              <a:rPr sz="5400"/>
            </a:br>
            <a:r>
              <a:rPr b="1" lang="fr-FR" sz="6000" spc="-1" strike="noStrike">
                <a:solidFill>
                  <a:srgbClr val="ff0000"/>
                </a:solidFill>
                <a:latin typeface="Georgia"/>
              </a:rPr>
              <a:t>SÉRIE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re 1"/>
          <p:cNvSpPr/>
          <p:nvPr/>
        </p:nvSpPr>
        <p:spPr>
          <a:xfrm>
            <a:off x="0" y="4390920"/>
            <a:ext cx="91440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1"/>
          <a:stretch/>
        </p:blipFill>
        <p:spPr>
          <a:xfrm>
            <a:off x="2960640" y="2997360"/>
            <a:ext cx="3278160" cy="35272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8"/>
          <p:cNvSpPr/>
          <p:nvPr/>
        </p:nvSpPr>
        <p:spPr>
          <a:xfrm>
            <a:off x="0" y="1292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lle est la probabilité d’obtenir 0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2960640" y="2997360"/>
            <a:ext cx="3278160" cy="35272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8"/>
          <p:cNvSpPr/>
          <p:nvPr/>
        </p:nvSpPr>
        <p:spPr>
          <a:xfrm>
            <a:off x="0" y="12924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lle est la probabilité d’obtenir un nombre strictement inférieur à 5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0" y="12924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lle est la probabilité d’obtenir un nombre premier, c’est-à-dire un entier naturel ayant exactement deux diviseur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1"/>
          <a:stretch/>
        </p:blipFill>
        <p:spPr>
          <a:xfrm>
            <a:off x="2960640" y="2997360"/>
            <a:ext cx="3278160" cy="3527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420640"/>
            <a:ext cx="9144000" cy="108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f0000"/>
                </a:solidFill>
                <a:latin typeface="Georgia"/>
              </a:rPr>
              <a:t>CORRIGÉ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6575400" y="2838600"/>
            <a:ext cx="2556000" cy="27511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131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xplication géné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91314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La probabilité que la flèche indique un  sec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est proportionnelle à l’angle du secte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2982960"/>
            <a:ext cx="691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Les secteurs 1 et 2 ont un angle de 90°, soit chacun un quart de 360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Le secteur 4 a un angle représentant le tiers de 360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Le secteur 3, par soustraction a un angle de 60°, soit le sixième de 360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itre 1"/>
          <p:cNvSpPr/>
          <p:nvPr/>
        </p:nvSpPr>
        <p:spPr>
          <a:xfrm>
            <a:off x="0" y="119700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Quelle est la probabilité d’obtenir 1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3419640" y="4005360"/>
            <a:ext cx="2323800" cy="25016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0" y="21337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L’angle du secteur 1 est 90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La probabilité d’obtenir 1 est 90/3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soit 1/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itre 1"/>
          <p:cNvSpPr/>
          <p:nvPr/>
        </p:nvSpPr>
        <p:spPr>
          <a:xfrm>
            <a:off x="0" y="119700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Quelle est la probabilité d’obtenir 3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3419640" y="4005360"/>
            <a:ext cx="2323800" cy="25016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0" y="21337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L’angle du secteur 3 est 60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La probabilité d’obtenir 3 est 60/3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soit 1/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itre 1"/>
          <p:cNvSpPr/>
          <p:nvPr/>
        </p:nvSpPr>
        <p:spPr>
          <a:xfrm>
            <a:off x="0" y="119700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Quelle est la probabilité d’obtenir 4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3419640" y="4005360"/>
            <a:ext cx="2323800" cy="25016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7"/>
          <p:cNvSpPr/>
          <p:nvPr/>
        </p:nvSpPr>
        <p:spPr>
          <a:xfrm>
            <a:off x="0" y="21337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L’angle du secteur 4 est 120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La probabilité d’obtenir 4 est 120/3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soit 1/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itre 1"/>
          <p:cNvSpPr/>
          <p:nvPr/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Quelle est la probabilité d’obtenir un nombre impair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0" y="2708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La probabilité d’obtenir 1 ou 3 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1/4 + 1/6 = 5/1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3419640" y="4005360"/>
            <a:ext cx="2323800" cy="2501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3409920" y="4254480"/>
            <a:ext cx="2324160" cy="2502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itre 1"/>
          <p:cNvSpPr/>
          <p:nvPr/>
        </p:nvSpPr>
        <p:spPr>
          <a:xfrm>
            <a:off x="0" y="134136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Quelle est la probabilité de ne p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obtenir 1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0" y="220500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« Ne pas obtenir 1 » est l’évènement contraire de l’évènement « obtenir 1 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La probabilité de ne pas obtenir 1 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1 – 1/4 = 3/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0" y="1890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Une roue de loterie est partagée 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atre secteurs numérotés 1, 2, 3 et 4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On fait tourner la roue et on note le secteur indiqué par la flèche lorsqu’elle s’arrê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3059280" y="2637000"/>
            <a:ext cx="3278160" cy="3527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itre 1"/>
          <p:cNvSpPr/>
          <p:nvPr/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Quelle est la probabilité d’obteni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un multiple de 2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0" y="2708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La probabilité d’obtenir 2 ou 4 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1/4 + 1/3 = 7/1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3419640" y="4005360"/>
            <a:ext cx="2323800" cy="2501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itre 1"/>
          <p:cNvSpPr/>
          <p:nvPr/>
        </p:nvSpPr>
        <p:spPr>
          <a:xfrm>
            <a:off x="0" y="119700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Quelle est la probabilité d’obtenir un nombre inférieur ou égal à 3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0" y="225108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La probabilité d’obtenir 1 ou 2 ou 3 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1/4 + 1/4 + 1/6 = 8/12 = 2/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u bien la probabilité de ne pas obtenir 4 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1 – 1/3 = 2/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3409920" y="4254480"/>
            <a:ext cx="2324160" cy="250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itre 1"/>
          <p:cNvSpPr/>
          <p:nvPr/>
        </p:nvSpPr>
        <p:spPr>
          <a:xfrm>
            <a:off x="0" y="105264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Quelle est la probabilité d’obtenir 0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0" y="2492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« Obtenir 0 » est un évènement im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La probabilité d’obtenir 0 est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3419640" y="4005360"/>
            <a:ext cx="2323800" cy="2501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itre 1"/>
          <p:cNvSpPr/>
          <p:nvPr/>
        </p:nvSpPr>
        <p:spPr>
          <a:xfrm>
            <a:off x="0" y="126828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Quelle est la probabilité d’obtenir un nombre strictement inférieur à 5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0" y="2492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« Obtenir un nombre strictement inférieur à 5 » est un évènement cert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Sa probabilité est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3419640" y="4005360"/>
            <a:ext cx="2323800" cy="2501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itre 1"/>
          <p:cNvSpPr/>
          <p:nvPr/>
        </p:nvSpPr>
        <p:spPr>
          <a:xfrm>
            <a:off x="0" y="1052640"/>
            <a:ext cx="9144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Quelle est la probabilité d’obtenir un nombre premier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0" y="242100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Les nombres premiers sont 2 et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La probabilité d’obtenir 2 ou 3 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1/4 + 1/6 = 5/1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3419640" y="4005360"/>
            <a:ext cx="2323800" cy="2501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420640"/>
            <a:ext cx="9144000" cy="108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f0000"/>
                </a:solidFill>
                <a:latin typeface="Georgia"/>
              </a:rPr>
              <a:t>F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"/>
          <p:cNvPicPr/>
          <p:nvPr/>
        </p:nvPicPr>
        <p:blipFill>
          <a:blip r:embed="rId1"/>
          <a:stretch/>
        </p:blipFill>
        <p:spPr>
          <a:xfrm>
            <a:off x="3059280" y="2349360"/>
            <a:ext cx="3278160" cy="35276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0" y="13082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lle est la probabilité d’obtenir 1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tre 1"/>
          <p:cNvSpPr/>
          <p:nvPr/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1"/>
          <a:stretch/>
        </p:blipFill>
        <p:spPr>
          <a:xfrm>
            <a:off x="3059280" y="2349360"/>
            <a:ext cx="3278160" cy="35276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8"/>
          <p:cNvSpPr/>
          <p:nvPr/>
        </p:nvSpPr>
        <p:spPr>
          <a:xfrm>
            <a:off x="0" y="13082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lle est la probabilité d’obtenir 3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1"/>
          <a:stretch/>
        </p:blipFill>
        <p:spPr>
          <a:xfrm>
            <a:off x="3059280" y="2349360"/>
            <a:ext cx="3278160" cy="35276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0" y="13082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lle est la probabilité d’obtenir 4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2960640" y="2997360"/>
            <a:ext cx="3278160" cy="35272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>
            <a:off x="0" y="13082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lle est la probabilité d’obtenir un nombre impair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"/>
          <p:cNvPicPr/>
          <p:nvPr/>
        </p:nvPicPr>
        <p:blipFill>
          <a:blip r:embed="rId1"/>
          <a:stretch/>
        </p:blipFill>
        <p:spPr>
          <a:xfrm>
            <a:off x="2960640" y="2997360"/>
            <a:ext cx="3278160" cy="35272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8"/>
          <p:cNvSpPr/>
          <p:nvPr/>
        </p:nvSpPr>
        <p:spPr>
          <a:xfrm>
            <a:off x="0" y="12924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lle est la probabilité de ne p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obtenir 1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1"/>
          <a:stretch/>
        </p:blipFill>
        <p:spPr>
          <a:xfrm>
            <a:off x="2960640" y="2997360"/>
            <a:ext cx="3278160" cy="35272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8"/>
          <p:cNvSpPr/>
          <p:nvPr/>
        </p:nvSpPr>
        <p:spPr>
          <a:xfrm>
            <a:off x="0" y="12924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lle est la probabilité d’obtenir un multiple de 2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"/>
          <p:cNvPicPr/>
          <p:nvPr/>
        </p:nvPicPr>
        <p:blipFill>
          <a:blip r:embed="rId1"/>
          <a:stretch/>
        </p:blipFill>
        <p:spPr>
          <a:xfrm>
            <a:off x="2960640" y="2997360"/>
            <a:ext cx="3278160" cy="35272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8"/>
          <p:cNvSpPr/>
          <p:nvPr/>
        </p:nvSpPr>
        <p:spPr>
          <a:xfrm>
            <a:off x="0" y="12924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lle est la probabilité d’obtenir un nombre inférieur ou égal à 3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auderi</cp:lastModifiedBy>
  <dcterms:modified xsi:type="dcterms:W3CDTF">2016-07-04T13:34:46Z</dcterms:modified>
  <cp:revision>247</cp:revision>
  <dc:subject/>
  <dc:title>Diapositive 0</dc:title>
</cp:coreProperties>
</file>