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849-06F0-450A-9D89-9509E902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DBD-F0D7-4EA1-92A8-5F542DB9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E5E-F41F-4345-8A5B-B280FB73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641-41D3-46D4-A55F-E8DA3F59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9C28-92C5-4137-824B-64ED79B2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ADE4-F422-4163-B23C-46FFC411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653F-F1B5-4DC6-A6E9-E6FF483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AD0-A4D2-4EF3-81A0-70EC4480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F9E0-DE5A-4935-B148-4CC8A37A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665B-B219-4FEB-BB53-35D1D74D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9E8-260A-45B3-A7B3-3538DD00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13C-66B5-4396-BE78-3082F205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37E6-709E-40A9-9351-BEBE30C8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2430-EE17-4990-A3E7-6F5F4825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BC5A-0509-420A-B62A-5E49B98F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FE5B-F2A4-4ADE-B377-AF47D62D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0D62-A893-4C71-BA63-5BC05752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1C9A-A69A-4266-B290-2BF333F5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9454-8B99-459A-9FCD-162479FA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9EE0-76EE-4E57-87CB-E3F5B4B7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136A-46F4-46D2-B694-95B9952E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6523-1436-4FCF-A0B4-FE1D7B68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2FA-AAED-4107-A74D-423224E6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5065-365C-4CD7-B02F-F92DCDD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4745-F64F-426C-8CAE-C35885E5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E09A-E2D6-43EA-A8F8-4651537D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9D917-1FB6-4E42-B0B3-A382178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54CB-B6CE-4EDC-BC71-DE8A1329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FAB0-1D51-40E0-8A65-7839A31D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65CFE-B4D9-4240-8A01-6FB414AD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D4A8-5E50-45D5-A0B2-EB819D72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7EB67-537C-43B8-AF31-59D76D8E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76DF7-6A34-4C58-91D3-8B2A1E14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276-3E2F-4EA4-97CB-216B6A39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87CB-4B8E-4774-B92B-2526E59B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B5F7-D9AB-4283-BBE1-6CF125B5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4700-80EA-4140-9777-81B0D01E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33DB-7BD3-4773-98D3-501D227B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C7F9-1CEE-4D18-B867-0DF50AC8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B175-EF0A-401C-8B69-0CE68A7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AC06-FDE8-4A02-919C-6FBF30D9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C9A8-ABDD-4728-9FEC-C77F254D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D4224-3A42-4A2E-A516-5AFB9E37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AD62-BF38-4F71-BC68-EAA67A19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205-FFD2-4E42-9682-DC07AE7E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2CE-CC1A-4E69-A8B9-E4D36E8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FCD-00D3-49B8-B8F8-1EDA57DD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C95-2F54-415B-9A74-4D53052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B0A7-1108-4691-9ED7-6BAFF4166BE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3996-09B0-4474-B040-0160B7CF5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1513-804E-47D5-B2B7-9141AB3F13D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66A1-F9B0-44AA-A3F3-E6E2AE3E4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A279-F339-4571-8A11-E636007C63B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D022-7A61-444C-B0DC-6EEE5001F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33A5-77BA-4473-A806-6213873E0F7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EBD5-7872-4656-8B1F-0307EB398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AD1-55D9-4672-A702-BE8AC1127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F43-9197-4AC4-81FB-C838AE097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953735"/>
                </a:solidFill>
                <a:latin typeface="Calibri"/>
              </a:rPr>
              <a:t>Statistiques</a:t>
            </a:r>
            <a:r>
              <a:rPr b="1" lang="fr-FR" sz="72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tre 1"/>
          <p:cNvSpPr/>
          <p:nvPr/>
        </p:nvSpPr>
        <p:spPr>
          <a:xfrm>
            <a:off x="0" y="4437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53735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BE17-424B-4857-B836-6DE77A850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504d"/>
                </a:solidFill>
                <a:latin typeface="Calibri"/>
              </a:rPr>
              <a:t>Voici le diagramme en bâtons des effectifs</a:t>
            </a:r>
            <a:br>
              <a:rPr sz="3600"/>
            </a:br>
            <a:r>
              <a:rPr b="0" lang="fr-FR" sz="3600" spc="-1" strike="noStrike">
                <a:solidFill>
                  <a:srgbClr val="c0504d"/>
                </a:solidFill>
                <a:latin typeface="Calibri"/>
              </a:rPr>
              <a:t>d’une série statistique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1476360" y="1413000"/>
          <a:ext cx="6129360" cy="31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13000"/>
                    <a:ext cx="612936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4"/>
          <p:cNvSpPr/>
          <p:nvPr/>
        </p:nvSpPr>
        <p:spPr>
          <a:xfrm>
            <a:off x="2050920" y="4653000"/>
            <a:ext cx="70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Arial"/>
              </a:rPr>
              <a:t>Effectif total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Arial"/>
              </a:rPr>
              <a:t>Mode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Arial"/>
              </a:rPr>
              <a:t>Médiane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0C93-A412-4F13-A89C-0CE701979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Voici la boîte à moustache représentant le temps de lecture hebdomadaire d’une classe de 36 élè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2195640" y="1341360"/>
          <a:ext cx="4967280" cy="303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341360"/>
                    <a:ext cx="496728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407628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2200" spc="-1" strike="noStrike" baseline="-25000">
                <a:solidFill>
                  <a:srgbClr val="77933c"/>
                </a:solidFill>
                <a:latin typeface="Calibri"/>
              </a:rPr>
              <a:t>1 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2200" spc="-1" strike="noStrike" baseline="-25000">
                <a:solidFill>
                  <a:srgbClr val="77933c"/>
                </a:solidFill>
                <a:latin typeface="Calibri"/>
              </a:rPr>
              <a:t>3 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Quelle est l’étendue de la série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Au moins 50% des élèves lisent entre 2 et 5h par semaine :   OUI       N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Au moins 18 élèves lisent 3h par semaine ou moins :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	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              OUI        NON</a:t>
            </a:r>
            <a:r>
              <a:rPr b="1" lang="fr-FR" sz="13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2DE7-E76E-456A-AA08-C1330BEBD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5EBC-4538-4DA5-BB3C-8261A5EFD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Voici la répartition des élèves d’une classe de 2nde selon leur âg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43280" y="3938760"/>
            <a:ext cx="63007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a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b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c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d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71680" y="1714680"/>
          <a:ext cx="8001000" cy="1809720"/>
        </p:xfrm>
        <a:graphic>
          <a:graphicData uri="http://schemas.openxmlformats.org/drawingml/2006/table">
            <a:tbl>
              <a:tblPr/>
              <a:tblGrid>
                <a:gridCol w="1912680"/>
                <a:gridCol w="1511280"/>
                <a:gridCol w="1584360"/>
                <a:gridCol w="1392480"/>
                <a:gridCol w="16002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é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F5AD-E637-4BD3-9517-83FD37FA5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53735"/>
                </a:solidFill>
                <a:latin typeface="Calibri"/>
              </a:rPr>
              <a:t>Cette série statistique est représentée pa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8786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          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a)                        b)                              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6000" y="1268280"/>
          <a:ext cx="6840720" cy="1513080"/>
        </p:xfrm>
        <a:graphic>
          <a:graphicData uri="http://schemas.openxmlformats.org/drawingml/2006/table">
            <a:tbl>
              <a:tblPr/>
              <a:tblGrid>
                <a:gridCol w="2359080"/>
                <a:gridCol w="971640"/>
                <a:gridCol w="795240"/>
                <a:gridCol w="795240"/>
                <a:gridCol w="714600"/>
                <a:gridCol w="617400"/>
                <a:gridCol w="58752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20" name="Graphique 10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2846520" cy="2230560"/>
          </a:xfrm>
          <a:prstGeom prst="rect">
            <a:avLst/>
          </a:prstGeom>
          <a:ln w="0">
            <a:noFill/>
          </a:ln>
        </p:spPr>
      </p:pic>
      <p:pic>
        <p:nvPicPr>
          <p:cNvPr id="221" name="Graphique 11" descr=""/>
          <p:cNvPicPr/>
          <p:nvPr/>
        </p:nvPicPr>
        <p:blipFill>
          <a:blip r:embed="rId2"/>
          <a:stretch/>
        </p:blipFill>
        <p:spPr>
          <a:xfrm>
            <a:off x="103320" y="3352680"/>
            <a:ext cx="2957400" cy="2090880"/>
          </a:xfrm>
          <a:prstGeom prst="rect">
            <a:avLst/>
          </a:prstGeom>
          <a:ln w="0">
            <a:noFill/>
          </a:ln>
        </p:spPr>
      </p:pic>
      <p:pic>
        <p:nvPicPr>
          <p:cNvPr id="222" name="Graphique 12" descr=""/>
          <p:cNvPicPr/>
          <p:nvPr/>
        </p:nvPicPr>
        <p:blipFill>
          <a:blip r:embed="rId3"/>
          <a:stretch/>
        </p:blipFill>
        <p:spPr>
          <a:xfrm>
            <a:off x="5791320" y="3425760"/>
            <a:ext cx="30286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953F-3614-40BD-B444-2829F3C85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53735"/>
                </a:solidFill>
                <a:latin typeface="Calibri"/>
              </a:rPr>
              <a:t>Le diagramme suivant correspond-t-il à l’écran</a:t>
            </a:r>
            <a:br>
              <a:rPr sz="3200"/>
            </a:br>
            <a:r>
              <a:rPr b="0" lang="fr-FR" sz="3200" spc="-1" strike="noStrike">
                <a:solidFill>
                  <a:srgbClr val="953735"/>
                </a:solidFill>
                <a:latin typeface="Calibri"/>
              </a:rPr>
              <a:t>de la calculatric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Espace réservé du contenu 3" descr=""/>
          <p:cNvPicPr/>
          <p:nvPr/>
        </p:nvPicPr>
        <p:blipFill>
          <a:blip r:embed="rId1"/>
          <a:stretch/>
        </p:blipFill>
        <p:spPr>
          <a:xfrm>
            <a:off x="176040" y="695160"/>
            <a:ext cx="5548320" cy="5973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2483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6026-EE2C-4E68-B286-7F06A9CD7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2F74-0E9C-44A0-8A70-A77A26D5B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A la calculatrice, éditer cette séri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785880"/>
          <a:ext cx="8215200" cy="1457280"/>
        </p:xfrm>
        <a:graphic>
          <a:graphicData uri="http://schemas.openxmlformats.org/drawingml/2006/table">
            <a:tbl>
              <a:tblPr/>
              <a:tblGrid>
                <a:gridCol w="1335240"/>
                <a:gridCol w="1012680"/>
                <a:gridCol w="1173240"/>
                <a:gridCol w="1173240"/>
                <a:gridCol w="1172880"/>
                <a:gridCol w="1175040"/>
                <a:gridCol w="11728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2" name="Rectangle 3"/>
          <p:cNvSpPr/>
          <p:nvPr/>
        </p:nvSpPr>
        <p:spPr>
          <a:xfrm>
            <a:off x="2987640" y="2924280"/>
            <a:ext cx="6156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Médiane =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Q1 = ? </a:t>
            </a: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Q3 = ? </a:t>
            </a: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………</a:t>
            </a:r>
            <a:r>
              <a:rPr b="1" lang="fr-FR" sz="4000" spc="-1" strike="noStrike">
                <a:solidFill>
                  <a:srgbClr val="77933c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3896-F0D0-40A4-881C-9E368362F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BAB8-BC17-4CF4-AEF2-FBE92D948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953735"/>
                </a:solidFill>
                <a:latin typeface="Calibri"/>
              </a:rPr>
              <a:t>Fin</a:t>
            </a:r>
            <a:r>
              <a:rPr b="1" lang="fr-FR" sz="72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6072-3F45-48AC-A37C-F09134D66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5D43-B998-430D-A0B0-F2EEF995F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40716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628640"/>
          <a:ext cx="7358040" cy="1584360"/>
        </p:xfrm>
        <a:graphic>
          <a:graphicData uri="http://schemas.openxmlformats.org/drawingml/2006/table">
            <a:tbl>
              <a:tblPr/>
              <a:tblGrid>
                <a:gridCol w="1838520"/>
                <a:gridCol w="1839960"/>
                <a:gridCol w="1839960"/>
                <a:gridCol w="183960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F0EE-6B9F-4962-BD49-DB557DB9E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8FB2-5313-48F3-AFE3-B517B9496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4005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55640" y="1557360"/>
          <a:ext cx="7786800" cy="1566720"/>
        </p:xfrm>
        <a:graphic>
          <a:graphicData uri="http://schemas.openxmlformats.org/drawingml/2006/table">
            <a:tbl>
              <a:tblPr/>
              <a:tblGrid>
                <a:gridCol w="1946160"/>
                <a:gridCol w="1946520"/>
                <a:gridCol w="1947600"/>
                <a:gridCol w="194652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é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ACE8-A6D8-4591-AA8C-14C8A25A5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0A69-CCDB-4A7C-9615-53DB97206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84000" y="2997000"/>
            <a:ext cx="66596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Mod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Étendu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Médian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1125360"/>
          <a:ext cx="7429320" cy="1384560"/>
        </p:xfrm>
        <a:graphic>
          <a:graphicData uri="http://schemas.openxmlformats.org/drawingml/2006/table">
            <a:tbl>
              <a:tblPr/>
              <a:tblGrid>
                <a:gridCol w="1857240"/>
                <a:gridCol w="1857600"/>
                <a:gridCol w="1857240"/>
                <a:gridCol w="1857240"/>
              </a:tblGrid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51A1-84A7-4AC2-9BE6-4F3949B7D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8CE2-D4B2-45D3-AC4C-9836A2D98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53735"/>
                </a:solidFill>
                <a:latin typeface="Calibri"/>
              </a:rPr>
              <a:t>Dans une école maternelle, 3 filles et 2 garçons jouent avec de la pâte à mode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f81bd"/>
                </a:solidFill>
                <a:latin typeface="Calibri"/>
              </a:rPr>
              <a:t>La taille moyenne des 3 filles est 1 m et celle des 2 garçons 1,1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La taille moyenne des 5 enfants est </a:t>
            </a:r>
            <a:r>
              <a:rPr b="1" lang="fr-FR" sz="5400" spc="-1" strike="noStrike">
                <a:solidFill>
                  <a:srgbClr val="77933c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BC10-0102-4657-8A28-1F600922B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fr-FR" sz="2900" spc="-1" strike="noStrike">
                <a:solidFill>
                  <a:srgbClr val="953735"/>
                </a:solidFill>
                <a:latin typeface="Calibri"/>
              </a:rPr>
              <a:t>Voici le </a:t>
            </a:r>
            <a:r>
              <a:rPr b="1" lang="fr-FR" sz="3000" spc="-1" strike="noStrike">
                <a:solidFill>
                  <a:srgbClr val="953735"/>
                </a:solidFill>
                <a:latin typeface="Calibri"/>
              </a:rPr>
              <a:t>nombre</a:t>
            </a:r>
            <a:r>
              <a:rPr b="1" lang="fr-FR" sz="2900" spc="-1" strike="noStrike">
                <a:solidFill>
                  <a:srgbClr val="953735"/>
                </a:solidFill>
                <a:latin typeface="Calibri"/>
              </a:rPr>
              <a:t> de SMS reçus par jour par un groupe d’amis</a:t>
            </a:r>
            <a:br>
              <a:rPr sz="29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413000"/>
          <a:ext cx="7561440" cy="1728720"/>
        </p:xfrm>
        <a:graphic>
          <a:graphicData uri="http://schemas.openxmlformats.org/drawingml/2006/table">
            <a:tbl>
              <a:tblPr/>
              <a:tblGrid>
                <a:gridCol w="2378160"/>
                <a:gridCol w="1360440"/>
                <a:gridCol w="1274760"/>
                <a:gridCol w="1273320"/>
                <a:gridCol w="1274760"/>
              </a:tblGrid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bre de 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3430440"/>
            <a:ext cx="896472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Le nombre moyen de SMS reçus par jour est 5,5 :   OUI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L’étendue de cette série est égale à 7 :                       OUI 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80% des amis ont reçu moins de 8 SMS :                   OUI 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50% des amis ont reçu au moins 5 SMS :                   OUI 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67C0-F358-4FC1-978B-504B7F2AB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D24-2379-4F19-B739-BB9870F92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Voici le polygone des effectifs cumulés croissants d’une</a:t>
            </a:r>
            <a:br>
              <a:rPr sz="2800"/>
            </a:b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série comprenant 3 classes [0 ; 3 [, [3 ; 6 [ et [6 ; 9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8592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L’effectif de la classe [6 ; 9] e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La fréquence de la classe [0 ; 3 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e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Médiane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3200" spc="-1" strike="noStrike" baseline="-25000">
                <a:solidFill>
                  <a:srgbClr val="77933c"/>
                </a:solidFill>
                <a:latin typeface="Calibri"/>
              </a:rPr>
              <a:t>1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3200" spc="-1" strike="noStrike" baseline="-25000">
                <a:solidFill>
                  <a:srgbClr val="77933c"/>
                </a:solidFill>
                <a:latin typeface="Calibri"/>
              </a:rPr>
              <a:t>3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7"/>
          <p:cNvGraphicFramePr/>
          <p:nvPr/>
        </p:nvGraphicFramePr>
        <p:xfrm>
          <a:off x="4680000" y="1649520"/>
          <a:ext cx="4500360" cy="415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000" y="1649520"/>
                    <a:ext cx="4500360" cy="41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CBE0-AA29-4E78-83A1-71FFFB8144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124F-C60C-428A-BE6C-2B17AEC35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8000" y="980640"/>
            <a:ext cx="90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La moyenne de la séri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− </a:t>
            </a: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5    ;   − 4   ; − 2   ;   1    ;    6    ;   10   est 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La moyenne de la séri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7933c"/>
                </a:solidFill>
                <a:latin typeface="Calibri"/>
              </a:rPr>
              <a:t>	</a:t>
            </a: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2005 ; 2006 ; 2008 ; 2011 ; 2016 ; 2020 es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AA6C-9731-4659-984B-8A0542D4B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Le personnel soignant d’une clinique, constitué de 200</a:t>
            </a:r>
            <a:br>
              <a:rPr sz="2800"/>
            </a:b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 personnes, reçoit une prime de fin d’anné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ff"/>
                </a:solidFill>
                <a:latin typeface="Calibri"/>
              </a:rPr>
              <a:t>La fréquence qu’une personne ait une prim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fr-FR" sz="2800" spc="-1" strike="noStrike">
                <a:solidFill>
                  <a:srgbClr val="0066ff"/>
                </a:solidFill>
                <a:latin typeface="Calibri"/>
              </a:rPr>
              <a:t>300 € es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7933c"/>
                </a:solidFill>
                <a:latin typeface="Calibri"/>
              </a:rPr>
              <a:t>La valeur du 1er quartile es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7933c"/>
                </a:solidFill>
                <a:latin typeface="Calibri"/>
              </a:rPr>
              <a:t>La valeur de la médiane es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7933c"/>
                </a:solidFill>
                <a:latin typeface="Calibri"/>
              </a:rPr>
              <a:t>La valeur du 3ème quartile ?</a:t>
            </a:r>
            <a:r>
              <a:rPr b="1" lang="fr-FR" sz="3200" spc="-1" strike="noStrike">
                <a:solidFill>
                  <a:srgbClr val="ff993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11280" y="1341360"/>
          <a:ext cx="7786440" cy="1836720"/>
        </p:xfrm>
        <a:graphic>
          <a:graphicData uri="http://schemas.openxmlformats.org/drawingml/2006/table">
            <a:tbl>
              <a:tblPr/>
              <a:tblGrid>
                <a:gridCol w="3406680"/>
                <a:gridCol w="903240"/>
                <a:gridCol w="905040"/>
                <a:gridCol w="903240"/>
                <a:gridCol w="833400"/>
                <a:gridCol w="834840"/>
              </a:tblGrid>
              <a:tr h="13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tant de la prime en eu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1:31:38Z</dcterms:created>
  <dc:creator>Imbert-Lemoine</dc:creator>
  <dc:description/>
  <dc:language>en-US</dc:language>
  <cp:lastModifiedBy>auderi</cp:lastModifiedBy>
  <dcterms:modified xsi:type="dcterms:W3CDTF">2016-07-12T11:16:03Z</dcterms:modified>
  <cp:revision>85</cp:revision>
  <dc:subject/>
  <dc:title>Statistiques</dc:title>
</cp:coreProperties>
</file>