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93B-76A4-4A89-9A15-C4F1E0F41D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E284-B1B4-4773-B330-F704D5B8CA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01E-E118-430D-9153-C18BF88F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C89-F855-4703-A982-23D14E0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596-1518-4A16-A3C8-73D2B1D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526-7F08-4C44-9F34-191E7A10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5A8-FB9B-4EE2-87AF-7C0F23C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C93-8D7C-4055-AF3C-D621D13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9DF-B540-4C48-B781-D14EBAF4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6A0-E6D2-4ED2-A900-CDE32C1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CDA-7244-442F-8D40-1C75136D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C33-C041-47CE-9F16-6CB54E2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483-2308-4C67-9892-EA3F3CE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72F-9798-4B0E-92F0-F87B0B6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02EE-F9E9-4322-89CA-B7140595E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7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ZoneTexte 4" descr=""/>
          <p:cNvPicPr/>
          <p:nvPr/>
        </p:nvPicPr>
        <p:blipFill>
          <a:blip r:embed="rId2"/>
          <a:stretch/>
        </p:blipFill>
        <p:spPr>
          <a:xfrm>
            <a:off x="2651040" y="3809880"/>
            <a:ext cx="6370560" cy="1438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185256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82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ZoneTexte 4" descr=""/>
          <p:cNvPicPr/>
          <p:nvPr/>
        </p:nvPicPr>
        <p:blipFill>
          <a:blip r:embed="rId3"/>
          <a:stretch/>
        </p:blipFill>
        <p:spPr>
          <a:xfrm>
            <a:off x="2803680" y="3614760"/>
            <a:ext cx="5979960" cy="2146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-152280" y="1341360"/>
            <a:ext cx="94294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89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ZoneTexte 4" descr=""/>
          <p:cNvPicPr/>
          <p:nvPr/>
        </p:nvPicPr>
        <p:blipFill>
          <a:blip r:embed="rId3"/>
          <a:stretch/>
        </p:blipFill>
        <p:spPr>
          <a:xfrm>
            <a:off x="2773440" y="3578400"/>
            <a:ext cx="5973840" cy="987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2840040" y="3578400"/>
            <a:ext cx="5977080" cy="251460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4299120" y="4375080"/>
            <a:ext cx="29224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168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qui a quatre fois plus de ch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tomber sur « Face » que sur « Pil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97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ZoneTexte 4" descr=""/>
          <p:cNvPicPr/>
          <p:nvPr/>
        </p:nvPicPr>
        <p:blipFill>
          <a:blip r:embed="rId2"/>
          <a:stretch/>
        </p:blipFill>
        <p:spPr>
          <a:xfrm>
            <a:off x="2803680" y="3809880"/>
            <a:ext cx="597996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03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ZoneTexte 4"/>
          <p:cNvSpPr/>
          <p:nvPr/>
        </p:nvSpPr>
        <p:spPr>
          <a:xfrm>
            <a:off x="2806560" y="37638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Il a 1, 2, 3, 4 ou 5 réponses fausses. Donc il a 4, 3, 2, 1 ou 0 réponses ju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ous-titre 2"/>
          <p:cNvSpPr/>
          <p:nvPr/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quatre réponses justes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une réponse fauss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11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ZoneTexte 4"/>
          <p:cNvSpPr/>
          <p:nvPr/>
        </p:nvSpPr>
        <p:spPr>
          <a:xfrm>
            <a:off x="2806560" y="37893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Il a 2, 3, 4 ou 5 ré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justes. Donc il a 3, 2, 1 ou 0 réponses faus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>
            <a:off x="2840040" y="3578400"/>
            <a:ext cx="5977080" cy="20113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2492280"/>
            <a:ext cx="8785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mbria"/>
              </a:rPr>
              <a:t>Vrai ou Faux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 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18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tour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2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 pion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st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32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ou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39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</a:t>
            </a:r>
            <a:r>
              <a:rPr b="1" lang="fr-FR" sz="35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ous-titre 2" descr=""/>
          <p:cNvPicPr/>
          <p:nvPr/>
        </p:nvPicPr>
        <p:blipFill>
          <a:blip r:embed="rId1"/>
          <a:stretch/>
        </p:blipFill>
        <p:spPr>
          <a:xfrm>
            <a:off x="0" y="2004840"/>
            <a:ext cx="914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283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de monnaie qui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atre fois plus de chances de to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ur « Face » que sur « Pil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quatre réponses juste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une réponse fauss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5:10:23Z</dcterms:modified>
  <cp:revision>108</cp:revision>
  <dc:subject/>
  <dc:title>PROBABILITES Série 1</dc:title>
</cp:coreProperties>
</file>