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717-70D6-4B95-940C-BFD5444E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A88-D17C-4306-93C5-5C66DABB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371-BC96-48A8-A2DE-F20A9C6E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199-F28A-4DAE-A623-436BD84E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32EB-66A1-4E75-8643-2C71FA26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A6A1-187C-4518-9CB4-C04429AF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35A4-7588-4388-AD59-F9B008C1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095C-AE50-4E87-8055-66372016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C8F5-5603-4C39-AD7B-928BC91F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AF6F-9648-4613-981E-D8F67298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852F-3015-437E-901A-D93D1E2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6B9-3838-49C9-8668-5ECC2378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3877-72BF-41F8-8EC9-9F1B7FFD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0A96-29B1-494E-9F27-BEC8AA0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EA1D-1D8F-4BC0-B3FF-FF993E52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9A8E-6633-4B10-844C-9B9F203D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6B75-FC48-4FA0-B46C-2B79E88D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B99-0A3F-4458-A566-34DD6844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F99-EDFA-4266-8C90-1CD6C7F0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658-A0FB-4EBA-B5DC-6C4EFFF4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071-C111-4235-9D2F-1BDCA9BC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530-7AF0-4B35-A698-1C28FDC9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BA5-D401-426D-950D-1B8E2483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1D3-ABC0-487F-8DE3-D58B15C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993F-6EA7-4CB9-8AE0-52A06542B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FA89-E834-4A11-AE99-EB018C620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4102200"/>
            <a:ext cx="91440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IMPLICATION - RÉCIPROQU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3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251604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                 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1270080" y="393372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                 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1270080" y="393372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155700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3"/>
          <p:cNvSpPr/>
          <p:nvPr/>
        </p:nvSpPr>
        <p:spPr>
          <a:xfrm>
            <a:off x="611280" y="479736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4"/>
          <p:cNvSpPr/>
          <p:nvPr/>
        </p:nvSpPr>
        <p:spPr>
          <a:xfrm>
            <a:off x="3995640" y="4932360"/>
            <a:ext cx="4321440" cy="58140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= 2 alors  </a:t>
            </a:r>
            <a:r>
              <a:rPr b="1" i="1" lang="fr-F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²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= 2² =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155700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à coins arrondis 3"/>
          <p:cNvSpPr/>
          <p:nvPr/>
        </p:nvSpPr>
        <p:spPr>
          <a:xfrm>
            <a:off x="611280" y="479736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oneTexte 4" descr=""/>
          <p:cNvPicPr/>
          <p:nvPr/>
        </p:nvPicPr>
        <p:blipFill>
          <a:blip r:embed="rId1"/>
          <a:stretch/>
        </p:blipFill>
        <p:spPr>
          <a:xfrm>
            <a:off x="3114720" y="4840200"/>
            <a:ext cx="58705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à coins arrondis 3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4" descr=""/>
          <p:cNvPicPr/>
          <p:nvPr/>
        </p:nvPicPr>
        <p:blipFill>
          <a:blip r:embed="rId2"/>
          <a:stretch/>
        </p:blipFill>
        <p:spPr>
          <a:xfrm>
            <a:off x="4267080" y="4705200"/>
            <a:ext cx="29149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à coins arrondis 3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ZoneTexte 4" descr=""/>
          <p:cNvPicPr/>
          <p:nvPr/>
        </p:nvPicPr>
        <p:blipFill>
          <a:blip r:embed="rId2"/>
          <a:stretch/>
        </p:blipFill>
        <p:spPr>
          <a:xfrm>
            <a:off x="3986280" y="4711680"/>
            <a:ext cx="3475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  <p:sp>
        <p:nvSpPr>
          <p:cNvPr id="129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à coins arrondis 4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ZoneTexte 5" descr=""/>
          <p:cNvPicPr/>
          <p:nvPr/>
        </p:nvPicPr>
        <p:blipFill>
          <a:blip r:embed="rId2"/>
          <a:stretch/>
        </p:blipFill>
        <p:spPr>
          <a:xfrm>
            <a:off x="3981600" y="4486320"/>
            <a:ext cx="4572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4"/>
          <p:cNvSpPr/>
          <p:nvPr/>
        </p:nvSpPr>
        <p:spPr>
          <a:xfrm>
            <a:off x="611280" y="46753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ZoneTexte 7" descr=""/>
          <p:cNvPicPr/>
          <p:nvPr/>
        </p:nvPicPr>
        <p:blipFill>
          <a:blip r:embed="rId1"/>
          <a:stretch/>
        </p:blipFill>
        <p:spPr>
          <a:xfrm>
            <a:off x="3760920" y="4700520"/>
            <a:ext cx="3060720" cy="878040"/>
          </a:xfrm>
          <a:prstGeom prst="rect">
            <a:avLst/>
          </a:prstGeom>
          <a:ln w="0">
            <a:noFill/>
          </a:ln>
        </p:spPr>
      </p:pic>
      <p:pic>
        <p:nvPicPr>
          <p:cNvPr id="135" name="Espace réservé du contenu 2" descr=""/>
          <p:cNvPicPr/>
          <p:nvPr/>
        </p:nvPicPr>
        <p:blipFill>
          <a:blip r:embed="rId2"/>
          <a:stretch/>
        </p:blipFill>
        <p:spPr>
          <a:xfrm>
            <a:off x="96840" y="1463760"/>
            <a:ext cx="89503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Oui ou Non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557360"/>
            <a:ext cx="86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à coins arrondis 4"/>
          <p:cNvSpPr/>
          <p:nvPr/>
        </p:nvSpPr>
        <p:spPr>
          <a:xfrm>
            <a:off x="611280" y="4653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3276720" y="4778280"/>
            <a:ext cx="5616360" cy="520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et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5 on a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et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≠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à coins arrondis 4"/>
          <p:cNvSpPr/>
          <p:nvPr/>
        </p:nvSpPr>
        <p:spPr>
          <a:xfrm>
            <a:off x="611280" y="4653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6"/>
          <p:cNvSpPr/>
          <p:nvPr/>
        </p:nvSpPr>
        <p:spPr>
          <a:xfrm>
            <a:off x="3851280" y="4653000"/>
            <a:ext cx="4537080" cy="9471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et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on a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y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×0 =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557360"/>
            <a:ext cx="86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560" y="1412640"/>
            <a:ext cx="88930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                = 0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t 6"/>
              <p:cNvSpPr txBox="1"/>
              <p:nvPr/>
            </p:nvSpPr>
            <p:spPr>
              <a:xfrm>
                <a:off x="1258920" y="314172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3995640" y="4724280"/>
            <a:ext cx="4464000" cy="14414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= 0 alors 2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²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+ 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 = 0 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                 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n’est pas défini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4211640" y="5178600"/>
            <a:ext cx="119052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à coins arrondis 15"/>
          <p:cNvSpPr/>
          <p:nvPr/>
        </p:nvSpPr>
        <p:spPr>
          <a:xfrm>
            <a:off x="611280" y="494172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N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3851280" y="4724280"/>
            <a:ext cx="4753080" cy="1008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Si       = 0 alors A = 0 et B</a:t>
            </a:r>
            <a:r>
              <a:rPr b="1" i="1" lang="fr-F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≠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1332000" y="3068640"/>
                <a:ext cx="1361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à coins arrondis 12"/>
          <p:cNvSpPr/>
          <p:nvPr/>
        </p:nvSpPr>
        <p:spPr>
          <a:xfrm>
            <a:off x="684360" y="486900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1"/>
          <a:stretch/>
        </p:blipFill>
        <p:spPr>
          <a:xfrm>
            <a:off x="4572000" y="4799160"/>
            <a:ext cx="314280" cy="79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50560" y="1412640"/>
            <a:ext cx="88930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2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                = 0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2276640"/>
            <a:ext cx="864216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 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276640"/>
            <a:ext cx="864216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 réel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2 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² =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P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  <p:sp>
        <p:nvSpPr>
          <p:cNvPr id="96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space réservé du contenu 2" descr=""/>
          <p:cNvPicPr/>
          <p:nvPr/>
        </p:nvPicPr>
        <p:blipFill>
          <a:blip r:embed="rId1"/>
          <a:stretch/>
        </p:blipFill>
        <p:spPr>
          <a:xfrm>
            <a:off x="96840" y="2189160"/>
            <a:ext cx="8950320" cy="3705120"/>
          </a:xfrm>
          <a:prstGeom prst="rect">
            <a:avLst/>
          </a:prstGeom>
          <a:ln w="0">
            <a:noFill/>
          </a:ln>
        </p:spPr>
      </p:pic>
      <p:sp>
        <p:nvSpPr>
          <p:cNvPr id="98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2276280"/>
            <a:ext cx="864216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i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ux réels. On considère les propositions suivant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 :  «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0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Q est-elle vrai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2:38:47Z</dcterms:modified>
  <cp:revision>77</cp:revision>
  <dc:subject/>
  <dc:title>LOGIQUE</dc:title>
</cp:coreProperties>
</file>