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F01-5886-462B-9A4C-C3EE92A722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F1F-0D7F-4F0C-A8D5-294BC5DC07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A11-854B-4784-80D0-F8DE093F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E97-D8E7-4E1B-82CD-845BF91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48F-EB7E-4221-B069-C14C0B3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4E7-5ECE-4D34-AD43-75E4CCD3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7DC-592A-4E06-8DA2-430AEDE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6B0-C747-486A-98F2-57244DE3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4DA-9A9D-4905-B068-155D6A8E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560-AC09-478D-BF62-F221228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83B-9724-4403-B3A2-FBAD148B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31D-0E44-4488-8501-0281409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A56-F825-4AA7-8660-7BBF5A3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F1A-1ED7-4F8E-88E5-2F33C19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2E7-12C2-4CBA-B799-4761D4B45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0" y="2516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313200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à coins arrondis 7"/>
          <p:cNvSpPr/>
          <p:nvPr/>
        </p:nvSpPr>
        <p:spPr>
          <a:xfrm>
            <a:off x="197964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8" descr="C:\Users\Christine\AppData\Local\Temp\geogebra.png"/>
          <p:cNvPicPr/>
          <p:nvPr/>
        </p:nvPicPr>
        <p:blipFill>
          <a:blip r:embed="rId1"/>
          <a:srcRect l="16672" t="9213" r="8914" b="7835"/>
          <a:stretch/>
        </p:blipFill>
        <p:spPr>
          <a:xfrm>
            <a:off x="5508720" y="306864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34100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à coins arrondis 3"/>
          <p:cNvSpPr/>
          <p:nvPr/>
        </p:nvSpPr>
        <p:spPr>
          <a:xfrm>
            <a:off x="1042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4581360"/>
            <a:ext cx="3430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6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508720" y="3697200"/>
            <a:ext cx="244800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508720" y="3716280"/>
            <a:ext cx="2428920" cy="25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à coins arrondis 8"/>
          <p:cNvSpPr/>
          <p:nvPr/>
        </p:nvSpPr>
        <p:spPr>
          <a:xfrm>
            <a:off x="1619280" y="47973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Image 9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435640" y="3716280"/>
            <a:ext cx="255420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10"/>
          <p:cNvSpPr/>
          <p:nvPr/>
        </p:nvSpPr>
        <p:spPr>
          <a:xfrm>
            <a:off x="1692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7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72000" y="3933720"/>
            <a:ext cx="3954600" cy="2132280"/>
          </a:xfrm>
          <a:prstGeom prst="rect">
            <a:avLst/>
          </a:prstGeom>
          <a:ln w="0">
            <a:noFill/>
          </a:ln>
        </p:spPr>
      </p:pic>
      <p:pic>
        <p:nvPicPr>
          <p:cNvPr id="96" name="Image 8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4576680" y="3933720"/>
            <a:ext cx="3956040" cy="2138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à coins arrondis 9"/>
          <p:cNvSpPr/>
          <p:nvPr/>
        </p:nvSpPr>
        <p:spPr>
          <a:xfrm>
            <a:off x="1692360" y="481824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48360" y="3933720"/>
            <a:ext cx="2992320" cy="2075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7"/>
          <p:cNvSpPr/>
          <p:nvPr/>
        </p:nvSpPr>
        <p:spPr>
          <a:xfrm>
            <a:off x="1258920" y="489096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4500720" y="3933720"/>
            <a:ext cx="3952800" cy="213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à coins arrondis 4"/>
          <p:cNvSpPr/>
          <p:nvPr/>
        </p:nvSpPr>
        <p:spPr>
          <a:xfrm>
            <a:off x="971640" y="48909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34100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3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5651640" y="3789360"/>
            <a:ext cx="2582640" cy="2351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4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3"/>
          <p:cNvSpPr/>
          <p:nvPr/>
        </p:nvSpPr>
        <p:spPr>
          <a:xfrm>
            <a:off x="971640" y="486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4" descr="C:\Users\Christine\AppData\Local\Temp\geogebra.png"/>
          <p:cNvPicPr/>
          <p:nvPr/>
        </p:nvPicPr>
        <p:blipFill>
          <a:blip r:embed="rId1"/>
          <a:srcRect l="3511" t="0" r="4654" b="0"/>
          <a:stretch/>
        </p:blipFill>
        <p:spPr>
          <a:xfrm>
            <a:off x="4500720" y="3933720"/>
            <a:ext cx="3484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rectangle 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a deux angles droit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4" descr="C:\Users\Christine\AppData\Local\Temp\geogebra.png"/>
          <p:cNvPicPr/>
          <p:nvPr/>
        </p:nvPicPr>
        <p:blipFill>
          <a:blip r:embed="rId1"/>
          <a:stretch/>
        </p:blipFill>
        <p:spPr>
          <a:xfrm>
            <a:off x="108000" y="4460760"/>
            <a:ext cx="3647880" cy="1847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à coins arrondis 5"/>
          <p:cNvSpPr/>
          <p:nvPr/>
        </p:nvSpPr>
        <p:spPr>
          <a:xfrm>
            <a:off x="3059280" y="4149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 7" descr="C:\Users\Christine\AppData\Local\Temp\geogebra.png"/>
          <p:cNvPicPr/>
          <p:nvPr/>
        </p:nvPicPr>
        <p:blipFill>
          <a:blip r:embed="rId2"/>
          <a:stretch/>
        </p:blipFill>
        <p:spPr>
          <a:xfrm>
            <a:off x="5153040" y="3075120"/>
            <a:ext cx="40273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247480"/>
            <a:ext cx="8642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est le milieu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, B et M trois points distinct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M = M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M appartient à la médiatrice de [AB]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27664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est un losang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(AC) et (BD) sont perpendicul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635040"/>
            <a:ext cx="9144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227664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ABCD un quadrilatère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ABCD a quatre côtés de même longueu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ABCD est un carré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1:50:44Z</dcterms:modified>
  <cp:revision>65</cp:revision>
  <dc:subject/>
  <dc:title>LOGIQUE</dc:title>
</cp:coreProperties>
</file>