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542-EA11-4468-953A-BC704335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0CD-1674-436F-BDD9-AC566434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0E3-4393-4046-B094-9C4A0A89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76B-509A-473F-91BD-9B01DE6C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71F-F0AC-4B95-B3CF-660BDD1B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4DE-ACE0-49A3-907C-4965914C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98C-4A2E-47B2-BEEC-7A7F6DAC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2E2-7AA3-4C91-ACA1-CA7B35A6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DB3-76B5-4BAF-97A3-B009259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48F-59A6-4EAE-BB4B-AB83192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B64-C8B5-4939-8330-6635DB4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2ED-28B4-4DA3-AF93-0C53749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1E0-92FF-469B-9BCE-8B543C36F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977760"/>
            <a:ext cx="91440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LOGIQU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604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0" y="4102200"/>
            <a:ext cx="9144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NÉ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50920" y="152244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n’obtient jama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une fois pile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n’obtient jamais fac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et à la natation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qu’à un seul sport ou à aucun sport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n’est inscrit qu’à un seul sport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155736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ou à la na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est inscrit au tennis et à la natation ou n’est inscrit à aucun sport 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est inscrit au tennis et à la natation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llipse 3"/>
          <p:cNvSpPr/>
          <p:nvPr/>
        </p:nvSpPr>
        <p:spPr>
          <a:xfrm>
            <a:off x="179280" y="3645000"/>
            <a:ext cx="547236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557360"/>
            <a:ext cx="86421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un dé cubique non truqué et on lit le nombre sur la face supérieur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pl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moins de 4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5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llipse 3"/>
          <p:cNvSpPr/>
          <p:nvPr/>
        </p:nvSpPr>
        <p:spPr>
          <a:xfrm>
            <a:off x="250920" y="4508640"/>
            <a:ext cx="5976720" cy="6490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s les jetons tirés sont rouge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Tous les jetons sont bleus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llipse 3"/>
          <p:cNvSpPr/>
          <p:nvPr/>
        </p:nvSpPr>
        <p:spPr>
          <a:xfrm>
            <a:off x="179280" y="4005360"/>
            <a:ext cx="568800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moins un jeton est rouge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bleu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 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llipse 3"/>
          <p:cNvSpPr/>
          <p:nvPr/>
        </p:nvSpPr>
        <p:spPr>
          <a:xfrm>
            <a:off x="179280" y="4508640"/>
            <a:ext cx="7345440" cy="6490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moins 9 jetons bleu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plus de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8 jetons bleus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llipse 3"/>
          <p:cNvSpPr/>
          <p:nvPr/>
        </p:nvSpPr>
        <p:spPr>
          <a:xfrm>
            <a:off x="34920" y="4076640"/>
            <a:ext cx="8964720" cy="792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ou un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llipse 4"/>
          <p:cNvSpPr/>
          <p:nvPr/>
        </p:nvSpPr>
        <p:spPr>
          <a:xfrm>
            <a:off x="0" y="2924280"/>
            <a:ext cx="9144000" cy="1296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de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12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5998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Choisir la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bonne réponse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llipse 3"/>
          <p:cNvSpPr/>
          <p:nvPr/>
        </p:nvSpPr>
        <p:spPr>
          <a:xfrm>
            <a:off x="0" y="4221000"/>
            <a:ext cx="8748720" cy="720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360"/>
            <a:ext cx="8642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exactement une fo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fac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face ou deux fois pile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llipse 8"/>
          <p:cNvSpPr/>
          <p:nvPr/>
        </p:nvSpPr>
        <p:spPr>
          <a:xfrm>
            <a:off x="179280" y="2997360"/>
            <a:ext cx="7056720" cy="718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50920" y="155736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n’obtient jama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une fois pile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n’obtient jamais 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438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llipse 5"/>
          <p:cNvSpPr/>
          <p:nvPr/>
        </p:nvSpPr>
        <p:spPr>
          <a:xfrm>
            <a:off x="250920" y="4437000"/>
            <a:ext cx="8893080" cy="1152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et à la natation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qu’à un seul sport ou à aucun sport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n’est inscrit qu’à un seul sport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155736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un club de sport comptant 50 adhérents, 35 sont inscrits à la natation, 25 au tennis, 5 à aucun des deux. On choisit un adhérent au hasard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dhérent est inscrit au tennis ou à la na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n’est inscrit à aucun sport 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’adhérent est inscrit au tennis et à la natation ou n’est inscrit à aucun sport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l’adhérent est inscrit au tennis et à la natation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llipse 3"/>
          <p:cNvSpPr/>
          <p:nvPr/>
        </p:nvSpPr>
        <p:spPr>
          <a:xfrm>
            <a:off x="34920" y="4005360"/>
            <a:ext cx="7921800" cy="647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1557360"/>
            <a:ext cx="86421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un dé cubique non truqué et on lit le nombre sur la face supérieure. La négation de  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pl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moins de 4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5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au moins 4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15462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s les jetons tirés sont rouge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Tous les jetons sont bleus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50920" y="15462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moins un jeton est rouge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bleu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cun jeton n’est rouge  »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u moins un jeton est bleu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0920" y="155736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avec remise 20 jetons dans une urne contenant 15 jetons rouges et 27 jetons bleus. La négation de «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au moins 9 jetons bleu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plus de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9 jetons bleus 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 au plus 8 jetons bleus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ou un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55736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une carte au hasard dans un  jeu de 32 cartes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rte tirée est une dame de cœur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n’est pas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ni une dame ni un cœur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5480" algn="just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La carte tirée n’est pas une dame ou est un cœur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557360"/>
            <a:ext cx="8642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deux fois de suite une pièce non truquée. La négation de «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obtient exactement une fois pil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 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 On obtient deux fois fac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pile »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On obtient deux fois face ou deux fois pile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7-06T12:58:10Z</dcterms:modified>
  <cp:revision>87</cp:revision>
  <dc:subject/>
  <dc:title>LOGIQUE</dc:title>
</cp:coreProperties>
</file>