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0D8-90E9-4564-8C5B-37008093EA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02C3-BC5F-419A-B3F2-4CD78E6D53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FCA-679A-4713-B13A-E78F0C2315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4BF-5EA1-4B77-925A-3C045D27AA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9ADE-769C-4383-9C94-DB79A3C06D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C44-76AE-41C0-8313-FB5B799D62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F02-BDD0-4509-83D2-A94F3D1365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43BF-65D2-4457-8369-B7827143F5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F69-7235-4C81-B360-076A725EF6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47B-D3CF-4124-B7D5-C564680A84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3003-8799-4453-AF25-2651ECF48D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A77-E85A-4FC4-90CA-BC8473A2D5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AA0F-B83B-4277-B873-8518DAD028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3398-AB86-4CB9-AACC-BDBE551CAE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2DCD-98B0-43D1-BD63-EB90F768A9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8C8-ECB4-460C-93E0-8F82698C82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DD97-D8B2-42A2-AC21-6BEB08CD62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329-669B-4021-8EF9-D8F8826D0B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093D-4C15-4241-B756-A573ED1A2E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6403-1FBF-4108-A92E-FEEE87C632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48F6-4858-4D41-A878-95E4FF9B44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17C4-9084-4728-8FC2-DAA1B6AE2E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43E-CCB8-4405-AD57-FD1A12E9F6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8AD2-DA03-40AD-AB13-371D3B6A8C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3D2-7387-4E53-89E0-3FE6711F3C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539-CD7E-4C77-A771-DFFE598B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322-4505-4B82-9192-F287F02D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23B-48E0-419B-A1E9-955030E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0D-CB10-4BCA-A4E5-6D327A5F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442-9D20-4282-8AA8-8B880C25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ECE-5CF7-452C-811B-FB6D043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7EC-2849-4643-9773-039A485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C2A-3A08-4E37-BFB2-C0E87D4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4DA-527C-414A-833D-173E0D6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55D-CFBF-437E-9D1A-E121A6D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1F5-013B-4FFE-AA01-0458E5F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774-BF68-4092-A8FD-3D19441A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3293-7F0E-4201-8854-5C0273774870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C67-AAFE-4A5B-A845-71660C60595E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pprochée au millimètre par défaut de ce nomb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Calculer le ou l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antécédents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’image de 0 est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0) = –7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au millièm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,882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équation 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(x</a:t>
            </a: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 admet deux solutions : 0 et –9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t 7"/>
              <p:cNvSpPr txBox="1"/>
              <p:nvPr/>
            </p:nvSpPr>
            <p:spPr>
              <a:xfrm>
                <a:off x="1736640" y="3284640"/>
                <a:ext cx="547704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tervalle pour décrire 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 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 » est 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–3 ; 8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0 est –11/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68200" y="3324240"/>
                <a:ext cx="862488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pprochée au millimètre par défaut de ce nombre est 2,1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re 1"/>
          <p:cNvSpPr/>
          <p:nvPr/>
        </p:nvSpPr>
        <p:spPr>
          <a:xfrm>
            <a:off x="0" y="4005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Les antécédents de 0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sont : –5/3 et –8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Croix 7"/>
          <p:cNvSpPr/>
          <p:nvPr/>
        </p:nvSpPr>
        <p:spPr>
          <a:xfrm rot="2679000">
            <a:off x="5195520" y="1244160"/>
            <a:ext cx="162864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Bouée 8"/>
          <p:cNvSpPr/>
          <p:nvPr/>
        </p:nvSpPr>
        <p:spPr>
          <a:xfrm>
            <a:off x="1403280" y="1341360"/>
            <a:ext cx="2448000" cy="1366920"/>
          </a:xfrm>
          <a:custGeom>
            <a:avLst/>
            <a:gdLst/>
            <a:ahLst/>
            <a:rect l="l" t="t" r="r" b="b"/>
            <a:pathLst>
              <a:path w="2448272" h="1368152">
                <a:moveTo>
                  <a:pt x="0" y="684076"/>
                </a:moveTo>
                <a:cubicBezTo>
                  <a:pt x="0" y="306271"/>
                  <a:pt x="548064" y="0"/>
                  <a:pt x="1224136" y="0"/>
                </a:cubicBezTo>
                <a:cubicBezTo>
                  <a:pt x="1900208" y="0"/>
                  <a:pt x="2448272" y="306271"/>
                  <a:pt x="2448272" y="684076"/>
                </a:cubicBezTo>
                <a:cubicBezTo>
                  <a:pt x="2448272" y="1061881"/>
                  <a:pt x="1900208" y="1368152"/>
                  <a:pt x="1224136" y="1368152"/>
                </a:cubicBezTo>
                <a:cubicBezTo>
                  <a:pt x="548064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08589" y="1258563"/>
                  <a:pt x="1224136" y="1258563"/>
                </a:cubicBezTo>
                <a:cubicBezTo>
                  <a:pt x="1839683" y="1258563"/>
                  <a:pt x="2338683" y="1001356"/>
                  <a:pt x="2338683" y="684076"/>
                </a:cubicBezTo>
                <a:cubicBezTo>
                  <a:pt x="2338683" y="366796"/>
                  <a:pt x="1839683" y="109589"/>
                  <a:pt x="1224136" y="109589"/>
                </a:cubicBezTo>
                <a:cubicBezTo>
                  <a:pt x="608589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 millième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soudre dans ℝ l’équation 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a fraction suivant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t 7"/>
              <p:cNvSpPr txBox="1"/>
              <p:nvPr/>
            </p:nvSpPr>
            <p:spPr>
              <a:xfrm>
                <a:off x="2340000" y="3284640"/>
                <a:ext cx="426888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un interval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nombre suivant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809640" y="3324240"/>
                <a:ext cx="73296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58:44Z</dcterms:modified>
  <cp:revision>260</cp:revision>
  <dc:subject/>
  <dc:title>Diapositive 0</dc:title>
</cp:coreProperties>
</file>