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3DD26-4F40-4462-99F5-56501661E25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07B78-A3A8-4B53-9C72-A4C0421C3E8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903AF-1A16-4A4E-A84B-E40548721D6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8C526-4062-41BB-88EF-9C29DD46BDE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51183-D094-466A-8544-1556DC8C622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BFE98-9016-449C-93D9-0FFF989BBD6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6376C-AEB8-402F-BB2D-3EE5C618EAF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3ECFE-7621-40BA-9B97-AE7A3EA8629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79177-C2F1-4CDD-95BA-FBCF11C1E0D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06BF5-1448-45F1-923D-1E445454FA4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3479A-4422-4F1A-9BF5-BE91D9AC356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58A82-45DC-429F-91FF-715961AE453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C34FA-758F-4EA2-AEA6-AED723164D4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3A857-F435-4A48-94A6-BE8B7BF79DB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CBE1C-3D87-40B2-924D-113FDBB906B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E4803-2D58-4F62-BCF0-CC6803A01EC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D05D8-5A8A-4768-8AE7-9CD98F80500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D761F-0A66-4EAF-BC96-2A44199F994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64B88-34BC-4ECD-BCEF-ED2034C541C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1FFBF-D563-4630-87F4-7F7B2E41DE7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A9002-5260-4572-A6BC-E3E99B45956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4FCBE-09D5-472B-AAD2-DCC64AA6D7B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08E2F-8F1B-4016-BE96-B1FD33D937C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52D91-141F-4E23-9E43-7D91CED13D3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1BC48-96C0-4090-8BCC-6BB81D498CE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AF5BB-FBA1-48FA-BD22-E16BC867803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5207-CB3E-41CE-9F21-87FBBA0FB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B32C-ACE7-48AD-9F10-998BDD461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7CCD-AFB6-4B48-9DC7-55D0AB428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AF91-821D-442F-8251-C7B04EDC6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1F04-13A4-452F-A2E2-548E44A34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A1F4-CC5D-4F75-AA41-790DAACB0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35B3-4DBF-46D0-83F2-451B615C7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AAF7-DE07-4357-9CE9-6EC0B8403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5036-6914-4E05-854C-D1B62C047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8EE6-B603-4A99-9520-A59FB4F62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161F-BF95-4763-834B-5ED52E0D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1951-DCED-499A-A2D7-6AD6C742B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c2c2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052A5-7DFC-48FC-9168-F48C0EEC50EC}" type="datetime">
              <a:rPr b="0" lang="fr-FR" sz="1200" spc="-1" strike="noStrike">
                <a:solidFill>
                  <a:srgbClr val="898989"/>
                </a:solidFill>
                <a:latin typeface="Cambria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41BCA-3DDE-4027-AFD6-43298D1AB4F8}" type="slidenum">
              <a:rPr b="0" lang="fr-FR" sz="12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re 1"/>
          <p:cNvSpPr/>
          <p:nvPr/>
        </p:nvSpPr>
        <p:spPr>
          <a:xfrm>
            <a:off x="0" y="403236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à coins arrondis 4"/>
          <p:cNvSpPr/>
          <p:nvPr/>
        </p:nvSpPr>
        <p:spPr>
          <a:xfrm>
            <a:off x="612720" y="1628640"/>
            <a:ext cx="7918560" cy="2160720"/>
          </a:xfrm>
          <a:prstGeom prst="roundRect">
            <a:avLst>
              <a:gd name="adj" fmla="val 16667"/>
            </a:avLst>
          </a:prstGeom>
          <a:solidFill>
            <a:srgbClr val="696969">
              <a:alpha val="6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800" spc="-1" strike="noStrike">
                <a:solidFill>
                  <a:srgbClr val="0042c8"/>
                </a:solidFill>
                <a:latin typeface="Georgia"/>
              </a:rPr>
              <a:t>MÉLI-MÉLO</a:t>
            </a:r>
            <a:br>
              <a:rPr sz="6600"/>
            </a:br>
            <a:r>
              <a:rPr b="1" lang="fr-FR" sz="6600" spc="-1" strike="noStrike">
                <a:solidFill>
                  <a:srgbClr val="0042c8"/>
                </a:solidFill>
                <a:latin typeface="Georgia"/>
              </a:rPr>
              <a:t>SÉRIE 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itre 1"/>
          <p:cNvSpPr/>
          <p:nvPr/>
        </p:nvSpPr>
        <p:spPr>
          <a:xfrm>
            <a:off x="0" y="155736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Écrire à l’aide d’un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seul quotient (</a:t>
            </a:r>
            <a:r>
              <a:rPr b="0" i="1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x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est un réel différent de 1 et de –1) :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4"/>
              <p:cNvSpPr txBox="1"/>
              <p:nvPr/>
            </p:nvSpPr>
            <p:spPr>
              <a:xfrm>
                <a:off x="2176560" y="3686040"/>
                <a:ext cx="4591080" cy="233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itre 1"/>
          <p:cNvSpPr/>
          <p:nvPr/>
        </p:nvSpPr>
        <p:spPr>
          <a:xfrm>
            <a:off x="0" y="407664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RAI ou FAUX :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l existe un réel </a:t>
            </a:r>
            <a:r>
              <a:rPr b="0" i="1" lang="fr-FR" sz="5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fr-FR" sz="5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tel que  </a:t>
            </a:r>
            <a:r>
              <a:rPr b="0" i="1" lang="fr-FR" sz="5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</a:t>
            </a:r>
            <a:r>
              <a:rPr b="0" lang="fr-FR" sz="5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i="1" lang="fr-FR" sz="5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fr-FR" sz="5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&gt; 0. 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itre 1"/>
          <p:cNvSpPr/>
          <p:nvPr/>
        </p:nvSpPr>
        <p:spPr>
          <a:xfrm>
            <a:off x="0" y="907920"/>
            <a:ext cx="9144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it </a:t>
            </a: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fonction définie sur </a:t>
            </a:r>
            <a:r>
              <a:rPr b="0" lang="fr-FR" sz="6200" spc="-1" strike="noStrike">
                <a:solidFill>
                  <a:srgbClr val="000000"/>
                </a:solidFill>
                <a:latin typeface="Calibri"/>
              </a:rPr>
              <a:t>ℝ</a:t>
            </a: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 </a:t>
            </a: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(</a:t>
            </a: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+</a:t>
            </a: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²</a:t>
            </a: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9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itre 1"/>
          <p:cNvSpPr/>
          <p:nvPr/>
        </p:nvSpPr>
        <p:spPr>
          <a:xfrm>
            <a:off x="0" y="1944720"/>
            <a:ext cx="9144000" cy="24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4800"/>
                </a:solidFill>
                <a:latin typeface="Times New Roman"/>
                <a:ea typeface="Times New Roman"/>
              </a:rPr>
              <a:t>Quel est l’ensemble des nombres </a:t>
            </a:r>
            <a:r>
              <a:rPr b="0" i="1" lang="fr-FR" sz="6600" spc="-1" strike="noStrike">
                <a:solidFill>
                  <a:srgbClr val="004800"/>
                </a:solidFill>
                <a:latin typeface="Times New Roman"/>
                <a:ea typeface="Times New Roman"/>
              </a:rPr>
              <a:t>x</a:t>
            </a:r>
            <a:r>
              <a:rPr b="0" lang="fr-FR" sz="6600" spc="-1" strike="noStrike">
                <a:solidFill>
                  <a:srgbClr val="004800"/>
                </a:solidFill>
                <a:latin typeface="Times New Roman"/>
                <a:ea typeface="Times New Roman"/>
              </a:rPr>
              <a:t> tels que 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48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itre 1"/>
          <p:cNvSpPr/>
          <p:nvPr/>
        </p:nvSpPr>
        <p:spPr>
          <a:xfrm>
            <a:off x="36360" y="4365720"/>
            <a:ext cx="9144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≥ 10  et  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2 ?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0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itre 1"/>
          <p:cNvSpPr/>
          <p:nvPr/>
        </p:nvSpPr>
        <p:spPr>
          <a:xfrm>
            <a:off x="0" y="2879640"/>
            <a:ext cx="9144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– </a:t>
            </a:r>
            <a:r>
              <a:rPr b="0" lang="fr-FR" sz="6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 n’est pas solution de l’inéquation car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– 4 + 2)×(–(– 4) – 5) = 2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itre 1"/>
          <p:cNvSpPr/>
          <p:nvPr/>
        </p:nvSpPr>
        <p:spPr>
          <a:xfrm>
            <a:off x="0" y="98100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2) (– 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5) ≤ 0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itre 1"/>
          <p:cNvSpPr/>
          <p:nvPr/>
        </p:nvSpPr>
        <p:spPr>
          <a:xfrm>
            <a:off x="0" y="1655640"/>
            <a:ext cx="91440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ns ℝ, l’équatio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 + 5 = 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itre 1"/>
          <p:cNvSpPr/>
          <p:nvPr/>
        </p:nvSpPr>
        <p:spPr>
          <a:xfrm>
            <a:off x="0" y="386064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admet deux solutions :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           </a:t>
            </a:r>
            <a:r>
              <a:rPr b="0" lang="fr-FR" sz="66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et         .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0" y="6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0" y="6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1"/>
          <a:stretch/>
        </p:blipFill>
        <p:spPr>
          <a:xfrm>
            <a:off x="3132000" y="4437000"/>
            <a:ext cx="1019160" cy="112392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3" descr=""/>
          <p:cNvPicPr/>
          <p:nvPr/>
        </p:nvPicPr>
        <p:blipFill>
          <a:blip r:embed="rId2"/>
          <a:stretch/>
        </p:blipFill>
        <p:spPr>
          <a:xfrm>
            <a:off x="5148360" y="4437000"/>
            <a:ext cx="1638360" cy="1123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itre 1"/>
          <p:cNvSpPr/>
          <p:nvPr/>
        </p:nvSpPr>
        <p:spPr>
          <a:xfrm>
            <a:off x="0" y="3024360"/>
            <a:ext cx="9144000" cy="24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se développe en 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– </a:t>
            </a:r>
            <a:r>
              <a:rPr b="0" i="1" lang="fr-FR" sz="66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x</a:t>
            </a:r>
            <a:r>
              <a:rPr b="0" lang="fr-FR" sz="66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² – 10</a:t>
            </a:r>
            <a:r>
              <a:rPr b="0" i="1" lang="fr-FR" sz="66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x</a:t>
            </a:r>
            <a:r>
              <a:rPr b="0" lang="fr-FR" sz="66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– 2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itre 1"/>
          <p:cNvSpPr/>
          <p:nvPr/>
        </p:nvSpPr>
        <p:spPr>
          <a:xfrm>
            <a:off x="0" y="1413000"/>
            <a:ext cx="9144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expression – (</a:t>
            </a:r>
            <a:r>
              <a:rPr b="0" i="1" lang="fr-FR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+ </a:t>
            </a:r>
            <a:r>
              <a:rPr b="0" lang="fr-FR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²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itre 1"/>
          <p:cNvSpPr/>
          <p:nvPr/>
        </p:nvSpPr>
        <p:spPr>
          <a:xfrm>
            <a:off x="-36360" y="981000"/>
            <a:ext cx="91803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it </a:t>
            </a:r>
            <a:r>
              <a:rPr b="0" i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fonction définie par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itre 1"/>
          <p:cNvSpPr/>
          <p:nvPr/>
        </p:nvSpPr>
        <p:spPr>
          <a:xfrm>
            <a:off x="0" y="443700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L’ensemble de définition est ]–∞ ; –8[</a:t>
            </a:r>
            <a:r>
              <a:rPr b="0" lang="fr-FR" sz="6000" spc="-1" strike="noStrike">
                <a:solidFill>
                  <a:srgbClr val="008080"/>
                </a:solidFill>
                <a:latin typeface="Symbol"/>
                <a:ea typeface="Symbol"/>
              </a:rPr>
              <a:t></a:t>
            </a:r>
            <a:r>
              <a:rPr b="0" lang="fr-FR" sz="60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] –8 ; + ∞[.</a:t>
            </a:r>
            <a:r>
              <a:rPr b="0" lang="fr-FR" sz="66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4"/>
              <p:cNvSpPr txBox="1"/>
              <p:nvPr/>
            </p:nvSpPr>
            <p:spPr>
              <a:xfrm>
                <a:off x="2195640" y="1916280"/>
                <a:ext cx="4464000" cy="22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itre 1"/>
          <p:cNvSpPr/>
          <p:nvPr/>
        </p:nvSpPr>
        <p:spPr>
          <a:xfrm>
            <a:off x="-36360" y="981000"/>
            <a:ext cx="91803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it </a:t>
            </a:r>
            <a:r>
              <a:rPr b="0" i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fonction définie par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itre 1"/>
          <p:cNvSpPr/>
          <p:nvPr/>
        </p:nvSpPr>
        <p:spPr>
          <a:xfrm>
            <a:off x="0" y="443700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L’ensemble de définition est ]– ∞ ; – 8[</a:t>
            </a:r>
            <a:r>
              <a:rPr b="0" lang="fr-FR" sz="6000" spc="-1" strike="noStrike">
                <a:solidFill>
                  <a:srgbClr val="008080"/>
                </a:solidFill>
                <a:latin typeface="Symbol"/>
                <a:ea typeface="Symbol"/>
              </a:rPr>
              <a:t></a:t>
            </a:r>
            <a:r>
              <a:rPr b="0" lang="fr-FR" sz="60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]– 8 ; + ∞[.</a:t>
            </a:r>
            <a:r>
              <a:rPr b="0" lang="fr-FR" sz="66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Object 2"/>
              <p:cNvSpPr txBox="1"/>
              <p:nvPr/>
            </p:nvSpPr>
            <p:spPr>
              <a:xfrm>
                <a:off x="2195640" y="1916280"/>
                <a:ext cx="4464000" cy="22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itre 1"/>
          <p:cNvSpPr/>
          <p:nvPr/>
        </p:nvSpPr>
        <p:spPr>
          <a:xfrm>
            <a:off x="0" y="134136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La simplification donne :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4"/>
              <p:cNvSpPr txBox="1"/>
              <p:nvPr/>
            </p:nvSpPr>
            <p:spPr>
              <a:xfrm>
                <a:off x="687240" y="3406680"/>
                <a:ext cx="7570800" cy="21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42c8"/>
                </a:solidFill>
                <a:latin typeface="Georgia"/>
                <a:ea typeface="Arial"/>
              </a:rPr>
              <a:t>R</a:t>
            </a:r>
            <a:r>
              <a:rPr b="0" lang="fr-FR" sz="9600" spc="-1" strike="noStrike">
                <a:solidFill>
                  <a:srgbClr val="c008aa"/>
                </a:solidFill>
                <a:latin typeface="Georgia"/>
                <a:ea typeface="Arial"/>
              </a:rPr>
              <a:t>é</a:t>
            </a:r>
            <a:r>
              <a:rPr b="0" lang="fr-FR" sz="9600" spc="-1" strike="noStrike">
                <a:solidFill>
                  <a:srgbClr val="00b050"/>
                </a:solidFill>
                <a:latin typeface="Georgia"/>
                <a:ea typeface="Arial"/>
              </a:rPr>
              <a:t>p</a:t>
            </a:r>
            <a:r>
              <a:rPr b="0" lang="fr-FR" sz="9600" spc="-1" strike="noStrike">
                <a:solidFill>
                  <a:srgbClr val="ff0000"/>
                </a:solidFill>
                <a:latin typeface="Georgia"/>
                <a:ea typeface="Arial"/>
              </a:rPr>
              <a:t>o</a:t>
            </a:r>
            <a:r>
              <a:rPr b="0" lang="fr-FR" sz="9600" spc="-1" strike="noStrike">
                <a:solidFill>
                  <a:srgbClr val="cc9900"/>
                </a:solidFill>
                <a:latin typeface="Georgia"/>
                <a:ea typeface="Arial"/>
              </a:rPr>
              <a:t>n</a:t>
            </a:r>
            <a:r>
              <a:rPr b="0" lang="fr-FR" sz="9600" spc="-1" strike="noStrike">
                <a:solidFill>
                  <a:srgbClr val="595959"/>
                </a:solidFill>
                <a:latin typeface="Georgia"/>
                <a:ea typeface="Arial"/>
              </a:rPr>
              <a:t>d</a:t>
            </a:r>
            <a:r>
              <a:rPr b="0" lang="fr-FR" sz="9600" spc="-1" strike="noStrike">
                <a:solidFill>
                  <a:srgbClr val="660066"/>
                </a:solidFill>
                <a:latin typeface="Georgia"/>
                <a:ea typeface="Arial"/>
              </a:rPr>
              <a:t>r</a:t>
            </a:r>
            <a:r>
              <a:rPr b="0" lang="fr-FR" sz="9600" spc="-1" strike="noStrike">
                <a:solidFill>
                  <a:srgbClr val="008000"/>
                </a:solidFill>
                <a:latin typeface="Georgia"/>
                <a:ea typeface="Arial"/>
              </a:rPr>
              <a:t>e </a:t>
            </a:r>
            <a:r>
              <a:rPr b="0" lang="fr-FR" sz="9600" spc="-1" strike="noStrike">
                <a:solidFill>
                  <a:srgbClr val="ffc000"/>
                </a:solidFill>
                <a:latin typeface="Georgia"/>
                <a:ea typeface="Arial"/>
              </a:rPr>
              <a:t>a</a:t>
            </a:r>
            <a:r>
              <a:rPr b="0" lang="fr-FR" sz="9600" spc="-1" strike="noStrike">
                <a:solidFill>
                  <a:srgbClr val="b4142b"/>
                </a:solidFill>
                <a:latin typeface="Georgia"/>
                <a:ea typeface="Arial"/>
              </a:rPr>
              <a:t>u</a:t>
            </a:r>
            <a:r>
              <a:rPr b="0" lang="fr-FR" sz="9600" spc="-1" strike="noStrike">
                <a:solidFill>
                  <a:srgbClr val="00ffff"/>
                </a:solidFill>
                <a:latin typeface="Georgia"/>
                <a:ea typeface="Arial"/>
              </a:rPr>
              <a:t>x</a:t>
            </a:r>
            <a:r>
              <a:rPr b="0" lang="fr-FR" sz="9600" spc="-1" strike="noStrike">
                <a:solidFill>
                  <a:srgbClr val="0042c8"/>
                </a:solidFill>
                <a:latin typeface="Georgia"/>
                <a:ea typeface="Arial"/>
              </a:rPr>
              <a:t> </a:t>
            </a:r>
            <a:r>
              <a:rPr b="0" lang="fr-FR" sz="9600" spc="-1" strike="noStrike">
                <a:solidFill>
                  <a:srgbClr val="ff6699"/>
                </a:solidFill>
                <a:latin typeface="Georgia"/>
                <a:ea typeface="Arial"/>
              </a:rPr>
              <a:t>q</a:t>
            </a:r>
            <a:r>
              <a:rPr b="0" lang="fr-FR" sz="9600" spc="-1" strike="noStrike">
                <a:solidFill>
                  <a:srgbClr val="008080"/>
                </a:solidFill>
                <a:latin typeface="Georgia"/>
                <a:ea typeface="Arial"/>
              </a:rPr>
              <a:t>u</a:t>
            </a:r>
            <a:r>
              <a:rPr b="0" lang="fr-FR" sz="9600" spc="-1" strike="noStrike">
                <a:solidFill>
                  <a:srgbClr val="a50021"/>
                </a:solidFill>
                <a:latin typeface="Georgia"/>
                <a:ea typeface="Arial"/>
              </a:rPr>
              <a:t>e</a:t>
            </a:r>
            <a:r>
              <a:rPr b="0" lang="fr-FR" sz="9600" spc="-1" strike="noStrike">
                <a:solidFill>
                  <a:srgbClr val="808000"/>
                </a:solidFill>
                <a:latin typeface="Georgia"/>
                <a:ea typeface="Arial"/>
              </a:rPr>
              <a:t>s</a:t>
            </a:r>
            <a:r>
              <a:rPr b="0" lang="fr-FR" sz="9600" spc="-1" strike="noStrike">
                <a:solidFill>
                  <a:srgbClr val="000099"/>
                </a:solidFill>
                <a:latin typeface="Georgia"/>
                <a:ea typeface="Arial"/>
              </a:rPr>
              <a:t>t</a:t>
            </a:r>
            <a:r>
              <a:rPr b="0" lang="fr-FR" sz="9600" spc="-1" strike="noStrike">
                <a:solidFill>
                  <a:srgbClr val="595959"/>
                </a:solidFill>
                <a:latin typeface="Georgia"/>
                <a:ea typeface="Arial"/>
              </a:rPr>
              <a:t>i</a:t>
            </a:r>
            <a:r>
              <a:rPr b="0" lang="fr-FR" sz="9600" spc="-1" strike="noStrike">
                <a:solidFill>
                  <a:srgbClr val="d519ff"/>
                </a:solidFill>
                <a:latin typeface="Georgia"/>
                <a:ea typeface="Arial"/>
              </a:rPr>
              <a:t>o</a:t>
            </a:r>
            <a:r>
              <a:rPr b="0" lang="fr-FR" sz="9600" spc="-1" strike="noStrike">
                <a:solidFill>
                  <a:srgbClr val="663300"/>
                </a:solidFill>
                <a:latin typeface="Georgia"/>
                <a:ea typeface="Arial"/>
              </a:rPr>
              <a:t>n</a:t>
            </a:r>
            <a:r>
              <a:rPr b="0" lang="fr-FR" sz="9600" spc="-1" strike="noStrike">
                <a:solidFill>
                  <a:srgbClr val="e90062"/>
                </a:solidFill>
                <a:latin typeface="Georgia"/>
                <a:ea typeface="Arial"/>
              </a:rPr>
              <a:t>s</a:t>
            </a:r>
            <a:r>
              <a:rPr b="0" lang="fr-FR" sz="9600" spc="-1" strike="noStrike">
                <a:solidFill>
                  <a:srgbClr val="000000"/>
                </a:solidFill>
                <a:latin typeface="Georgia"/>
                <a:ea typeface="Arial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itre 1"/>
          <p:cNvSpPr/>
          <p:nvPr/>
        </p:nvSpPr>
        <p:spPr>
          <a:xfrm>
            <a:off x="0" y="407664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VRAI ou FAUX :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Pour tout </a:t>
            </a:r>
            <a:r>
              <a:rPr b="0" i="1" lang="fr-FR" sz="6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x</a:t>
            </a:r>
            <a:r>
              <a:rPr b="0" lang="fr-FR" sz="6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réel, </a:t>
            </a:r>
            <a:r>
              <a:rPr b="0" i="1" lang="fr-FR" sz="6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f</a:t>
            </a:r>
            <a:r>
              <a:rPr b="0" lang="fr-FR" sz="6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(</a:t>
            </a:r>
            <a:r>
              <a:rPr b="0" i="1" lang="fr-FR" sz="6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x</a:t>
            </a:r>
            <a:r>
              <a:rPr b="0" lang="fr-FR" sz="6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) ≤ 0.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itre 1"/>
          <p:cNvSpPr/>
          <p:nvPr/>
        </p:nvSpPr>
        <p:spPr>
          <a:xfrm>
            <a:off x="0" y="1152360"/>
            <a:ext cx="9144000" cy="24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it </a:t>
            </a: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fonction définie sur </a:t>
            </a:r>
            <a:r>
              <a:rPr b="0" lang="fr-FR" sz="6200" spc="-1" strike="noStrike">
                <a:solidFill>
                  <a:srgbClr val="000000"/>
                </a:solidFill>
                <a:latin typeface="Calibri"/>
              </a:rPr>
              <a:t>ℝ</a:t>
            </a: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 </a:t>
            </a: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– 4(</a:t>
            </a: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+</a:t>
            </a: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²</a:t>
            </a: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Croix 7"/>
          <p:cNvSpPr/>
          <p:nvPr/>
        </p:nvSpPr>
        <p:spPr>
          <a:xfrm rot="2679000">
            <a:off x="5127120" y="3476160"/>
            <a:ext cx="1629000" cy="1636920"/>
          </a:xfrm>
          <a:prstGeom prst="plus">
            <a:avLst>
              <a:gd name="adj" fmla="val 47181"/>
            </a:avLst>
          </a:prstGeom>
          <a:solidFill>
            <a:srgbClr val="ff0000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Bouée 8"/>
          <p:cNvSpPr/>
          <p:nvPr/>
        </p:nvSpPr>
        <p:spPr>
          <a:xfrm>
            <a:off x="1332000" y="3645000"/>
            <a:ext cx="2519280" cy="1368360"/>
          </a:xfrm>
          <a:custGeom>
            <a:avLst/>
            <a:gdLst>
              <a:gd name="textAreaLeft" fmla="*/ 368640 w 2519280"/>
              <a:gd name="textAreaRight" fmla="*/ 2150640 w 2519280"/>
              <a:gd name="textAreaTop" fmla="*/ 200160 h 1368360"/>
              <a:gd name="textAreaBottom" fmla="*/ 1168200 h 1368360"/>
            </a:gdLst>
            <a:ahLst/>
            <a:rect l="textAreaLeft" t="textAreaTop" r="textAreaRight" b="textAreaBottom"/>
            <a:pathLst>
              <a:path w="2519362" h="1368425">
                <a:moveTo>
                  <a:pt x="0" y="684213"/>
                </a:moveTo>
                <a:lnTo>
                  <a:pt x="0" y="684213"/>
                </a:lnTo>
                <a:arcTo wR="1259681" hR="684213" stAng="-10799997" swAng="5400002"/>
                <a:lnTo>
                  <a:pt x="1259682" y="1"/>
                </a:lnTo>
                <a:arcTo wR="1259681" hR="684213" stAng="-5399995" swAng="5400000"/>
                <a:lnTo>
                  <a:pt x="2519362" y="684216"/>
                </a:lnTo>
                <a:arcTo wR="1259681" hR="684213" stAng="0" swAng="5400000"/>
                <a:lnTo>
                  <a:pt x="1259681" y="1368429"/>
                </a:lnTo>
                <a:arcTo wR="1259681" hR="684213" stAng="5400000" swAng="5400003"/>
                <a:close/>
                <a:moveTo>
                  <a:pt x="109611" y="684213"/>
                </a:moveTo>
                <a:lnTo>
                  <a:pt x="109611" y="684213"/>
                </a:lnTo>
                <a:arcTo wR="1150070" hR="574602" stAng="-10799997" swAng="-5399997"/>
                <a:lnTo>
                  <a:pt x="1259680" y="1258816"/>
                </a:lnTo>
                <a:arcTo wR="1150070" hR="574602" stAng="5400000" swAng="-5399997"/>
                <a:lnTo>
                  <a:pt x="2409750" y="684215"/>
                </a:lnTo>
                <a:arcTo wR="1150070" hR="574602" stAng="0" swAng="-5400000"/>
                <a:lnTo>
                  <a:pt x="1259680" y="109613"/>
                </a:lnTo>
                <a:arcTo wR="1150070" hR="574602" stAng="-5399994" swAng="-5400003"/>
                <a:close/>
              </a:path>
            </a:pathLst>
          </a:custGeom>
          <a:solidFill>
            <a:srgbClr val="ff0000"/>
          </a:solidFill>
          <a:ln w="25560">
            <a:solidFill>
              <a:srgbClr val="bc266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itre 1"/>
          <p:cNvSpPr/>
          <p:nvPr/>
        </p:nvSpPr>
        <p:spPr>
          <a:xfrm>
            <a:off x="0" y="134136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Le calcul donne :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4"/>
              <p:cNvSpPr txBox="1"/>
              <p:nvPr/>
            </p:nvSpPr>
            <p:spPr>
              <a:xfrm>
                <a:off x="525600" y="2987640"/>
                <a:ext cx="7894440" cy="249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</m:e>
                        </m:rad>
                        <m:r>
                          <m:t xml:space="preserve">×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0</m:t>
                            </m:r>
                          </m:e>
                        </m:rad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ra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4"/>
              <p:cNvSpPr txBox="1"/>
              <p:nvPr/>
            </p:nvSpPr>
            <p:spPr>
              <a:xfrm>
                <a:off x="108000" y="3724200"/>
                <a:ext cx="9001080" cy="15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7" name="Titre 1"/>
          <p:cNvSpPr/>
          <p:nvPr/>
        </p:nvSpPr>
        <p:spPr>
          <a:xfrm>
            <a:off x="0" y="155736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L’écriture à l’aide d’un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seul quotient donne :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2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itre 1"/>
          <p:cNvSpPr/>
          <p:nvPr/>
        </p:nvSpPr>
        <p:spPr>
          <a:xfrm>
            <a:off x="0" y="342900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RAI ou FAUX :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l existe un réel </a:t>
            </a:r>
            <a:r>
              <a:rPr b="0" i="1" lang="fr-FR" sz="5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fr-FR" sz="5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tel que  </a:t>
            </a:r>
            <a:r>
              <a:rPr b="0" i="1" lang="fr-FR" sz="5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</a:t>
            </a:r>
            <a:r>
              <a:rPr b="0" lang="fr-FR" sz="5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i="1" lang="fr-FR" sz="5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fr-FR" sz="5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&gt; 0. 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itre 1"/>
          <p:cNvSpPr/>
          <p:nvPr/>
        </p:nvSpPr>
        <p:spPr>
          <a:xfrm>
            <a:off x="0" y="907920"/>
            <a:ext cx="9144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it </a:t>
            </a: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fonction définie sur </a:t>
            </a:r>
            <a:r>
              <a:rPr b="0" lang="fr-FR" sz="6200" spc="-1" strike="noStrike">
                <a:solidFill>
                  <a:srgbClr val="000000"/>
                </a:solidFill>
                <a:latin typeface="Calibri"/>
              </a:rPr>
              <a:t>ℝ</a:t>
            </a: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 </a:t>
            </a: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(</a:t>
            </a: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+</a:t>
            </a: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²</a:t>
            </a: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Croix 7"/>
          <p:cNvSpPr/>
          <p:nvPr/>
        </p:nvSpPr>
        <p:spPr>
          <a:xfrm rot="2679000">
            <a:off x="5127120" y="2900520"/>
            <a:ext cx="1629000" cy="1636560"/>
          </a:xfrm>
          <a:prstGeom prst="plus">
            <a:avLst>
              <a:gd name="adj" fmla="val 47181"/>
            </a:avLst>
          </a:prstGeom>
          <a:solidFill>
            <a:srgbClr val="ff0000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Bouée 8"/>
          <p:cNvSpPr/>
          <p:nvPr/>
        </p:nvSpPr>
        <p:spPr>
          <a:xfrm>
            <a:off x="1332000" y="3068640"/>
            <a:ext cx="2519280" cy="1368360"/>
          </a:xfrm>
          <a:custGeom>
            <a:avLst/>
            <a:gdLst>
              <a:gd name="textAreaLeft" fmla="*/ 368640 w 2519280"/>
              <a:gd name="textAreaRight" fmla="*/ 2150640 w 2519280"/>
              <a:gd name="textAreaTop" fmla="*/ 200160 h 1368360"/>
              <a:gd name="textAreaBottom" fmla="*/ 1168200 h 1368360"/>
            </a:gdLst>
            <a:ahLst/>
            <a:rect l="textAreaLeft" t="textAreaTop" r="textAreaRight" b="textAreaBottom"/>
            <a:pathLst>
              <a:path w="2519362" h="1368425">
                <a:moveTo>
                  <a:pt x="0" y="684213"/>
                </a:moveTo>
                <a:lnTo>
                  <a:pt x="0" y="684213"/>
                </a:lnTo>
                <a:arcTo wR="1259681" hR="684213" stAng="-10799997" swAng="5400002"/>
                <a:lnTo>
                  <a:pt x="1259682" y="1"/>
                </a:lnTo>
                <a:arcTo wR="1259681" hR="684213" stAng="-5399995" swAng="5400000"/>
                <a:lnTo>
                  <a:pt x="2519362" y="684216"/>
                </a:lnTo>
                <a:arcTo wR="1259681" hR="684213" stAng="0" swAng="5400000"/>
                <a:lnTo>
                  <a:pt x="1259681" y="1368429"/>
                </a:lnTo>
                <a:arcTo wR="1259681" hR="684213" stAng="5400000" swAng="5400003"/>
                <a:close/>
                <a:moveTo>
                  <a:pt x="109611" y="684213"/>
                </a:moveTo>
                <a:lnTo>
                  <a:pt x="109611" y="684213"/>
                </a:lnTo>
                <a:arcTo wR="1150070" hR="574602" stAng="-10799997" swAng="-5399997"/>
                <a:lnTo>
                  <a:pt x="1259680" y="1258816"/>
                </a:lnTo>
                <a:arcTo wR="1150070" hR="574602" stAng="5400000" swAng="-5399997"/>
                <a:lnTo>
                  <a:pt x="2409750" y="684215"/>
                </a:lnTo>
                <a:arcTo wR="1150070" hR="574602" stAng="0" swAng="-5400000"/>
                <a:lnTo>
                  <a:pt x="1259680" y="109613"/>
                </a:lnTo>
                <a:arcTo wR="1150070" hR="574602" stAng="-5399994" swAng="-5400003"/>
                <a:close/>
              </a:path>
            </a:pathLst>
          </a:custGeom>
          <a:solidFill>
            <a:srgbClr val="ff0000"/>
          </a:solidFill>
          <a:ln w="25560">
            <a:solidFill>
              <a:srgbClr val="bc266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itre 1"/>
          <p:cNvSpPr/>
          <p:nvPr/>
        </p:nvSpPr>
        <p:spPr>
          <a:xfrm>
            <a:off x="36360" y="494172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Par exemple </a:t>
            </a:r>
            <a:r>
              <a:rPr b="0" i="1" lang="fr-FR" sz="66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f</a:t>
            </a:r>
            <a:r>
              <a:rPr b="0" lang="fr-FR" sz="66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(5) &gt; 0.</a:t>
            </a:r>
            <a:r>
              <a:rPr b="0" lang="fr-FR" sz="5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itre 1"/>
          <p:cNvSpPr/>
          <p:nvPr/>
        </p:nvSpPr>
        <p:spPr>
          <a:xfrm>
            <a:off x="-36360" y="386064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4800"/>
                </a:solidFill>
                <a:latin typeface="Times New Roman"/>
                <a:ea typeface="Times New Roman"/>
              </a:rPr>
              <a:t>l’ensemble vide noté </a:t>
            </a:r>
            <a:r>
              <a:rPr b="0" lang="fr-FR" sz="6600" spc="-1" strike="noStrike">
                <a:solidFill>
                  <a:srgbClr val="004800"/>
                </a:solidFill>
                <a:latin typeface="Symbol"/>
                <a:ea typeface="Symbol"/>
              </a:rPr>
              <a:t></a:t>
            </a:r>
            <a:r>
              <a:rPr b="0" lang="fr-FR" sz="6600" spc="-1" strike="noStrike">
                <a:solidFill>
                  <a:srgbClr val="004800"/>
                </a:solidFill>
                <a:latin typeface="Times New Roman"/>
                <a:ea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re 1"/>
          <p:cNvSpPr/>
          <p:nvPr/>
        </p:nvSpPr>
        <p:spPr>
          <a:xfrm>
            <a:off x="36360" y="1844640"/>
            <a:ext cx="9144000" cy="24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ensemble des nombres </a:t>
            </a:r>
            <a:r>
              <a:rPr b="0" i="1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s que « </a:t>
            </a:r>
            <a:r>
              <a:rPr b="0" i="1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≥ 10 et </a:t>
            </a:r>
            <a:r>
              <a:rPr b="0" i="1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2 » est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itre 1"/>
          <p:cNvSpPr/>
          <p:nvPr/>
        </p:nvSpPr>
        <p:spPr>
          <a:xfrm>
            <a:off x="0" y="1700280"/>
            <a:ext cx="9144000" cy="24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– </a:t>
            </a:r>
            <a:r>
              <a:rPr b="0" lang="fr-FR" sz="6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 est-il solution de l’inéquation suivante 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itre 1"/>
          <p:cNvSpPr/>
          <p:nvPr/>
        </p:nvSpPr>
        <p:spPr>
          <a:xfrm>
            <a:off x="0" y="407664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2) (– 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5) ≤ 0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re 1"/>
          <p:cNvSpPr/>
          <p:nvPr/>
        </p:nvSpPr>
        <p:spPr>
          <a:xfrm>
            <a:off x="0" y="1152360"/>
            <a:ext cx="9144000" cy="24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Résoudre dans ℝ l’équation suivante 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itre 1"/>
          <p:cNvSpPr/>
          <p:nvPr/>
        </p:nvSpPr>
        <p:spPr>
          <a:xfrm>
            <a:off x="0" y="378936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 + 5 = 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itre 1"/>
          <p:cNvSpPr/>
          <p:nvPr/>
        </p:nvSpPr>
        <p:spPr>
          <a:xfrm>
            <a:off x="0" y="1152360"/>
            <a:ext cx="9144000" cy="24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Développer l’expression :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itre 1"/>
          <p:cNvSpPr/>
          <p:nvPr/>
        </p:nvSpPr>
        <p:spPr>
          <a:xfrm>
            <a:off x="0" y="342900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fr-F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fr-F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+ </a:t>
            </a:r>
            <a:r>
              <a:rPr b="0" lang="fr-F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²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itre 1"/>
          <p:cNvSpPr/>
          <p:nvPr/>
        </p:nvSpPr>
        <p:spPr>
          <a:xfrm>
            <a:off x="-36360" y="981000"/>
            <a:ext cx="91803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it </a:t>
            </a:r>
            <a:r>
              <a:rPr b="0" i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fonction définie par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itre 1"/>
          <p:cNvSpPr/>
          <p:nvPr/>
        </p:nvSpPr>
        <p:spPr>
          <a:xfrm>
            <a:off x="0" y="443700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Quel est l’ensemble de définition de la fonction </a:t>
            </a:r>
            <a:r>
              <a:rPr b="0" i="1" lang="fr-FR" sz="60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g</a:t>
            </a:r>
            <a:r>
              <a:rPr b="0" lang="fr-FR" sz="60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3"/>
              <p:cNvSpPr txBox="1"/>
              <p:nvPr/>
            </p:nvSpPr>
            <p:spPr>
              <a:xfrm>
                <a:off x="2195640" y="2060640"/>
                <a:ext cx="4464000" cy="22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itre 1"/>
          <p:cNvSpPr/>
          <p:nvPr/>
        </p:nvSpPr>
        <p:spPr>
          <a:xfrm>
            <a:off x="0" y="134136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Simplifier le nombre suivant où </a:t>
            </a:r>
            <a:r>
              <a:rPr b="0" i="1" lang="fr-FR" sz="66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x</a:t>
            </a:r>
            <a:r>
              <a:rPr b="0" lang="fr-FR" sz="66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 est un réel :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4"/>
              <p:cNvSpPr txBox="1"/>
              <p:nvPr/>
            </p:nvSpPr>
            <p:spPr>
              <a:xfrm>
                <a:off x="1211400" y="3325680"/>
                <a:ext cx="6522840" cy="233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itre 1"/>
          <p:cNvSpPr/>
          <p:nvPr/>
        </p:nvSpPr>
        <p:spPr>
          <a:xfrm>
            <a:off x="0" y="407664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VRAI ou FAUX :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Pour tout </a:t>
            </a:r>
            <a:r>
              <a:rPr b="0" i="1" lang="fr-FR" sz="6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x</a:t>
            </a:r>
            <a:r>
              <a:rPr b="0" lang="fr-FR" sz="6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réel, </a:t>
            </a:r>
            <a:r>
              <a:rPr b="0" i="1" lang="fr-FR" sz="6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f</a:t>
            </a:r>
            <a:r>
              <a:rPr b="0" lang="fr-FR" sz="6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(</a:t>
            </a:r>
            <a:r>
              <a:rPr b="0" i="1" lang="fr-FR" sz="6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x</a:t>
            </a:r>
            <a:r>
              <a:rPr b="0" lang="fr-FR" sz="6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) ≤ 0.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itre 1"/>
          <p:cNvSpPr/>
          <p:nvPr/>
        </p:nvSpPr>
        <p:spPr>
          <a:xfrm>
            <a:off x="0" y="1152360"/>
            <a:ext cx="9144000" cy="24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it </a:t>
            </a: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fonction définie sur </a:t>
            </a:r>
            <a:r>
              <a:rPr b="0" lang="fr-FR" sz="6200" spc="-1" strike="noStrike">
                <a:solidFill>
                  <a:srgbClr val="000000"/>
                </a:solidFill>
                <a:latin typeface="Calibri"/>
              </a:rPr>
              <a:t>ℝ</a:t>
            </a: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 </a:t>
            </a: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– 4(</a:t>
            </a: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+</a:t>
            </a: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²</a:t>
            </a: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itre 1"/>
          <p:cNvSpPr/>
          <p:nvPr/>
        </p:nvSpPr>
        <p:spPr>
          <a:xfrm>
            <a:off x="0" y="134136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Calculer :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Object 4"/>
              <p:cNvSpPr txBox="1"/>
              <p:nvPr/>
            </p:nvSpPr>
            <p:spPr>
              <a:xfrm>
                <a:off x="1411200" y="2908440"/>
                <a:ext cx="6121440" cy="26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</m:e>
                        </m:rad>
                        <m:r>
                          <m:t xml:space="preserve">×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0</m:t>
                            </m:r>
                          </m:e>
                        </m:rad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ra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10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5:38:50Z</dcterms:created>
  <dc:creator>Marielle Séguy</dc:creator>
  <dc:description/>
  <dc:language>en-US</dc:language>
  <cp:lastModifiedBy>PC-MS</cp:lastModifiedBy>
  <dcterms:modified xsi:type="dcterms:W3CDTF">2016-04-21T08:23:01Z</dcterms:modified>
  <cp:revision>274</cp:revision>
  <dc:subject/>
  <dc:title>Diapositive 0</dc:title>
</cp:coreProperties>
</file>