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F46-C771-441C-A19D-52C90BB2C4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47C-DE47-4592-8C05-4FB2266182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C50D-A57B-48B7-B7B4-29EB70E9F1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5F49-CB9A-4A3D-BB0C-FE0546D9AC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428-E99F-4D21-BE94-2B7C38F0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2E2-AEA4-47C3-AFB2-CEACEAB8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EF7-5EB4-467D-A879-8FD66E32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377-B2CC-4D54-B0C4-97C667BA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229D-E6E1-49AB-A297-F091DBF3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563E-1708-42D1-8F89-22BEFC7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0F90-233D-445F-A03D-A00B151F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922B-65C0-497B-ADED-3C8F95F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99DC-160B-492E-8343-3032C0A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577-45B0-4434-8290-BF701C2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348-02D9-4F9D-A621-E9F57758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E8F-2C6C-46A9-BDBB-9E217197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F3B0-CE18-4BF2-9DB6-BD304A4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A84C-CA4E-4527-BBD8-040864A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C1B-FB06-4997-BC97-2FC7E19D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930C-61DD-4C5C-807F-05CEA9AA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0D0-6224-4638-BFB7-325303DC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DC0-1C31-4F57-A81E-BB55110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27C-1F38-4767-B4C1-B9F31843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B28-77BF-4CF8-B44B-7D3808B4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D72-74CC-48AF-933A-2502DCC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045-E5D6-4732-B7A2-01ABB07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BDD-0AD1-4A9E-B3C8-2E0E9F6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39C-3C6F-44E8-8760-A112C72A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8F7B-60B0-446B-8ADA-F01E504A211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D41B-57D5-4685-B015-997D932F28E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994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1633680" y="1392120"/>
            <a:ext cx="5938560" cy="267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MÉLI-MÉ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DE GÉOMÉTR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SÉRIE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 représente la droite (EI) p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712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est-il isocèle en B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419560"/>
          </a:xfrm>
          <a:prstGeom prst="rect">
            <a:avLst/>
          </a:prstGeom>
          <a:ln w="0">
            <a:noFill/>
          </a:ln>
        </p:spPr>
      </p:pic>
      <p:cxnSp>
        <p:nvCxnSpPr>
          <p:cNvPr id="234" name="Connecteur droit avec flèche 3"/>
          <p:cNvCxnSpPr/>
          <p:nvPr/>
        </p:nvCxnSpPr>
        <p:spPr>
          <a:xfrm>
            <a:off x="906480" y="3627000"/>
            <a:ext cx="1504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Connecteur droit avec flèche 10"/>
          <p:cNvCxnSpPr/>
          <p:nvPr/>
        </p:nvCxnSpPr>
        <p:spPr>
          <a:xfrm flipV="1">
            <a:off x="2387160" y="2829960"/>
            <a:ext cx="1080" cy="81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Connecteur droit avec flèche 13"/>
          <p:cNvCxnSpPr/>
          <p:nvPr/>
        </p:nvCxnSpPr>
        <p:spPr>
          <a:xfrm flipV="1">
            <a:off x="906480" y="2836440"/>
            <a:ext cx="1504080" cy="77544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37" name="ZoneTexte 5" descr=""/>
          <p:cNvPicPr/>
          <p:nvPr/>
        </p:nvPicPr>
        <p:blipFill>
          <a:blip r:embed="rId3"/>
          <a:stretch/>
        </p:blipFill>
        <p:spPr>
          <a:xfrm>
            <a:off x="7705800" y="2981160"/>
            <a:ext cx="85860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ensées 7" descr=""/>
          <p:cNvPicPr/>
          <p:nvPr/>
        </p:nvPicPr>
        <p:blipFill>
          <a:blip r:embed="rId2"/>
          <a:stretch/>
        </p:blipFill>
        <p:spPr>
          <a:xfrm>
            <a:off x="4632480" y="2743200"/>
            <a:ext cx="4316400" cy="2511360"/>
          </a:xfrm>
          <a:prstGeom prst="rect">
            <a:avLst/>
          </a:prstGeom>
          <a:ln w="0">
            <a:noFill/>
          </a:ln>
        </p:spPr>
      </p:pic>
      <p:cxnSp>
        <p:nvCxnSpPr>
          <p:cNvPr id="242" name="Connecteur droit avec flèche 3"/>
          <p:cNvCxnSpPr/>
          <p:nvPr/>
        </p:nvCxnSpPr>
        <p:spPr>
          <a:xfrm>
            <a:off x="906120" y="3615840"/>
            <a:ext cx="1478520" cy="785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3" name="Connecteur droit avec flèche 12"/>
          <p:cNvCxnSpPr/>
          <p:nvPr/>
        </p:nvCxnSpPr>
        <p:spPr>
          <a:xfrm flipV="1">
            <a:off x="898560" y="2857320"/>
            <a:ext cx="1502640" cy="77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4" name="Connecteur droit avec flèche 14"/>
          <p:cNvCxnSpPr/>
          <p:nvPr/>
        </p:nvCxnSpPr>
        <p:spPr>
          <a:xfrm>
            <a:off x="906120" y="3623760"/>
            <a:ext cx="2964600" cy="108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45" name="ZoneTexte 8" descr=""/>
          <p:cNvPicPr/>
          <p:nvPr/>
        </p:nvPicPr>
        <p:blipFill>
          <a:blip r:embed="rId3"/>
          <a:stretch/>
        </p:blipFill>
        <p:spPr>
          <a:xfrm>
            <a:off x="7345440" y="3236760"/>
            <a:ext cx="86040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8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5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Image 2" descr=""/>
          <p:cNvPicPr/>
          <p:nvPr/>
        </p:nvPicPr>
        <p:blipFill>
          <a:blip r:embed="rId1"/>
          <a:srcRect l="0" t="0" r="10572" b="11741"/>
          <a:stretch/>
        </p:blipFill>
        <p:spPr>
          <a:xfrm>
            <a:off x="658800" y="3438360"/>
            <a:ext cx="3733920" cy="3237120"/>
          </a:xfrm>
          <a:prstGeom prst="rect">
            <a:avLst/>
          </a:prstGeom>
          <a:ln w="0">
            <a:noFill/>
          </a:ln>
        </p:spPr>
      </p:pic>
      <p:sp>
        <p:nvSpPr>
          <p:cNvPr id="328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0560" y="1817640"/>
            <a:ext cx="43084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Que représente le point 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pour le triangle ABC ?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C’est l’orthocentr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48c35"/>
                </a:solidFill>
                <a:latin typeface="Calibri"/>
              </a:rPr>
              <a:t>   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 et Q appartiennent au cercle de diamètre [AB] donc APB et AQB sont respectivement rectangles en P et Q. Le point D est donc l’intersection des hauteurs (BP) et (AQ) de A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11080" y="3495600"/>
            <a:ext cx="3392640" cy="3044880"/>
          </a:xfrm>
          <a:prstGeom prst="rect">
            <a:avLst/>
          </a:prstGeom>
          <a:ln w="0">
            <a:noFill/>
          </a:ln>
        </p:spPr>
      </p:pic>
      <p:sp>
        <p:nvSpPr>
          <p:cNvPr id="333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74960" y="1995480"/>
            <a:ext cx="4203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La droite (CD) est-ell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perpendiculaire à (AB)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O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D est l’orthocentre de A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La droite (CD) est la troisième hauteur du triangle ABC, elle coupe donc  [AB] perpendiculair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onnecteur droit 3"/>
          <p:cNvSpPr/>
          <p:nvPr/>
        </p:nvSpPr>
        <p:spPr>
          <a:xfrm flipH="1" flipV="1">
            <a:off x="2000160" y="3336840"/>
            <a:ext cx="7920" cy="318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023920" y="6188040"/>
            <a:ext cx="189000" cy="19692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1824"/>
              <a:gd name="adj2" fmla="val -8016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1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pic>
        <p:nvPicPr>
          <p:cNvPr id="342" name="Espace réservé du contenu 5" descr=""/>
          <p:cNvPicPr/>
          <p:nvPr/>
        </p:nvPicPr>
        <p:blipFill>
          <a:blip r:embed="rId2"/>
          <a:stretch/>
        </p:blipFill>
        <p:spPr>
          <a:xfrm>
            <a:off x="1500120" y="3736800"/>
            <a:ext cx="6772320" cy="26211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3754"/>
              <a:gd name="adj2" fmla="val -666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54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501560" y="3836520"/>
            <a:ext cx="65610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 représente la droite (EI) p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(EI) est une médiane du triangle B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3754"/>
              <a:gd name="adj2" fmla="val -666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7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712880"/>
          </a:xfrm>
          <a:prstGeom prst="rect">
            <a:avLst/>
          </a:prstGeom>
          <a:ln w="0">
            <a:noFill/>
          </a:ln>
        </p:spPr>
      </p:pic>
      <p:pic>
        <p:nvPicPr>
          <p:cNvPr id="368" name="Espace réservé du contenu 5" descr=""/>
          <p:cNvPicPr/>
          <p:nvPr/>
        </p:nvPicPr>
        <p:blipFill>
          <a:blip r:embed="rId2"/>
          <a:stretch/>
        </p:blipFill>
        <p:spPr>
          <a:xfrm>
            <a:off x="1500120" y="3736800"/>
            <a:ext cx="6564240" cy="26211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8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5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03160" y="3481560"/>
            <a:ext cx="3392640" cy="3044520"/>
          </a:xfrm>
          <a:prstGeom prst="rect">
            <a:avLst/>
          </a:prstGeom>
          <a:ln w="0">
            <a:noFill/>
          </a:ln>
        </p:spPr>
      </p:pic>
      <p:sp>
        <p:nvSpPr>
          <p:cNvPr id="181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7760" y="1439640"/>
            <a:ext cx="847404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975200" y="1775880"/>
            <a:ext cx="39038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représente le point 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our le triangle ABC 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03160" y="3481560"/>
            <a:ext cx="3392640" cy="3044520"/>
          </a:xfrm>
          <a:prstGeom prst="rect">
            <a:avLst/>
          </a:prstGeom>
          <a:ln w="0">
            <a:noFill/>
          </a:ln>
        </p:spPr>
      </p:pic>
      <p:sp>
        <p:nvSpPr>
          <p:cNvPr id="186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75200" y="1995480"/>
            <a:ext cx="39038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droite (CD) est-el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erpendiculaire à (AB)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lles sont les coordonnées du point I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0:44:10Z</dcterms:created>
  <dc:creator>Isabelle</dc:creator>
  <dc:description/>
  <dc:language>en-US</dc:language>
  <cp:lastModifiedBy>auderi</cp:lastModifiedBy>
  <dcterms:modified xsi:type="dcterms:W3CDTF">2016-07-11T19:07:53Z</dcterms:modified>
  <cp:revision>52</cp:revision>
  <dc:subject/>
  <dc:title>Présentation PowerPoint</dc:title>
</cp:coreProperties>
</file>