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D49-DC3A-428D-9B02-C8C50838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F94-03A4-445E-B49A-9BF9DC77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2207-9A09-42E0-911B-71C19CD4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252E-ABBC-45EF-9074-F8F9781A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99B5-FF09-4867-BB3E-4BE6262C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EF48-28D5-4227-8253-B48BA748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9649-5C36-4292-BEA1-5C90FF88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DB89-3D72-41F6-A2CC-0B0D4586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AFF9-A95D-46EC-BECE-36BE4731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F554-7F6D-40CB-9BBB-8D8A3A83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0E7D-2694-45AF-BAE0-3EE5DB99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5CA-686C-4825-B400-3EA733BD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DC67-027A-4DD2-A1D1-5F731426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EE49-6114-4046-A6F9-7602E30E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A530-D84F-4778-8433-9E02F78B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A03F-EC6A-4967-B8DC-4EA94E21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553D-C476-4575-BCA1-EFB0BCC7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97546-A2A6-4F3F-9CC4-3ED03CAE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C62C3-CDE7-46AB-8121-773CE0F1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C3B96-28C1-45B1-B592-6DEC9AE6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60017-BD02-4EE9-9292-89A6BEC5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DF523-A71A-4C75-9D0C-978B128D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D2C7-79B1-4364-933F-F8C131E3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8B991-BC6D-419B-A447-84EB5A80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24DF4-615B-45D4-BF74-9BC4E579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8DA28-A8EF-45EC-AE1F-DF45E99C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8CC57-F4DC-4C34-8BB5-ED2D88A6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0BE83-2671-4FD7-B68C-84C7A8DA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6071A-BECE-4B80-B548-CCBDE046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546A3-14FC-4B21-A38A-0567A07F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21FDF-E4EF-450C-8EFF-D5ED2CA0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5E600-6D45-4390-9381-08AD8604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1D55C-A984-4F54-8CE3-71CCC237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340-D3E2-434A-9572-58E2298F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87D11-D3C1-4864-8A85-2DB73ACD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27966-1E26-49E9-BFA8-CC84E626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18F99-3AEE-4DF6-A9B1-7F822638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93846-AEEE-4849-8267-F49A95A5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0AC82-8592-4A04-B4FD-DF0C484B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175D9-7293-4D19-929C-857EF1FC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80805-BF7E-4C3A-9081-BA79E2D3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7D6B6-B845-4B23-B5A7-BC80406F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1408D-6A7A-4B7F-BF13-5844D9D0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1C2-4995-4A47-A3ED-8591D0C1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64E-1F08-4390-8C1E-4D5C8866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A3AF-B9D5-489F-8400-AE48E9EB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735E-0793-40E8-90E0-CFF0605A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939-76D0-42A4-A598-F18D6373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EB7D-8454-40F9-9D63-F066617E8FAA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1698-A067-4FE5-9351-D0DD7117459B}" type="slidenum"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4177-F625-487A-94D0-6F8DDA27B26D}" type="slidenum">
              <a:rPr b="0" lang="fr-F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6517-4EC7-4453-B272-5378A6416BD1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0" y="162828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89ca3"/>
                </a:solidFill>
                <a:latin typeface="Constantia"/>
              </a:rPr>
              <a:t>Coordonnées de points du plan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089ca3"/>
                </a:solidFill>
                <a:latin typeface="Constantia"/>
              </a:rPr>
              <a:t>Série 3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Titre 1"/>
          <p:cNvSpPr/>
          <p:nvPr/>
        </p:nvSpPr>
        <p:spPr>
          <a:xfrm>
            <a:off x="0" y="481968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6686d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age 1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411280" y="907920"/>
            <a:ext cx="4676760" cy="48196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13" name="Rectangle 2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8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0" y="5877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83763"/>
                </a:solidFill>
                <a:latin typeface="Constantia"/>
              </a:rPr>
              <a:t>[AB] est un diamètre du cercl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0" y="2349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e6d"/>
                </a:solidFill>
                <a:latin typeface="Calibri"/>
              </a:rPr>
              <a:t>A( 1 ; 3)          B( 4 ; 7 )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234900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e6d"/>
                </a:solidFill>
                <a:latin typeface="Calibri"/>
              </a:rPr>
              <a:t>A( 1 ; −3)       B( 4 ; </a:t>
            </a:r>
            <a:r>
              <a:rPr b="0" lang="fr-FR" sz="6600" spc="-1" strike="noStrike">
                <a:solidFill>
                  <a:srgbClr val="004e6d"/>
                </a:solidFill>
                <a:latin typeface="Constantia"/>
              </a:rPr>
              <a:t>−</a:t>
            </a:r>
            <a:r>
              <a:rPr b="0" lang="fr-FR" sz="6600" spc="-1" strike="noStrike">
                <a:solidFill>
                  <a:srgbClr val="004e6d"/>
                </a:solidFill>
                <a:latin typeface="Calibri"/>
              </a:rPr>
              <a:t>1 )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01400" y="907920"/>
            <a:ext cx="7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1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2637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600" spc="-1" strike="noStrike">
                <a:solidFill>
                  <a:srgbClr val="083763"/>
                </a:solidFill>
                <a:latin typeface="Constantia"/>
              </a:rPr>
              <a:t>Correction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llipse 2"/>
          <p:cNvSpPr/>
          <p:nvPr/>
        </p:nvSpPr>
        <p:spPr>
          <a:xfrm>
            <a:off x="108000" y="2351160"/>
            <a:ext cx="194292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Image 11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484360" y="911160"/>
            <a:ext cx="5419800" cy="54673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2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ZoneTexte 12" descr=""/>
          <p:cNvPicPr/>
          <p:nvPr/>
        </p:nvPicPr>
        <p:blipFill>
          <a:blip r:embed="rId2"/>
          <a:stretch/>
        </p:blipFill>
        <p:spPr>
          <a:xfrm>
            <a:off x="371520" y="2548080"/>
            <a:ext cx="14144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llipse 2"/>
          <p:cNvSpPr/>
          <p:nvPr/>
        </p:nvSpPr>
        <p:spPr>
          <a:xfrm>
            <a:off x="179280" y="2346480"/>
            <a:ext cx="194472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Image 7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556000" y="933480"/>
            <a:ext cx="5362560" cy="54291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ZoneTexte 13" descr=""/>
          <p:cNvPicPr/>
          <p:nvPr/>
        </p:nvPicPr>
        <p:blipFill>
          <a:blip r:embed="rId2"/>
          <a:stretch/>
        </p:blipFill>
        <p:spPr>
          <a:xfrm>
            <a:off x="444600" y="2541600"/>
            <a:ext cx="141444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Ellipse 2"/>
          <p:cNvSpPr/>
          <p:nvPr/>
        </p:nvSpPr>
        <p:spPr>
          <a:xfrm>
            <a:off x="19080" y="1947960"/>
            <a:ext cx="406872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Image 12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3635280" y="1020600"/>
            <a:ext cx="5010120" cy="53913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ZoneTexte 15" descr=""/>
          <p:cNvPicPr/>
          <p:nvPr/>
        </p:nvPicPr>
        <p:blipFill>
          <a:blip r:embed="rId2"/>
          <a:stretch/>
        </p:blipFill>
        <p:spPr>
          <a:xfrm>
            <a:off x="262080" y="2114640"/>
            <a:ext cx="337176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Ellipse 2"/>
          <p:cNvSpPr/>
          <p:nvPr/>
        </p:nvSpPr>
        <p:spPr>
          <a:xfrm>
            <a:off x="0" y="1859040"/>
            <a:ext cx="353520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Image 14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3606840" y="930240"/>
            <a:ext cx="4857840" cy="547704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ZoneTexte 17" descr=""/>
          <p:cNvPicPr/>
          <p:nvPr/>
        </p:nvPicPr>
        <p:blipFill>
          <a:blip r:embed="rId2"/>
          <a:stretch/>
        </p:blipFill>
        <p:spPr>
          <a:xfrm>
            <a:off x="841320" y="2030400"/>
            <a:ext cx="184644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Ellipse 2"/>
          <p:cNvSpPr/>
          <p:nvPr/>
        </p:nvSpPr>
        <p:spPr>
          <a:xfrm>
            <a:off x="44280" y="2421000"/>
            <a:ext cx="406728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Image 19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3708360" y="1341360"/>
            <a:ext cx="5176800" cy="49021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287" name="ZoneTexte 20" descr=""/>
          <p:cNvPicPr/>
          <p:nvPr/>
        </p:nvPicPr>
        <p:blipFill>
          <a:blip r:embed="rId2"/>
          <a:stretch/>
        </p:blipFill>
        <p:spPr>
          <a:xfrm>
            <a:off x="328680" y="2590920"/>
            <a:ext cx="337824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Ellipse 2"/>
          <p:cNvSpPr/>
          <p:nvPr/>
        </p:nvSpPr>
        <p:spPr>
          <a:xfrm>
            <a:off x="34920" y="2265480"/>
            <a:ext cx="406872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6" name="Image 21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3924360" y="1128600"/>
            <a:ext cx="5029200" cy="49644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307" name="ZoneTexte 22" descr=""/>
          <p:cNvPicPr/>
          <p:nvPr/>
        </p:nvPicPr>
        <p:blipFill>
          <a:blip r:embed="rId2"/>
          <a:stretch/>
        </p:blipFill>
        <p:spPr>
          <a:xfrm>
            <a:off x="152280" y="2432160"/>
            <a:ext cx="377352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0" y="2468520"/>
            <a:ext cx="91440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6686d"/>
                </a:solidFill>
                <a:latin typeface="Constantia"/>
              </a:rPr>
              <a:t>Déterminer la distance AB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Ellipse 2"/>
          <p:cNvSpPr/>
          <p:nvPr/>
        </p:nvSpPr>
        <p:spPr>
          <a:xfrm>
            <a:off x="0" y="2540160"/>
            <a:ext cx="406728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5" name="Image 20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3780000" y="1170000"/>
            <a:ext cx="5038560" cy="49435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3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Rectangle 22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9" name="ZoneTexte 23" descr=""/>
          <p:cNvPicPr/>
          <p:nvPr/>
        </p:nvPicPr>
        <p:blipFill>
          <a:blip r:embed="rId2"/>
          <a:stretch/>
        </p:blipFill>
        <p:spPr>
          <a:xfrm>
            <a:off x="244440" y="2706840"/>
            <a:ext cx="357840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Ellipse 2"/>
          <p:cNvSpPr/>
          <p:nvPr/>
        </p:nvSpPr>
        <p:spPr>
          <a:xfrm>
            <a:off x="1800360" y="771480"/>
            <a:ext cx="5543280" cy="10587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9" name="Image 21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233440" y="1822320"/>
            <a:ext cx="4677120" cy="48196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3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Rectangle 25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8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3" name="ZoneTexte 3" descr=""/>
          <p:cNvPicPr/>
          <p:nvPr/>
        </p:nvPicPr>
        <p:blipFill>
          <a:blip r:embed="rId2"/>
          <a:stretch/>
        </p:blipFill>
        <p:spPr>
          <a:xfrm>
            <a:off x="2060640" y="1011240"/>
            <a:ext cx="5022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0" y="1934640"/>
            <a:ext cx="91440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e6d"/>
                </a:solidFill>
                <a:latin typeface="Calibri"/>
              </a:rPr>
              <a:t>A( 1 ; 3)        B( 4 ; 7 )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Ellipse 5"/>
          <p:cNvSpPr/>
          <p:nvPr/>
        </p:nvSpPr>
        <p:spPr>
          <a:xfrm>
            <a:off x="2340000" y="3789360"/>
            <a:ext cx="406728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9" name="ZoneTexte 7" descr=""/>
          <p:cNvPicPr/>
          <p:nvPr/>
        </p:nvPicPr>
        <p:blipFill>
          <a:blip r:embed="rId1"/>
          <a:stretch/>
        </p:blipFill>
        <p:spPr>
          <a:xfrm>
            <a:off x="2743200" y="3956040"/>
            <a:ext cx="31399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0" y="1935000"/>
            <a:ext cx="9144000" cy="28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e6d"/>
                </a:solidFill>
                <a:latin typeface="Calibri"/>
              </a:rPr>
              <a:t>A( 1 ; −3)      B( 4 ; −1 )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Ellipse 5"/>
          <p:cNvSpPr/>
          <p:nvPr/>
        </p:nvSpPr>
        <p:spPr>
          <a:xfrm>
            <a:off x="2411280" y="3846600"/>
            <a:ext cx="4068720" cy="914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401400" y="907920"/>
            <a:ext cx="7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1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0" y="96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9" name="ZoneTexte 11" descr=""/>
          <p:cNvPicPr/>
          <p:nvPr/>
        </p:nvPicPr>
        <p:blipFill>
          <a:blip r:embed="rId1"/>
          <a:stretch/>
        </p:blipFill>
        <p:spPr>
          <a:xfrm>
            <a:off x="2755800" y="4017960"/>
            <a:ext cx="33768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0" y="278136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600" spc="-1" strike="noStrike">
                <a:solidFill>
                  <a:srgbClr val="083763"/>
                </a:solidFill>
                <a:latin typeface="Constantia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Image 5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1862280" y="907920"/>
            <a:ext cx="5419440" cy="54673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199" name="Rectangle 4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Image 4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1890720" y="922320"/>
            <a:ext cx="5362560" cy="54291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01" name="Rectangle 3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Image 3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066760" y="907920"/>
            <a:ext cx="5010480" cy="53913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03" name="Rectangle 2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Image 2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235240" y="907920"/>
            <a:ext cx="4857840" cy="547704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05" name="Rectangle 3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Image 7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2050920" y="1170000"/>
            <a:ext cx="5400720" cy="50673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Image 4" descr="C:\Users\auderi\AppData\Local\Temp\geogebra.png"/>
          <p:cNvPicPr/>
          <p:nvPr/>
        </p:nvPicPr>
        <p:blipFill>
          <a:blip r:embed="rId1"/>
          <a:stretch/>
        </p:blipFill>
        <p:spPr>
          <a:xfrm>
            <a:off x="2050920" y="1125360"/>
            <a:ext cx="5224680" cy="50403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Image 3" descr="C:\Documents and Settings\Propriétaire\Local Settings\Temp\geogebra.png"/>
          <p:cNvPicPr/>
          <p:nvPr/>
        </p:nvPicPr>
        <p:blipFill>
          <a:blip r:embed="rId1"/>
          <a:stretch/>
        </p:blipFill>
        <p:spPr>
          <a:xfrm>
            <a:off x="2052720" y="1077840"/>
            <a:ext cx="5038560" cy="49435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11" name="Rectangle 2"/>
          <p:cNvSpPr/>
          <p:nvPr/>
        </p:nvSpPr>
        <p:spPr>
          <a:xfrm>
            <a:off x="399960" y="90792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5T12:33:28Z</dcterms:created>
  <dc:creator>RIGAUX</dc:creator>
  <dc:description/>
  <dc:language>en-US</dc:language>
  <cp:lastModifiedBy>auderi</cp:lastModifiedBy>
  <dcterms:modified xsi:type="dcterms:W3CDTF">2016-07-02T13:53:41Z</dcterms:modified>
  <cp:revision>52</cp:revision>
  <dc:subject/>
  <dc:title>Calculer une distance</dc:title>
</cp:coreProperties>
</file>