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043-7D53-4BB3-A9C4-7D652629C9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AE3-DF7E-49AA-9DD3-0334CB88F1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308B-A340-4700-B446-C9A27A680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D65-A9E4-4D2F-B121-DF60EF63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F41-1FDD-4763-931D-72235EEA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422-5E68-43A1-80FB-34338607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57C-347E-4B56-9185-69BFA474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72-AAD8-439D-92BB-1CF9485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A8B-28E2-4F61-AC07-7DC21BA7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EB3-F9B0-4D1E-9812-1135A765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6C-D7FC-4762-963F-7773A95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00E-8D8B-4946-B811-2888C425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862-63F3-4FBB-B0A0-3EEF7FB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5A8-D619-47EA-80FB-20574EE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8DD-78B4-4A63-AD4B-BB39207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9D6-A510-40B6-9272-683C609A31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 solides et volume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0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7"/>
          <p:cNvSpPr/>
          <p:nvPr/>
        </p:nvSpPr>
        <p:spPr>
          <a:xfrm>
            <a:off x="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vé droit  ou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rallélépipède rectang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yrami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 10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014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Tétraèd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ensées 10"/>
          <p:cNvSpPr/>
          <p:nvPr/>
        </p:nvSpPr>
        <p:spPr>
          <a:xfrm>
            <a:off x="0" y="4005360"/>
            <a:ext cx="385128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vé dro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yramid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19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30  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    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ism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13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0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étraèdr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90 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(120 − 3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ensées 10"/>
          <p:cNvSpPr/>
          <p:nvPr/>
        </p:nvSpPr>
        <p:spPr>
          <a:xfrm>
            <a:off x="0" y="4653000"/>
            <a:ext cx="3635280" cy="1944720"/>
          </a:xfrm>
          <a:prstGeom prst="cloudCallout">
            <a:avLst>
              <a:gd name="adj1" fmla="val 77699"/>
              <a:gd name="adj2" fmla="val -3879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V(pavé) − V(JEHI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gaux</dc:creator>
  <dc:description/>
  <dc:language>en-US</dc:language>
  <cp:lastModifiedBy>auderi</cp:lastModifiedBy>
  <dcterms:modified xsi:type="dcterms:W3CDTF">2016-06-30T08:29:37Z</dcterms:modified>
  <cp:revision>107</cp:revision>
  <dc:subject/>
  <dc:title>Espace: solides et volumes</dc:title>
</cp:coreProperties>
</file>