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302-73CD-409B-AB93-25423A6D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8E2-D278-4C0F-A744-CC30002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8E8-7EF3-438C-87B2-8DD1B31C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52D-B96F-425B-AFB8-E643F7BD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6BD-3A99-466B-864D-C58632F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740-7553-4B76-87AC-160F188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594-CF88-48C2-A0E7-E6BECA76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33C-6C78-476D-9138-CE283AC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8B9-36C7-4959-9AE0-F575F01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F24-F30A-4C62-AECD-D9EC779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76C-B9D0-4880-9941-C39376D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FC0-E7AB-44D1-8B69-AD84C01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BC8A-E13A-4E22-B0D3-C61ECA0A6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34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0" y="1052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sitions relative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e droites et pla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5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7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761080" cy="3930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2"/>
          <p:cNvSpPr/>
          <p:nvPr/>
        </p:nvSpPr>
        <p:spPr>
          <a:xfrm>
            <a:off x="69480" y="5157720"/>
            <a:ext cx="90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coplanaires  dans (ABC) et sécant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Organigramme : Connecteur 9"/>
          <p:cNvGrpSpPr/>
          <p:nvPr/>
        </p:nvGrpSpPr>
        <p:grpSpPr>
          <a:xfrm>
            <a:off x="4780080" y="1474920"/>
            <a:ext cx="377640" cy="377640"/>
            <a:chOff x="4780080" y="1474920"/>
            <a:chExt cx="377640" cy="377640"/>
          </a:xfrm>
        </p:grpSpPr>
        <p:pic>
          <p:nvPicPr>
            <p:cNvPr id="72" name="Organigramme : Connecteur 9" descr=""/>
            <p:cNvPicPr/>
            <p:nvPr/>
          </p:nvPicPr>
          <p:blipFill>
            <a:blip r:embed="rId2"/>
            <a:stretch/>
          </p:blipFill>
          <p:spPr>
            <a:xfrm>
              <a:off x="4780080" y="147492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941720" y="1639800"/>
              <a:ext cx="52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-1620720" y="404640"/>
            <a:ext cx="12393360" cy="61200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4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cteur droit 8"/>
          <p:cNvSpPr/>
          <p:nvPr/>
        </p:nvSpPr>
        <p:spPr>
          <a:xfrm flipH="1" flipV="1">
            <a:off x="5796000" y="3573360"/>
            <a:ext cx="1440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cteur droit 11"/>
          <p:cNvSpPr/>
          <p:nvPr/>
        </p:nvSpPr>
        <p:spPr>
          <a:xfrm>
            <a:off x="5219640" y="3141720"/>
            <a:ext cx="792360" cy="574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9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cteur droit 6"/>
          <p:cNvSpPr/>
          <p:nvPr/>
        </p:nvSpPr>
        <p:spPr>
          <a:xfrm>
            <a:off x="2195640" y="2565360"/>
            <a:ext cx="4537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1210680" y="5589720"/>
            <a:ext cx="68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 donc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cteur droit 13"/>
          <p:cNvSpPr/>
          <p:nvPr/>
        </p:nvSpPr>
        <p:spPr>
          <a:xfrm>
            <a:off x="2771640" y="1844640"/>
            <a:ext cx="453708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cteur droit 14"/>
          <p:cNvSpPr/>
          <p:nvPr/>
        </p:nvSpPr>
        <p:spPr>
          <a:xfrm>
            <a:off x="2700360" y="4076640"/>
            <a:ext cx="453564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oneTexte 2"/>
          <p:cNvSpPr/>
          <p:nvPr/>
        </p:nvSpPr>
        <p:spPr>
          <a:xfrm>
            <a:off x="32760" y="189000"/>
            <a:ext cx="926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n considère le prisme droit ci-dessou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base est un hexagone réguli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terminer la position relativ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6" descr=""/>
          <p:cNvPicPr/>
          <p:nvPr/>
        </p:nvPicPr>
        <p:blipFill>
          <a:blip r:embed="rId1"/>
          <a:stretch/>
        </p:blipFill>
        <p:spPr>
          <a:xfrm>
            <a:off x="-612720" y="692280"/>
            <a:ext cx="10009080" cy="550224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5"/>
          <p:cNvSpPr/>
          <p:nvPr/>
        </p:nvSpPr>
        <p:spPr>
          <a:xfrm flipH="1">
            <a:off x="2842920" y="2060640"/>
            <a:ext cx="3600360" cy="223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504720" y="1163520"/>
            <a:ext cx="10153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1448280" y="5732640"/>
            <a:ext cx="557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1" descr=""/>
          <p:cNvPicPr/>
          <p:nvPr/>
        </p:nvPicPr>
        <p:blipFill>
          <a:blip r:embed="rId1"/>
          <a:stretch/>
        </p:blipFill>
        <p:spPr>
          <a:xfrm>
            <a:off x="-2773440" y="549360"/>
            <a:ext cx="13898520" cy="67914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arallélogramme 9"/>
          <p:cNvSpPr/>
          <p:nvPr/>
        </p:nvSpPr>
        <p:spPr>
          <a:xfrm rot="5400000">
            <a:off x="2447640" y="728280"/>
            <a:ext cx="3097080" cy="7056360"/>
          </a:xfrm>
          <a:prstGeom prst="parallelogram">
            <a:avLst>
              <a:gd name="adj" fmla="val 11736"/>
            </a:avLst>
          </a:prstGeom>
          <a:solidFill>
            <a:srgbClr val="7030a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10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2"/>
          <p:cNvSpPr/>
          <p:nvPr/>
        </p:nvSpPr>
        <p:spPr>
          <a:xfrm>
            <a:off x="0" y="33336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16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"/>
          <p:cNvPicPr/>
          <p:nvPr/>
        </p:nvPicPr>
        <p:blipFill>
          <a:blip r:embed="rId2"/>
          <a:stretch/>
        </p:blipFill>
        <p:spPr>
          <a:xfrm>
            <a:off x="1155600" y="1123920"/>
            <a:ext cx="6832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-29160" y="5589720"/>
            <a:ext cx="91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, (AF) contenue dans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379520" y="5732640"/>
            <a:ext cx="57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6"/>
          <p:cNvSpPr/>
          <p:nvPr/>
        </p:nvSpPr>
        <p:spPr>
          <a:xfrm>
            <a:off x="1665360" y="544500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(D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5076720" y="1557360"/>
            <a:ext cx="172728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7" descr=""/>
          <p:cNvPicPr/>
          <p:nvPr/>
        </p:nvPicPr>
        <p:blipFill>
          <a:blip r:embed="rId1"/>
          <a:stretch/>
        </p:blipFill>
        <p:spPr>
          <a:xfrm>
            <a:off x="-612720" y="0"/>
            <a:ext cx="11558520" cy="5759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necteur droit 14"/>
          <p:cNvSpPr/>
          <p:nvPr/>
        </p:nvSpPr>
        <p:spPr>
          <a:xfrm>
            <a:off x="4427640" y="2060640"/>
            <a:ext cx="0" cy="27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3"/>
          <a:stretch/>
        </p:blipFill>
        <p:spPr>
          <a:xfrm>
            <a:off x="0" y="4292640"/>
            <a:ext cx="3059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12:36:06Z</dcterms:created>
  <dc:creator>RIGAUX</dc:creator>
  <dc:description/>
  <dc:language>en-US</dc:language>
  <cp:lastModifiedBy>auderi</cp:lastModifiedBy>
  <dcterms:modified xsi:type="dcterms:W3CDTF">2016-07-01T13:33:15Z</dcterms:modified>
  <cp:revision>174</cp:revision>
  <dc:subject/>
  <dc:title>Diapositive 1</dc:title>
</cp:coreProperties>
</file>