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E79-DCD0-423B-B2A0-A192C4C2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D5A-3870-45E6-947C-AEDFD102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768-8AA6-445C-899B-61B277A3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76C-96C5-4CFB-A7CD-B897272E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A87-C0F5-4603-9066-3B87CEAA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CBC-0643-4661-9D67-1AA735A9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14F-0F53-44AD-B2A0-F28926F0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581-B870-4CDE-BC06-01FE675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E4A-AC2E-4F0C-AAB1-2C6E69A1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955-C5A5-4E32-B5BA-0BBB761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61E-BEA6-4742-93E6-A6E38A11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DFE-7BF3-4A0A-A9BB-6CE050CF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779-639B-467B-8B41-307727F77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Espace réservé du contenu 2" descr=""/>
          <p:cNvPicPr/>
          <p:nvPr/>
        </p:nvPicPr>
        <p:blipFill>
          <a:blip r:embed="rId1"/>
          <a:stretch/>
        </p:blipFill>
        <p:spPr>
          <a:xfrm>
            <a:off x="-30240" y="2176560"/>
            <a:ext cx="920448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-225360" y="2176560"/>
            <a:ext cx="93996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space réservé du contenu 2" descr=""/>
          <p:cNvPicPr/>
          <p:nvPr/>
        </p:nvPicPr>
        <p:blipFill>
          <a:blip r:embed="rId1"/>
          <a:stretch/>
        </p:blipFill>
        <p:spPr>
          <a:xfrm>
            <a:off x="-30240" y="2176560"/>
            <a:ext cx="920448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8720" y="2492280"/>
            <a:ext cx="91249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773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cer sur sa feuille un cercle trigonométrique puis répondre aux questions suivant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ce réservé du contenu 2" descr=""/>
          <p:cNvPicPr/>
          <p:nvPr/>
        </p:nvPicPr>
        <p:blipFill>
          <a:blip r:embed="rId1"/>
          <a:stretch/>
        </p:blipFill>
        <p:spPr>
          <a:xfrm>
            <a:off x="146160" y="1957320"/>
            <a:ext cx="9259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Espace réservé du contenu 2" descr=""/>
          <p:cNvPicPr/>
          <p:nvPr/>
        </p:nvPicPr>
        <p:blipFill>
          <a:blip r:embed="rId1"/>
          <a:stretch/>
        </p:blipFill>
        <p:spPr>
          <a:xfrm>
            <a:off x="146160" y="1957320"/>
            <a:ext cx="9070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Espace réservé du contenu 2" descr=""/>
          <p:cNvPicPr/>
          <p:nvPr/>
        </p:nvPicPr>
        <p:blipFill>
          <a:blip r:embed="rId1"/>
          <a:stretch/>
        </p:blipFill>
        <p:spPr>
          <a:xfrm>
            <a:off x="-92160" y="2176560"/>
            <a:ext cx="9345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ce réservé du contenu 2" descr=""/>
          <p:cNvPicPr/>
          <p:nvPr/>
        </p:nvPicPr>
        <p:blipFill>
          <a:blip r:embed="rId1"/>
          <a:stretch/>
        </p:blipFill>
        <p:spPr>
          <a:xfrm>
            <a:off x="-92160" y="2176560"/>
            <a:ext cx="93456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ce réservé du contenu 2" descr=""/>
          <p:cNvPicPr/>
          <p:nvPr/>
        </p:nvPicPr>
        <p:blipFill>
          <a:blip r:embed="rId1"/>
          <a:stretch/>
        </p:blipFill>
        <p:spPr>
          <a:xfrm>
            <a:off x="219240" y="1957320"/>
            <a:ext cx="8632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219240" y="1957320"/>
            <a:ext cx="8632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Espace réservé du contenu 2" descr=""/>
          <p:cNvPicPr/>
          <p:nvPr/>
        </p:nvPicPr>
        <p:blipFill>
          <a:blip r:embed="rId1"/>
          <a:stretch/>
        </p:blipFill>
        <p:spPr>
          <a:xfrm>
            <a:off x="219240" y="1957320"/>
            <a:ext cx="87595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8:43:32Z</dcterms:created>
  <dc:creator>auderi</dc:creator>
  <dc:description/>
  <dc:language>en-US</dc:language>
  <cp:lastModifiedBy>auderi</cp:lastModifiedBy>
  <dcterms:modified xsi:type="dcterms:W3CDTF">2016-04-13T15:05:26Z</dcterms:modified>
  <cp:revision>57</cp:revision>
  <dc:subject/>
  <dc:title>Trigonométrie Série n°1</dc:title>
</cp:coreProperties>
</file>